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A6E1-099E-48FA-9C37-F7E05A43A9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4B48-E3F8-4191-805C-2743CED0C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9302D-7C33-43AF-A52F-8397D9263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ACD0-DE6F-4632-9C00-E1A06763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7D85-26A5-4C1F-BF2F-131E0B4C9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3786-275D-4654-929E-6E44D5964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DE1C-CC26-4A47-A155-246DFABC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6C2DD-537A-424B-8E8A-03AD5957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2E84-3D23-46C6-8974-DA993660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2846-5FB1-410C-A341-63706A05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A4A40-37E1-4B0A-8ECD-BA333B94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67EC-3A2D-442A-A7C9-6654ABCF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90AD6-500E-45CC-A9F7-C448F2D9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282F-248A-4CED-8B2E-96553D97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A804-F202-4726-9A52-C0F9CAC1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CFDD-D251-4E54-A735-74374803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B720-6EBD-488E-8D5C-B0E9A0B68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877F-3500-49B2-A833-B484CDA9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EF23-C52E-43EB-A251-33410D992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A214B-9E69-4650-AFB3-4462AE8E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D2F0C-8A2A-49B8-B6A4-736AC3A0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432BD-1D76-4500-8F25-CEEDE06F6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C44B8-4977-4084-BD8D-D6AB413C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E5217-79E9-4ED4-AC72-13B160477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B07F2-437A-44B4-8687-CB3EEFA2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557DA-6AA3-4FF8-89F4-C4CC1E70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23844-5477-4745-A3BA-91A9EF97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00038-5BEB-4A70-AA6D-32E40AE9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40749-A601-487D-B538-BEAB9FA2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84597-8F59-4620-831C-1ED56A05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FD9FF-2899-446E-A3F5-A7633723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EA710-9821-4223-B618-759379F9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A7152-00FF-48EE-BFD7-2E507FC6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44F0-7C18-4AAD-A4E3-76E9C16B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BB8F7-6D8D-444C-90EF-7DB7EA78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A039-C810-4C80-B24C-793B508B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94245-50D5-4E2A-B428-8D67B621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B4F7-72FA-4C74-959D-4DC82136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256D-BC1A-4909-A073-A5CB3CBB6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07D7-FE7E-4D16-9CBA-AF9668F0A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4BAD-7A11-4367-B882-8A20D5BF4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02BD-850A-4749-95E9-956A9BEC4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5A58-D435-4001-87A3-04AB3663A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March 8,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am Pak (Oncor) –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0BF5-4C54-407B-A72A-B6EEC75DD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363600" y="1173240"/>
            <a:ext cx="8001000" cy="59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561"/>
              </a:spcBef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PWG reviewed and endorsed the </a:t>
            </a:r>
            <a:r>
              <a:rPr b="0" i="1" lang="en-US" sz="2000" spc="-1" strike="noStrike">
                <a:solidFill>
                  <a:srgbClr val="3c8c93"/>
                </a:solidFill>
                <a:latin typeface="Arial"/>
              </a:rPr>
              <a:t>Impact Analysis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for two LPGR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spcBef>
                <a:spcPts val="1250"/>
              </a:spcBef>
              <a:buClr>
                <a:srgbClr val="3c8c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LPGRR060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Load Profiling Clean Up Related to LPGRR057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(overhaul of the Load Profiling Guide)  to remove orphaned language (Section 12 &amp; 13) that was not captured in the changes from LPGRR0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 algn="ctr"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spcBef>
                <a:spcPts val="751"/>
              </a:spcBef>
              <a:buClr>
                <a:srgbClr val="3c8c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spcBef>
                <a:spcPts val="1250"/>
              </a:spcBef>
              <a:buClr>
                <a:srgbClr val="3c8c9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LPGRR061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 - </a:t>
            </a: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Modifications to Annual Validation (AV) Timelines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revising the start date for </a:t>
            </a:r>
            <a:r>
              <a:rPr b="0" i="1" lang="en-US" sz="2000" spc="-1" strike="noStrike" u="sng">
                <a:solidFill>
                  <a:srgbClr val="3c8c93"/>
                </a:solidFill>
                <a:uFillTx/>
                <a:latin typeface="Arial"/>
              </a:rPr>
              <a:t>both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 Residential and Business ESI IDs AV to March 30</a:t>
            </a:r>
            <a:r>
              <a:rPr b="0" lang="en-US" sz="2000" spc="-1" strike="noStrike" baseline="30000">
                <a:solidFill>
                  <a:srgbClr val="3c8c93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 and concluding on September 30</a:t>
            </a:r>
            <a:r>
              <a:rPr b="0" lang="en-US" sz="2000" spc="-1" strike="noStrike" baseline="30000">
                <a:solidFill>
                  <a:srgbClr val="3c8c93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 each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 algn="ctr"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VO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 algn="ctr"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52280" y="2253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February 15</a:t>
            </a:r>
            <a:r>
              <a:rPr b="1" lang="en-US" sz="2800" spc="-1" strike="noStrike" baseline="30000">
                <a:solidFill>
                  <a:srgbClr val="3c8c93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 Meeting 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69720" y="297000"/>
            <a:ext cx="70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Annual Validation Propose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9476-0C89-4591-9A1F-FB81123C8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72028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011C-2A25-42D4-904A-88B302739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80880" y="1349280"/>
            <a:ext cx="8001000" cy="67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00240" indent="-45720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Anticipated approval timel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spcBef>
                <a:spcPts val="1250"/>
              </a:spcBef>
              <a:buClr>
                <a:srgbClr val="3c8c9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March C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spcBef>
                <a:spcPts val="1250"/>
              </a:spcBef>
              <a:buClr>
                <a:srgbClr val="3c8c9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March T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spcBef>
                <a:spcPts val="1250"/>
              </a:spcBef>
              <a:buClr>
                <a:srgbClr val="3c8c9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4/1 Implement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457200">
              <a:spcBef>
                <a:spcPts val="1250"/>
              </a:spcBef>
              <a:buClr>
                <a:srgbClr val="3c8c9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Reviewed the language for </a:t>
            </a: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LPGRR062 – Load Profiling Guide Revision Request Process</a:t>
            </a:r>
            <a:r>
              <a:rPr b="1" i="1" lang="en-US" sz="2000" spc="-1" strike="noStrike">
                <a:solidFill>
                  <a:srgbClr val="3c8c93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and tabled for further discussion at the next PWG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Reviewed the </a:t>
            </a: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DRAFT LPGRR – Modifications of Oil &amp; Gas Profile Requests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to state only the current REP of Record may request an Oil &amp; Gas Load Profile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c8c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152280" y="2253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February 15</a:t>
            </a:r>
            <a:r>
              <a:rPr b="1" lang="en-US" sz="2800" spc="-1" strike="noStrike" baseline="30000">
                <a:solidFill>
                  <a:srgbClr val="3c8c93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 Meeting Summary –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5540-2D35-472E-9F2D-8A30AD585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80880" y="1349280"/>
            <a:ext cx="8001000" cy="271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Reviewed the </a:t>
            </a:r>
            <a:r>
              <a:rPr b="1" i="1" lang="en-US" sz="2000" spc="-1" strike="noStrike">
                <a:solidFill>
                  <a:srgbClr val="3c8c93"/>
                </a:solidFill>
                <a:latin typeface="Arial"/>
              </a:rPr>
              <a:t>Weather Sensitivity Change Report 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upd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c8c9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3c8c9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152280" y="2253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February 15</a:t>
            </a:r>
            <a:r>
              <a:rPr b="1" lang="en-US" sz="2800" spc="-1" strike="noStrike" baseline="30000">
                <a:solidFill>
                  <a:srgbClr val="3c8c93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 Meeting Summary – 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52560" y="2133720"/>
          <a:ext cx="7238880" cy="2816280"/>
        </p:xfrm>
        <a:graphic>
          <a:graphicData uri="http://schemas.openxmlformats.org/drawingml/2006/table">
            <a:tbl>
              <a:tblPr/>
              <a:tblGrid>
                <a:gridCol w="3924360"/>
                <a:gridCol w="1054080"/>
                <a:gridCol w="444240"/>
                <a:gridCol w="749520"/>
                <a:gridCol w="1066680"/>
              </a:tblGrid>
              <a:tr h="263520">
                <a:tc gridSpan="4"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ATHER SENSITIVITY CHANGES REQUIRED FOR SUMMER YEAR 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60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DSP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_COU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STA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18252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P TEXAS CENTRAL COMPANY (TDS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EP TEXAS NORTH COMPANY (TDS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ERPOINT ENERGY HOUSTON ELECTRIC LLC (TDS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CES ELECTRIC COOP INC (TDS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COR ELECTRIC DELIVERY COMPANY LLC (TDS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252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RYLAND UTILITIES LP (TDS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AS-NEW MEXICO POWER CO (TDS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47560"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: The 2 "OUTSTANDING" ESI IDs were on "HOLD" and did not get evaluated until 3/1/2017 and therefore will not become "OVERDUE" until 5/1/20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2520">
                <a:tc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 gridSpan="4">
                  <a:txBody>
                    <a:bodyPr lIns="3960" rIns="3960" tIns="3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rst ERCOT report date was 11/2/2016 so if not complete by 1/1/2017, these will be overdu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3E43-994D-425D-AE61-4B7A3AD1B9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13000" y="1657440"/>
          <a:ext cx="6114960" cy="3828960"/>
        </p:xfrm>
        <a:graphic>
          <a:graphicData uri="http://schemas.openxmlformats.org/drawingml/2006/table">
            <a:tbl>
              <a:tblPr/>
              <a:tblGrid>
                <a:gridCol w="390240"/>
                <a:gridCol w="4776840"/>
                <a:gridCol w="947880"/>
              </a:tblGrid>
              <a:tr h="5191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Go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Target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90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ress issues and facilitate improvements to market rules pertaining to load profil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91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  <a:ea typeface="Calibri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 Profile ID Annual Validation Residential &amp; Busin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91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ew UFE report for 2016 (Protocol Requiremen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 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91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7 Weather Sensitivity Change Re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42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91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7"/>
          <p:cNvSpPr/>
          <p:nvPr/>
        </p:nvSpPr>
        <p:spPr>
          <a:xfrm>
            <a:off x="152280" y="22536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2017 PWG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F3F4-597F-4486-8CF0-3C80696AF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557280" y="1219320"/>
            <a:ext cx="8001000" cy="5323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PWG meeting da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29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2017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:30am ERCOT MET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Review Draft LPGRR Modification of Oil &amp; Gas Profile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Review language for LPGRR062 – LPGRR Process Rev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Weather Sensitivity Change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Annual Validation 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1"/>
          <p:cNvSpPr/>
          <p:nvPr/>
        </p:nvSpPr>
        <p:spPr>
          <a:xfrm>
            <a:off x="519120" y="18288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4C02-B6CC-4B5B-8B19-34AFFA4CB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Wiegand, Sheri</cp:lastModifiedBy>
  <dcterms:modified xsi:type="dcterms:W3CDTF">2017-03-02T22:19:54Z</dcterms:modified>
  <cp:revision>1196</cp:revision>
  <dc:subject/>
  <dc:title>Instructions</dc:title>
</cp:coreProperties>
</file>