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7315200"/>
  <p:notesSz cx="695166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0" y="0"/>
            <a:ext cx="69516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dt" idx="14"/>
          </p:nvPr>
        </p:nvSpPr>
        <p:spPr>
          <a:xfrm>
            <a:off x="3936600" y="-36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sldImg"/>
          </p:nvPr>
        </p:nvSpPr>
        <p:spPr>
          <a:xfrm>
            <a:off x="1310760" y="692280"/>
            <a:ext cx="432756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body"/>
          </p:nvPr>
        </p:nvSpPr>
        <p:spPr>
          <a:xfrm>
            <a:off x="694800" y="4385880"/>
            <a:ext cx="5559480" cy="4157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ftr" idx="15"/>
          </p:nvPr>
        </p:nvSpPr>
        <p:spPr>
          <a:xfrm>
            <a:off x="-360" y="877212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 type="sldNum" idx="16"/>
          </p:nvPr>
        </p:nvSpPr>
        <p:spPr>
          <a:xfrm>
            <a:off x="3936600" y="8772120"/>
            <a:ext cx="301140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BC32B-00FC-4F5D-B212-C07FE732A4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311120" y="692280"/>
            <a:ext cx="4327560" cy="346392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94800" y="4385880"/>
            <a:ext cx="555948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8A4B1-7083-4B1E-9BFC-C5AE2B1C8F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311120" y="692280"/>
            <a:ext cx="4327560" cy="346392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94800" y="4385880"/>
            <a:ext cx="555948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F3760-4AEB-4577-8B05-F40160723E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311120" y="692280"/>
            <a:ext cx="4327560" cy="346392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94800" y="4385880"/>
            <a:ext cx="5559480" cy="41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936960" y="8772480"/>
            <a:ext cx="3011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E6DC5-7C34-47BD-8FAC-4B6A178E57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60BA1-EDCF-4321-8804-082C4B8BC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DE4DC-FD0E-43EB-AB4A-050D16B51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04803-198F-4C2D-93F6-A5D6E3315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075E5-6001-464F-9358-9F8E9D804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35364-9C5E-45E4-B7A5-3274F373E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7AE8FB-FCD8-4C73-AAF3-8BB5AD3EF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110053-9001-431A-83C8-03592C443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38ABAE-7D86-49F6-938E-E92A8BE7D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C40855-C8CE-4B59-B921-0FDAD33C4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615B6F-E2E8-409E-8E78-8ED984092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A5965-3C9D-4F9D-9104-C22969E83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5CBFB3-A6C4-4AB1-9630-519C09887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7251FE-B44F-426C-A70E-29BE2730B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4AA858-FE5B-49A6-802B-F017BB540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36865D-267C-4B65-9D31-897EFA851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2591D4-56E8-4BF4-8A5A-DD9270A1D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7B7489-D79A-428C-9157-ED7A41014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84A58A-36D4-4811-B958-86B5A9DD6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BA556A-AEF3-4777-A3F8-00993BF06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2385A1-6B71-4FF5-81F9-A56CBB93E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F4CA2A-4A52-4956-8706-DC210F9BC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C5E73-BB04-439B-A783-64232BDD4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2D9887-899E-45F8-9B14-AE722FA61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3BA118-F678-4F4B-9C2C-AED27B606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7FEDFD-B9EC-4CB2-B1C2-555BDEBE5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909585-8789-4F5E-8E26-92A680304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FFA436-5AA2-46DC-8D29-FA880E53D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2E3ADD-80EC-4B4C-A842-364320D54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3D6005-46C7-4E81-AF1C-9577A69F6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EBE258-5E54-4F36-A729-C4755059B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DC205F-8A82-4E23-8EC8-A6F5E8B7A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9026D-B8B6-4797-BC77-D8E5753BF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163F0-CF8B-499B-9410-926DC2ED4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F33CB-040F-4CB6-AD55-808B45F2E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5323A-0395-4CDD-9FF1-E78C1E50A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36726-9359-44D6-9A15-C98B09BED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1383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6607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AB484-6C8A-4009-99D3-332C881D43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651720"/>
            <a:ext cx="9144000" cy="66348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248160" y="6888240"/>
            <a:ext cx="2514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1"/>
          <p:cNvSpPr/>
          <p:nvPr/>
        </p:nvSpPr>
        <p:spPr>
          <a:xfrm>
            <a:off x="1069920" y="6888240"/>
            <a:ext cx="0" cy="23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142640" y="688788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71748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429000" y="6908760"/>
            <a:ext cx="2514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C57D0-2A7E-4D35-8EBA-92C767836A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14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57200" y="11383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2333520" y="5832000"/>
            <a:ext cx="627696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2333520" y="5405040"/>
            <a:ext cx="627696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6"/>
          </p:nvPr>
        </p:nvSpPr>
        <p:spPr>
          <a:xfrm>
            <a:off x="456840" y="6780240"/>
            <a:ext cx="213372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7"/>
          </p:nvPr>
        </p:nvSpPr>
        <p:spPr>
          <a:xfrm>
            <a:off x="3124080" y="6780240"/>
            <a:ext cx="289584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eeting Title (option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8"/>
          </p:nvPr>
        </p:nvSpPr>
        <p:spPr>
          <a:xfrm>
            <a:off x="6552720" y="6780240"/>
            <a:ext cx="213372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554A4-2405-4BA1-9349-B6DD6FEE7E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4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9"/>
          </p:nvPr>
        </p:nvSpPr>
        <p:spPr>
          <a:xfrm>
            <a:off x="456840" y="6780240"/>
            <a:ext cx="213372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0"/>
          </p:nvPr>
        </p:nvSpPr>
        <p:spPr>
          <a:xfrm>
            <a:off x="3124080" y="6780240"/>
            <a:ext cx="289584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1"/>
          </p:nvPr>
        </p:nvSpPr>
        <p:spPr>
          <a:xfrm>
            <a:off x="6552720" y="6780240"/>
            <a:ext cx="213372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8A46D-93B6-43BD-AB0C-7EFCC07855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Line 14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1383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2"/>
          </p:nvPr>
        </p:nvSpPr>
        <p:spPr>
          <a:xfrm>
            <a:off x="2333520" y="5832000"/>
            <a:ext cx="627696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3"/>
          </p:nvPr>
        </p:nvSpPr>
        <p:spPr>
          <a:xfrm>
            <a:off x="2333520" y="5405040"/>
            <a:ext cx="627696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eting Title (opt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0" y="6651720"/>
            <a:ext cx="9144000" cy="66348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1"/>
          <p:cNvSpPr/>
          <p:nvPr/>
        </p:nvSpPr>
        <p:spPr>
          <a:xfrm>
            <a:off x="1069920" y="6888240"/>
            <a:ext cx="0" cy="23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2"/>
          <p:cNvSpPr/>
          <p:nvPr/>
        </p:nvSpPr>
        <p:spPr>
          <a:xfrm>
            <a:off x="0" y="71748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3"/>
          <p:cNvSpPr/>
          <p:nvPr/>
        </p:nvSpPr>
        <p:spPr>
          <a:xfrm>
            <a:off x="3429000" y="6908760"/>
            <a:ext cx="2514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85ABE-C6F7-4388-88D5-0B431EF270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body"/>
          </p:nvPr>
        </p:nvSpPr>
        <p:spPr>
          <a:xfrm>
            <a:off x="457200" y="11383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80520" y="1447920"/>
            <a:ext cx="84582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3200" spc="-1" strike="noStrike">
                <a:solidFill>
                  <a:srgbClr val="1e4649"/>
                </a:solidFill>
                <a:latin typeface="Arial Black"/>
              </a:rPr>
              <a:t>January 26, 2017</a:t>
            </a:r>
            <a:br>
              <a:rPr sz="3200"/>
            </a:br>
            <a:r>
              <a:rPr b="0" lang="en-US" sz="4400" spc="-1" strike="noStrike">
                <a:solidFill>
                  <a:srgbClr val="1e4649"/>
                </a:solidFill>
                <a:latin typeface="Arial Black"/>
              </a:rPr>
              <a:t>TAC</a:t>
            </a:r>
            <a:br>
              <a:rPr sz="3200"/>
            </a:br>
            <a:r>
              <a:rPr b="0" lang="en-US" sz="3200" spc="-1" strike="noStrike">
                <a:solidFill>
                  <a:srgbClr val="1e4649"/>
                </a:solidFill>
                <a:latin typeface="Arial Black"/>
              </a:rPr>
              <a:t>Update to COPS</a:t>
            </a:r>
            <a:br>
              <a:rPr sz="32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304560" y="4648320"/>
            <a:ext cx="8458200" cy="92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Michelle Trena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March 8, 201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9340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4400" spc="-1" strike="noStrike">
                <a:solidFill>
                  <a:srgbClr val="376092"/>
                </a:solidFill>
                <a:latin typeface="Calibri"/>
              </a:rPr>
              <a:t>TAC and Subcommittee Leadership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Footer Placeholder 3"/>
          <p:cNvSpPr/>
          <p:nvPr/>
        </p:nvSpPr>
        <p:spPr>
          <a:xfrm>
            <a:off x="3124080" y="6780240"/>
            <a:ext cx="28958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064D4-B249-48E8-AD85-A86EA0C3304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04920" y="1295280"/>
            <a:ext cx="853416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echnical Advisory Committee (TA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air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rianne Brandt, CPS Ener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ice Chair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ob Helton, Dynegy, In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tocol Revision Subcommittee (PR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air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rtha Henson, Oncor Electric Delive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ice Chair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ana Coleman, OPU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liability and Operations Subcommittee (RO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air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an Bern, Oncor Electric Delive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ice Chair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oone Staples, Tenaska Power Servi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tail Market Subcommittee (RM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air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athy Scott, CenterPoint Ener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ice Chair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becca Reed Zerwas, Reliant Energy Retail Servi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holesale Market Subcommittee (WM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air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Jeremy Carpenter, Tenaska Power Servi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ice Chair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vid Kee, CPS Energy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9340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4400" spc="-1" strike="noStrike">
                <a:solidFill>
                  <a:srgbClr val="376092"/>
                </a:solidFill>
                <a:latin typeface="Calibri"/>
              </a:rPr>
              <a:t>PRS Updat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ooter Placeholder 3"/>
          <p:cNvSpPr/>
          <p:nvPr/>
        </p:nvSpPr>
        <p:spPr>
          <a:xfrm>
            <a:off x="3124080" y="6780240"/>
            <a:ext cx="28958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C8AB6-7206-43AE-A51F-1B9638E7C40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04920" y="1217520"/>
            <a:ext cx="8534160" cy="56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NPRR794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Relocation of Unregistered Distributed Generation (DG) Reporting Requirements, Effective Date: March 1, 2017 </a:t>
            </a:r>
            <a:r>
              <a:rPr b="0" lang="en-US" sz="2700" spc="-1" strike="noStrike">
                <a:solidFill>
                  <a:srgbClr val="ff0000"/>
                </a:solidFill>
                <a:latin typeface="Calibri"/>
              </a:rPr>
              <a:t>Approve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NPRR800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Revisions to Credit Exposure Calculations to Use Electricity Futures Market Prices, URGENT, Effective Date: Upon system implementation, Priority 2017, Rank 1561 </a:t>
            </a:r>
            <a:r>
              <a:rPr b="0" lang="en-US" sz="2700" spc="-1" strike="noStrike">
                <a:solidFill>
                  <a:srgbClr val="ff0000"/>
                </a:solidFill>
                <a:latin typeface="Calibri"/>
              </a:rPr>
              <a:t>Approve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NPRR805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Clarification for Multi-Month Congestion Revenue Right (CRR) Auction Offers, Effective Date: March 1, 2017 </a:t>
            </a:r>
            <a:r>
              <a:rPr b="0" lang="en-US" sz="2700" spc="-1" strike="noStrike">
                <a:solidFill>
                  <a:srgbClr val="ff0000"/>
                </a:solidFill>
                <a:latin typeface="Calibri"/>
              </a:rPr>
              <a:t>Approve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NPRR806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Clarification for Designation of Capacity of Refund Pre-Assigned Congestion Revenue Rights (PCRRs), Effective Date: January 1, 2017 </a:t>
            </a:r>
            <a:r>
              <a:rPr b="0" lang="en-US" sz="2700" spc="-1" strike="noStrike">
                <a:solidFill>
                  <a:srgbClr val="ff0000"/>
                </a:solidFill>
                <a:latin typeface="Calibri"/>
              </a:rPr>
              <a:t>Approve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9340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4400" spc="-1" strike="noStrike">
                <a:solidFill>
                  <a:srgbClr val="376092"/>
                </a:solidFill>
                <a:latin typeface="Calibri"/>
              </a:rPr>
              <a:t>Revision Requests Previously Tabled by TAC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Footer Placeholder 3"/>
          <p:cNvSpPr/>
          <p:nvPr/>
        </p:nvSpPr>
        <p:spPr>
          <a:xfrm>
            <a:off x="3124080" y="6780240"/>
            <a:ext cx="28958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52E91-EC4D-4E11-9004-BFEF88F823D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04920" y="1295280"/>
            <a:ext cx="853416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PMGRR04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Alignment with NPRR794, Relocation of Unregistered Distributed Generation (DG) Reporting Requirements, Effective Date: March 1, 2017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Approved via email vote 2/23/201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ppeal of NOGRR149, Revision of Definition of Transmission Operato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Tabled until the August TAC meeting; With monthly written updates and an in-person update in M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76092"/>
                </a:solidFill>
                <a:latin typeface="Calibri"/>
              </a:rPr>
              <a:t>ROS Updat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Footer Placeholder 3"/>
          <p:cNvSpPr/>
          <p:nvPr/>
        </p:nvSpPr>
        <p:spPr>
          <a:xfrm>
            <a:off x="3124080" y="6780240"/>
            <a:ext cx="28958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8BEB9-CBE3-4F6C-AD93-5F07B9BDA93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80880" y="1219320"/>
            <a:ext cx="838224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OGRR165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Emergency Operations Plans as Required by NERC Reliability Standards, Effective Date: February 1, 2017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Approv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GRR05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Stability Assessment for Interconnecting Generation, Effective Date: Upon system implementation, but no earlier than August 1, 2017, Priority 2017, Rank 2000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Tabled pending consideration of NPRR8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GRR05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Addition of Proposed Generation Resources to the Planning Models, Effective Date: March 1, 2017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Approve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61800" y="7776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4900" spc="-1" strike="noStrike">
                <a:solidFill>
                  <a:srgbClr val="376092"/>
                </a:solidFill>
                <a:latin typeface="Calibri"/>
              </a:rPr>
              <a:t>ERCOT Update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Footer Placeholder 3"/>
          <p:cNvSpPr/>
          <p:nvPr/>
        </p:nvSpPr>
        <p:spPr>
          <a:xfrm>
            <a:off x="3124080" y="6780240"/>
            <a:ext cx="28958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2F8D5-0241-4025-88AA-3A9FBA66966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80880" y="1258560"/>
            <a:ext cx="83822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RCOT Revisions to “Setting the Shadow Price Caps and Power Balance Penalties in Security Constrained Economic Dispatch” Other Binding Document (OBD)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Approv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orecast Adequacy of the Budgeted System Administration F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ERCOT System Administration Fee is forecast to be adequate for 2016-201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Under-Frequency Load Shedding (UFLS) Survey Worksho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ld 2/20/2917 to look at ways to better handle Load Resources in the surve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61800" y="7776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4900" spc="-1" strike="noStrike">
                <a:solidFill>
                  <a:srgbClr val="376092"/>
                </a:solidFill>
                <a:latin typeface="Calibri"/>
              </a:rPr>
              <a:t>ERCOT Update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Footer Placeholder 3"/>
          <p:cNvSpPr/>
          <p:nvPr/>
        </p:nvSpPr>
        <p:spPr>
          <a:xfrm>
            <a:off x="3124080" y="6780240"/>
            <a:ext cx="28958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A6BEF-B610-4F9D-BB70-A52992017D4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33160" y="1301760"/>
            <a:ext cx="83818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nnual Reliability Unit Commitment (RUC) Reporting Requir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9" name="Picture 1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6629400" cy="42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61800" y="7776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4900" spc="-1" strike="noStrike">
                <a:solidFill>
                  <a:srgbClr val="376092"/>
                </a:solidFill>
                <a:latin typeface="Calibri"/>
              </a:rPr>
              <a:t>ERCOT Update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Footer Placeholder 3"/>
          <p:cNvSpPr/>
          <p:nvPr/>
        </p:nvSpPr>
        <p:spPr>
          <a:xfrm>
            <a:off x="3124080" y="6780240"/>
            <a:ext cx="28958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087A4-27D3-423E-9B88-5EE1068458D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2160" y="1301760"/>
            <a:ext cx="8381880" cy="547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016 RUC Statist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f the 1,514 instructed RUC resource-hours in 2016, 1,481 (97.8%) were for congestion and 33 (2.2%) were for capac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re were no resource-hours of commitment for ancillary service shortages, voltage/reactive support, system inertia or for anticipation of extreme cold weather/startup failur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78 resource-hours were successfully bought back through use of the ONOPTOUT Resource status op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70.1 resource-hours were dispatched above the Resource’s Low Dispatchable Limit (LDL) when the Resource was not opted-ou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consistencies between settlement treatment and the triggering of the Real-Time Reliability Deployment Price Adder (RTRDPA) were again observed; This will be resolved with the implementation of NPRR744, RUC Trigger for the Reliability Deployment Price Adder and Alignment with RUC Settlement, later in 2017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7% of the instructed RUC resource-hours were settled as ONRUC, but the Resource did not telemeter ONRU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.3% of the instructed RUC resource-hours were settled as ONOPTOUT, but the Resource telemetered ONRU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 total RUC make-whole amount was $1.2 million and these payments were fully covered by capacity-short charges for all months in 2015 and 201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9340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76092"/>
                </a:solidFill>
                <a:latin typeface="Calibri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Footer Placeholder 3"/>
          <p:cNvSpPr/>
          <p:nvPr/>
        </p:nvSpPr>
        <p:spPr>
          <a:xfrm>
            <a:off x="3124080" y="6780240"/>
            <a:ext cx="289584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4"/>
          <p:cNvSpPr/>
          <p:nvPr/>
        </p:nvSpPr>
        <p:spPr>
          <a:xfrm>
            <a:off x="6553080" y="6780240"/>
            <a:ext cx="213372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3" descr="C:\Users\iv3i\AppData\Local\Microsoft\Windows\Temporary Internet Files\Content.IE5\AAWN31BQ\question-mark[1].png"/>
          <p:cNvPicPr/>
          <p:nvPr/>
        </p:nvPicPr>
        <p:blipFill>
          <a:blip r:embed="rId1"/>
          <a:stretch/>
        </p:blipFill>
        <p:spPr>
          <a:xfrm>
            <a:off x="1828800" y="1987560"/>
            <a:ext cx="5486400" cy="42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>BIG MAMA</dc:creator>
  <dc:description/>
  <dc:language>en-US</dc:language>
  <cp:lastModifiedBy>Trenary, Michelle</cp:lastModifiedBy>
  <cp:lastPrinted>2016-08-08T13:52:23Z</cp:lastPrinted>
  <dcterms:modified xsi:type="dcterms:W3CDTF">2017-03-06T20:25:47Z</dcterms:modified>
  <cp:revision>1155</cp:revision>
  <dc:subject/>
  <dc:title>Instructions</dc:title>
</cp:coreProperties>
</file>