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663B-0A41-414D-9EBA-E6D38A8D5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D3D44-F6C9-4F57-9953-AB600FC90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3C60-A1AE-48E5-85C6-ED1A767EF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34DE-C262-4629-9C84-3F1E88306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4BC8-94CA-4EE3-8EB7-8CAEF96B0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4470-4EF2-49B1-A3AB-484537FDE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036A-1B40-4B36-B89E-542564487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BA5A-7CE9-45D2-8087-AD2C4D4D6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B292-0471-4D9D-813D-118FFEB28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EB3-C2EA-437A-B27A-87EE8D8F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D17-2780-4547-87DB-8F49B575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7276-73D0-4817-BB8C-2D258C66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D291-AA8D-4BFE-8871-237F9F1B6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B17E-613F-406A-B0E8-126FD1A0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4562-F44D-4F34-AA5D-9F6DCAC5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8AD03-1F6D-417B-B7FF-8B2FC7E8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C3F7-2BDD-4353-A780-518AF9CF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9F019-AA43-45D5-91BA-C5F5A9D7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0025-91D7-4037-8B57-0C641E60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091D-44F1-4E0D-B4B7-CA8DB2C9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2880-8ADB-4FD2-9133-DE394879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8AB8-DDB9-4920-BBC6-9D16929F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4AD8-0467-4C32-9B47-1C55BC0F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86D9-AD2E-4C2B-9953-8F0A73D5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B8F0-4F83-4B7A-AE65-BB3429A6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2515-11EF-44BB-BFC4-88E38178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9F1BC-613F-4EA5-9FC6-DAA06731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90FF8-9BA1-46DA-A15B-3E959EA0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2511C-0AC5-4DB7-A696-1055E44D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FBCAB-0AF8-43DC-A4A0-209A5048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395B9-B71D-4D0B-A4D0-CAB26F2E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6EFC-C4E1-428F-8E22-15A75738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A56EE-A106-4DE7-8121-6DF705E6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52A46-FDBC-41ED-836B-DB793E47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94D4E-39F0-4488-A168-37741DCF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EED5A-F1F0-42D1-A05B-349BB609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F0E20-76E9-4655-8C01-779BBF9A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E6028-A004-43F4-9096-FFF13F88F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257F2-01EE-444F-8E2C-1BE5EAA3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FF04D-3EAD-4865-9103-493021D0E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8DCCC-50EA-4E4A-8CBC-35CE0106A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670CA-1811-4B6C-9F6E-EB198CC3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4AB3-6138-4BB4-8499-1A204EAEC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45E3-2AE3-4D3B-B69B-789D0EE67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D6D79-A190-4AEE-A20C-A438EC14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4BA71-8227-44F3-A3EC-3693405F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A3E70-83E4-41DA-A788-9104C797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B50F5-E743-444E-86AD-7C60B985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F801D-9F08-4DC1-B61B-875D7D34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57025-9E81-4175-AD44-33396785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1AB59-515E-43FB-80F5-A0E716326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EE3DD-DC1A-42C3-A3E5-C167E857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1C513-8284-4470-81FC-7F75F5F9E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BE2-1C67-4615-96B4-B2298D519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BF264-9F91-4413-BCE1-33A7718E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2E5BC-A788-4D68-96F6-BDCB9458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CD3C0-502B-41CF-A32A-B4D2BB793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BD167-D322-4979-9FEB-0D37B985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2B663-2E4D-4F17-A1E0-B6FC1BB4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D52E9-5084-40CB-83AA-93A01004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EF316-2941-442C-92E5-E9BFCC5A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42FD9-F37E-4DE9-963E-6D736967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C0522-C0D2-4EF5-B209-985F28A4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D7679-525B-4ADC-BEA9-FE57E4E9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9FE-EAAB-4CB3-AE8B-E7A275F2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95442-20CA-47B0-8396-492EFFCA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BA915-E34B-4089-A41D-1AE87FC6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D6ADA-C738-49D5-89B6-516C08FF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7E188-9BC7-4E88-96C6-4DEE88FA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FD6A1-8CAA-4FC6-A38B-4521CD36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9304E-C9C4-4BB6-93B6-AE19B2AF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36A35-4FCB-4D64-91C4-107E3141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22977-3B0F-4A91-8D74-A6F646BF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221993-1A57-4C58-9B13-AA122569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1992D-0CDE-4008-A9FE-78F13255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7FE-862E-40B7-B11B-830F66AB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5E9D4-5698-450B-9F33-B9E03DE7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6F267-39CF-4636-8E70-A161344C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D57BD-008C-4DF6-9AFD-C5E1C574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0921C-36EE-40ED-85E8-12728603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280F5-44C2-4D10-9A74-488F4B0C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96B71-2D26-4624-BA0B-E282CDCB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65960-7E4F-4593-9CBC-E9A6FE27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A1257-276C-4828-BFCE-C105FA45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7CC11-2690-4871-8E87-45966631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47058-FA5A-48D8-BE89-2C2B3EC4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8702-996F-448E-B13D-D98B777D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5F7832-0CBB-4D28-B2C4-CF50783B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67C5F-3001-498C-81EE-9F133BC8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42525-E191-466D-A15D-F1FCFBA8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A8B90-CCDD-4008-A28E-BB4AD1BA4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304038-79CA-4D1F-8880-7BF69833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D0E-CF13-4AD0-BB0B-F8988B6E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BA1E-A086-449F-B694-2D0FDE5AEC1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4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Oval 15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62" name="Oval 15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Oval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8dc7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F0A3-6FA2-4998-9231-FFF67B624DB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1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" name="Oval 1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val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F75A-1EF3-497E-8C00-976EC6DBA11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6154-03E1-43CB-8002-63C22701017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F91C-7039-4543-8B34-C55D0FDFE06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EE5C-3706-47AE-8A66-CE031C7E7DD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Rectangle 15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80" name="Rectangle 15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Flowchart: Process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lowchart: Process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August 13, 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6824-DDBB-4F1A-94BF-8E0CFD66BE0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286000" y="2114280"/>
            <a:ext cx="665784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February 7, 2017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Retail Market Subcommittee (RMS)</a:t>
            </a:r>
            <a:br>
              <a:rPr sz="2900"/>
            </a:br>
            <a:r>
              <a:rPr b="1" lang="en-US" sz="2900" spc="-1" strike="noStrike">
                <a:solidFill>
                  <a:srgbClr val="572314"/>
                </a:solidFill>
                <a:latin typeface="Gill Sans MT"/>
              </a:rPr>
              <a:t>Update to COPS</a:t>
            </a:r>
            <a:endParaRPr b="0" lang="en-US" sz="2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361960" y="327636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20e04"/>
                </a:solidFill>
                <a:latin typeface="Gill Sans MT"/>
              </a:rPr>
              <a:t>Kathy Scot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Rectangle 10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ch 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1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8A91-AC09-4110-97AE-019C6561310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49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ions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9" name="Slide Number Placeholder 2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5B65-1A39-43CD-9722-D6967B8A720F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8,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7" descr="C:\Users\00015621\AppData\Local\Microsoft\Windows\Temporary Internet Files\Content.IE5\M2YDF2H6\passe-compose-ou-imparfait-grammaire-bdf-19[1].jpg"/>
          <p:cNvPicPr/>
          <p:nvPr/>
        </p:nvPicPr>
        <p:blipFill>
          <a:blip r:embed="rId1"/>
          <a:stretch/>
        </p:blipFill>
        <p:spPr>
          <a:xfrm>
            <a:off x="1854360" y="990720"/>
            <a:ext cx="59180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New Revision Reques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RMGRR144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, Elimination of REP-Specific Switch Hold Lists </a:t>
            </a: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(Vot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Retail Market Guide Revision Request (RMGRR) eliminates the requirement for Transmission and/or Distribution Service Providers (TDSPs) to maintain a secure list by Retail Electric Provider (REP) Data Universal Numbering Systems (DUNS) of all Electric Service Identifiers (ESI IDs) with switch hold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965160" indent="-15228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965160" indent="-15228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02/07/17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: 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MS Unanimously Approved RMGRR144 and RMS leadership will recommend TAC’s  Approval during their March 23</a:t>
            </a:r>
            <a:r>
              <a:rPr b="1" lang="en-US" sz="2000" spc="-1" strike="noStrike" baseline="30000">
                <a:solidFill>
                  <a:srgbClr val="c00000"/>
                </a:solidFill>
                <a:latin typeface="Gill Sans MT"/>
              </a:rPr>
              <a:t>rd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 meeting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141200" indent="-1605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:  If  TAC approves this Revision Request it would become effective on April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779400" indent="-20088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9164-475F-45B1-B5FF-128515271E3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New Revision Request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91440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Gill Sans MT"/>
              </a:rPr>
              <a:t>RMGRR145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, Appendix for a Mass Customer List (MCL)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94720" indent="-2199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s Retail Market Guide Revision Request (RMGRR) provides the format for a Mass Customer List to be used by a Transmission and/or Distribution Service Provider (TDSP) / Municipally Owned Utility (MOU)/Electric Cooperative (EC) TDSP to inform Market Participants of all customers in its service territories when entering competition or expanding its service territory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02/07/17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: 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MS Unanimously Approved RMGRR145</a:t>
            </a: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19880" indent="-160920">
              <a:spcBef>
                <a:spcPts val="45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NOTE: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MGRR145 will return to RMS for Impact Analysis Review during our March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meeting.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23680" indent="-2124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E0FE-739E-482B-BA1B-DCE727D871F1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72314"/>
                </a:solidFill>
                <a:latin typeface="Gill Sans MT"/>
              </a:rPr>
              <a:t>RMS’ 2017 WG(s) and Taskforce Leadership</a:t>
            </a:r>
            <a:endParaRPr b="0" lang="en-US" sz="28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9144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Advanced Metering Working Group (AMWG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-Chair: Esther Kent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CenterPoint Energy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-Chair: John Schatz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TXU Energ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Texas Data Transport and MarkeTrak Systems (TDTMS) W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hair: Jim Lee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AEP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ice-Chair: Monica Jones -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Reliant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Texas Standard Electronic Transaction (Texas SET) W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hair: Diana Rehfeldt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– (TNMP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Vice-Chair: Kyle Patrick – (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Relia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etail Market Training Task Force (RMTTF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-Chair: Deborah McKeever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Oncor)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-Chair: Sheri Wiegand  -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TXU Energy)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Co-Chair: Tomas Fernandez  -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(Reliant)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11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8F48-6A31-4582-91F7-FFA0A9FDBF74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Working Group/Taskforces Updates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914400" y="6858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17520" indent="-2455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etail Market Training Taskforce (RMTTF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Retail Instructor Led Cla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1" i="1" lang="en-US" sz="1800" spc="-1" strike="noStrike">
                <a:solidFill>
                  <a:srgbClr val="1c4853"/>
                </a:solidFill>
                <a:latin typeface="Gill Sans MT"/>
              </a:rPr>
              <a:t>AUSTIN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Georgetown Library 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-   </a:t>
            </a:r>
            <a:r>
              <a:rPr b="1" i="1" lang="en-US" sz="1800" spc="-1" strike="noStrike">
                <a:solidFill>
                  <a:srgbClr val="c00000"/>
                </a:solidFill>
                <a:latin typeface="Gill Sans MT"/>
              </a:rPr>
              <a:t>Completed </a:t>
            </a:r>
            <a:r>
              <a:rPr b="0" lang="en-US" sz="1800" spc="-1" strike="noStrike">
                <a:solidFill>
                  <a:srgbClr val="c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128240" indent="-1587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tail 101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uesday,   January 31, 20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128240" indent="-1587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keTrak  101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Wednesday,   February 1, 20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4853"/>
                </a:solidFill>
                <a:latin typeface="Gill Sans MT"/>
              </a:rPr>
              <a:t>   </a:t>
            </a:r>
            <a:r>
              <a:rPr b="0" i="1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0" i="1" lang="en-US" sz="1800" spc="-1" strike="noStrike">
                <a:solidFill>
                  <a:srgbClr val="1c4853"/>
                </a:solidFill>
                <a:latin typeface="Gill Sans M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70760" indent="-19872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Survey comments were consistent with previous Instructor Led Classes –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954000" indent="-15048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Materials provided are resourceful, Q &amp; A is valuable and Instructors are knowledgeabl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954000" indent="-15048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MarkeTrak 101 class length was “just right” with one commenting “too short” in length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770760" indent="-1987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1" i="1" lang="en-US" sz="1800" spc="-1" strike="noStrike">
                <a:solidFill>
                  <a:srgbClr val="1c4853"/>
                </a:solidFill>
                <a:latin typeface="Gill Sans MT"/>
              </a:rPr>
              <a:t>DALLAS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Oncor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 -</a:t>
            </a: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i="1" lang="en-US" sz="1800" spc="-1" strike="noStrike">
                <a:solidFill>
                  <a:srgbClr val="c00000"/>
                </a:solidFill>
                <a:latin typeface="Gill Sans MT"/>
              </a:rPr>
              <a:t>Scheduled  </a:t>
            </a:r>
            <a:r>
              <a:rPr b="0" lang="en-US" sz="1800" spc="-1" strike="noStrike">
                <a:solidFill>
                  <a:srgbClr val="c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128240" indent="-1587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Retail 101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Wednesday,  May 3, 2017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128240" indent="-1587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Inadvertent Gain Training –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hursday,  May 4</a:t>
            </a:r>
            <a:r>
              <a:rPr b="0" lang="en-US" sz="1800" spc="-1" strike="noStrike" baseline="30000">
                <a:solidFill>
                  <a:srgbClr val="000000"/>
                </a:solidFill>
                <a:latin typeface="Gill Sans MT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, 2017 </a:t>
            </a:r>
            <a:r>
              <a:rPr b="0" lang="en-US" sz="1800" spc="-1" strike="noStrike">
                <a:solidFill>
                  <a:srgbClr val="1c4853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17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556200" indent="-205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954000" indent="-1504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770760" indent="-198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6934320" y="6305400"/>
            <a:ext cx="18288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F45F-C509-4975-B487-C021A9404D7D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2209680" y="2666880"/>
          <a:ext cx="5181840" cy="982800"/>
        </p:xfrm>
        <a:graphic>
          <a:graphicData uri="http://schemas.openxmlformats.org/drawingml/2006/table">
            <a:tbl>
              <a:tblPr/>
              <a:tblGrid>
                <a:gridCol w="1963800"/>
                <a:gridCol w="1177920"/>
                <a:gridCol w="1019160"/>
                <a:gridCol w="1020960"/>
              </a:tblGrid>
              <a:tr h="304920"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assro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ebE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80880"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0000"/>
                          </a:solidFill>
                          <a:latin typeface="Gill Sans MT"/>
                        </a:rPr>
                        <a:t>Retail 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0000"/>
                          </a:solidFill>
                          <a:latin typeface="Gill Sans MT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0000"/>
                          </a:solidFill>
                          <a:latin typeface="Gill Sans MT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0000"/>
                          </a:solidFill>
                          <a:latin typeface="Gill Sans MT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297000"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0000"/>
                          </a:solidFill>
                          <a:latin typeface="Gill Sans MT"/>
                        </a:rPr>
                        <a:t>MarkeTrak 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0000"/>
                          </a:solidFill>
                          <a:latin typeface="Gill Sans MT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0000"/>
                          </a:solidFill>
                          <a:latin typeface="Gill Sans MT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3960" rIns="3960" tIns="3960" bIns="0" anchor="b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0000"/>
                          </a:solidFill>
                          <a:latin typeface="Gill Sans MT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3960" marR="39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066320" y="68580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7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75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MT Help Desk Call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60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(-40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{12/15 = 259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75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75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MT Help Desk Tickets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23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(-26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{12/15 = 240}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588240" indent="-2174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idential = 268 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(-9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I access issues = 60 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(-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{U/ID &amp; P/W Invalid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15040" indent="-21024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ration issues = 108 </a:t>
            </a:r>
            <a:r>
              <a:rPr b="0" lang="en-US" sz="2400" spc="-1" strike="noStrike">
                <a:solidFill>
                  <a:srgbClr val="c00000"/>
                </a:solidFill>
                <a:latin typeface="Gill Sans MT"/>
              </a:rPr>
              <a:t>(-1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{Typo errors}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75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75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MT Registered Users (Res)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77,495 (+49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5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75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ESIs in SM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7,257,115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+11,401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5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75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Active Meters in SMT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3200" spc="-1" strike="noStrike">
                <a:solidFill>
                  <a:srgbClr val="c00000"/>
                </a:solidFill>
                <a:latin typeface="Gill Sans MT"/>
              </a:rPr>
              <a:t>7,194,765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(+11,884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75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572314"/>
                </a:solidFill>
                <a:uFillTx/>
                <a:latin typeface="Gill Sans MT"/>
              </a:rPr>
              <a:t>SMT Statistics for December 201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CC1A-64ED-4EAB-A5F1-65D63AAF2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 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1"/>
          <p:cNvSpPr/>
          <p:nvPr/>
        </p:nvSpPr>
        <p:spPr>
          <a:xfrm>
            <a:off x="6477120" y="63054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Content Placeholder 1" descr=""/>
          <p:cNvPicPr/>
          <p:nvPr/>
        </p:nvPicPr>
        <p:blipFill>
          <a:blip r:embed="rId1"/>
          <a:stretch/>
        </p:blipFill>
        <p:spPr>
          <a:xfrm>
            <a:off x="835200" y="530280"/>
            <a:ext cx="8997840" cy="594972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-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 u="sng">
                <a:solidFill>
                  <a:srgbClr val="572314"/>
                </a:solidFill>
                <a:uFillTx/>
                <a:latin typeface="Gill Sans MT"/>
              </a:rPr>
              <a:t>SMT Statistics for December 2016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B51A-1FF2-4B37-90E3-77AA0E6C0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8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"/>
          <p:cNvSpPr/>
          <p:nvPr/>
        </p:nvSpPr>
        <p:spPr>
          <a:xfrm>
            <a:off x="6978600" y="6488280"/>
            <a:ext cx="170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ERCOT Updates: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914400" y="8380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Service Availability – Janua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etail Market IT Systems met all SLA targe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017 Retail Market IT Services Service Level Agreement (SLA)  (Vot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http://ercot.com/content/wcm/key_documents_lists/108474/16._Retail_SLA_2017_Draft.doc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RMS Unanimously Approved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2016 Q3 Performance Measures Report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 MT"/>
              </a:rPr>
              <a:t>http://ercot.com/content/wcm/key_documents_lists/108474/16._RMS_3Q_2016_PM_Comparison.pptx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All transactional performance reported at </a:t>
            </a:r>
            <a:r>
              <a:rPr b="1" lang="en-US" sz="2000" spc="-1" strike="noStrike">
                <a:solidFill>
                  <a:srgbClr val="c00000"/>
                </a:solidFill>
                <a:latin typeface="Gill Sans MT"/>
              </a:rPr>
              <a:t>99% or 100%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8,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B0291-1C57-4881-8827-0E29EB1421AB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2314"/>
                </a:solidFill>
                <a:latin typeface="Gill Sans MT"/>
              </a:rPr>
              <a:t>Notice:  RMS Meeting Dates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66680" y="9144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e to spring breaks scheduled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o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eek of March and Good Friday/Easter holiday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eek of April, RMS agreed to split the difference and scheduled our March/April meeting on Tuesday, March 2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1200" indent="-2221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so RMS leadership identified a meeting conflict with the Annual GCPA Conference scheduled on October 2-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Austin.  RMS agreed to move our meeting date from Tuesday , October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ill Sans MT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the following Tuesday on October10th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031040" indent="-162720">
              <a:spcBef>
                <a:spcPts val="49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://ercot.com/calendar/2017/10/10/118259-RM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5" name="Date Placeholder 3"/>
          <p:cNvSpPr/>
          <p:nvPr/>
        </p:nvSpPr>
        <p:spPr>
          <a:xfrm>
            <a:off x="3581280" y="6305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March 8, 201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Arial"/>
              </a:rPr>
              <a:t>RMS Update to C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2037-0520-400E-BB9B-04F803ECD16C}" type="slidenum">
              <a:rPr b="0" lang="en-US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Scott, Kathy D.</cp:lastModifiedBy>
  <dcterms:modified xsi:type="dcterms:W3CDTF">2017-02-28T19:24:04Z</dcterms:modified>
  <cp:revision>1671</cp:revision>
  <dc:subject/>
  <dc:title>Instructions</dc:title>
</cp:coreProperties>
</file>