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C7C0C11-3381-468D-9D64-14272A8D7B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D429E3A-7B6E-4DBD-8EA0-18ED0B7A1C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2" name="PlaceHolder 1"/>
          <p:cNvSpPr>
            <a:spLocks noGrp="1"/>
          </p:cNvSpPr>
          <p:nvPr>
            <p:ph type="sldImg"/>
          </p:nvPr>
        </p:nvSpPr>
        <p:spPr>
          <a:xfrm>
            <a:off x="1258920" y="720720"/>
            <a:ext cx="4797360" cy="359892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9729568-2331-44E6-A006-E7AF754DE1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5" name="PlaceHolder 1"/>
          <p:cNvSpPr>
            <a:spLocks noGrp="1"/>
          </p:cNvSpPr>
          <p:nvPr>
            <p:ph type="sldImg"/>
          </p:nvPr>
        </p:nvSpPr>
        <p:spPr>
          <a:xfrm>
            <a:off x="1258920" y="720720"/>
            <a:ext cx="4797360" cy="359892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E95730-7018-41A1-B39A-23A57BD6E5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9B53EE3-4BEF-4932-810E-5A85FB593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258920" y="720720"/>
            <a:ext cx="4797360" cy="359892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99F157B-3A06-4853-AC99-BAB98B4E8D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258920" y="720720"/>
            <a:ext cx="4797360" cy="359892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152B0A-4D20-4F5F-BB92-011EACA389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258920" y="720720"/>
            <a:ext cx="4797360" cy="359892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4D71F5-560E-4ABD-AAC0-59EE755203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258920" y="720720"/>
            <a:ext cx="4797360" cy="359892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E46ECC4-257B-449C-A301-42776076FD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B1E9E9-F56B-4789-AAEB-A08034EB15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4F170-2EF8-47B3-AD07-C190B35E2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6FAF-FB6E-4AC1-A2D9-67A02FD7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FA405-D1F4-4384-A0AE-AF87B30CB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48D1F-49A9-4FD7-BD5C-C7E591792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E992E-5128-4CA4-B0AB-10E69D7FD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95C48-C8C8-4FE7-B3DC-29E3BBF1D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25C5-990E-412E-B281-94122A3A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3B049-47C1-45A6-964B-BC8B6225E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91125-66A5-4B2B-96D9-73CFC0AD0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CEEEE-0D97-4B87-9277-8CFC90F02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78A75-4A76-42F3-9FD9-29420B6FA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4B13-4ADC-454A-89F2-A7CF012D7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464A4-4363-4C1B-B906-5579B3EDD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23D54-3F48-40CE-AA7B-E4FB6529D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47594-344A-4F45-89CB-F4C79FDFF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73177-E6F9-4192-82FD-4EA55F8EA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26D83-A3E8-4572-89C6-0C4F44F1E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9746-4C20-4D63-91F3-C1DCDAE8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D392-327C-4061-A975-AED5E271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15B9-6C3C-414D-98D3-5E32DB9C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0B2C-A5C1-4262-9025-F7D3BAF0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A833-C805-48F6-AC20-86657878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B137-268A-4492-85B7-591698DA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9CF1-8D65-4469-83FF-A19943C34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9, 2017</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06E4-DFEE-497E-9ACA-D4DAAC57FF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9, 2017</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17CA-E28F-4226-B2E8-FA91F41641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NPRR818: Allow Curtailment of DC Tie Load Prior to Declaring Emergency Condition</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Rainbow Energy Marketing Corporation</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S Meeting</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bruary 9, 2017</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4576-5374-49F3-A19E-DFF859B98D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eed for Urgency</a:t>
            </a:r>
            <a:endParaRPr b="0" lang="en-US" sz="4400" spc="-1" strike="noStrike">
              <a:solidFill>
                <a:srgbClr val="999900"/>
              </a:solidFill>
              <a:latin typeface="Garamond"/>
            </a:endParaRPr>
          </a:p>
        </p:txBody>
      </p:sp>
      <p:sp>
        <p:nvSpPr>
          <p:cNvPr id="102"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issued Power Operations Bulletin (POB) #755 on 9/28/16 with an implementation date of 9/30/16 – with hardly any notice and no Stakeholder input before or after its issuance and with no Protocol or Operating Guide changes to justify POB755.</a:t>
            </a:r>
            <a:endParaRPr b="0" lang="en-US" sz="1600" spc="-1" strike="noStrike">
              <a:solidFill>
                <a:srgbClr val="000000"/>
              </a:solidFill>
              <a:latin typeface="Verdana"/>
            </a:endParaRPr>
          </a:p>
          <a:p>
            <a:pPr marL="398520" indent="-3380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drastically changed ERCOT's operation of CFE DC Ties impacting commercial viability of using the Ties – ERCOT no longer approves E-Tags prior to DAM making procuring power in DAM to export risky. REMC procured power in DAM to export only to have its E-Tag denied and ended up selling back the power in RTM at a significant loss (with RTSPP as low as $5.60/MWh) and the Tie not utilized – inefficient use of Ties and avoidable harm to the market.</a:t>
            </a:r>
            <a:endParaRPr b="0" lang="en-US" sz="1600" spc="-1" strike="noStrike">
              <a:solidFill>
                <a:srgbClr val="000000"/>
              </a:solidFill>
              <a:latin typeface="Verdana"/>
            </a:endParaRPr>
          </a:p>
          <a:p>
            <a:pPr marL="398520" indent="-3380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rtailing DC Tie Load at $5.60/MWh glaringly points to issues – Load should only be curtailed when price reflects constraint Shadow Price Cap</a:t>
            </a:r>
            <a:endParaRPr b="0" lang="en-US" sz="1600" spc="-1" strike="noStrike">
              <a:solidFill>
                <a:srgbClr val="000000"/>
              </a:solidFill>
              <a:latin typeface="Verdana"/>
            </a:endParaRPr>
          </a:p>
          <a:p>
            <a:pPr marL="398520" indent="-3380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ied hard to resolve issue with ERCOT as soon as we could – however, ERCOT was slow to respond and finally on 1/25/17 advised us to pursue this path which ERCOT supports.</a:t>
            </a:r>
            <a:endParaRPr b="0" lang="en-US" sz="1600" spc="-1" strike="noStrike">
              <a:solidFill>
                <a:srgbClr val="000000"/>
              </a:solidFill>
              <a:latin typeface="Verdana"/>
            </a:endParaRPr>
          </a:p>
          <a:p>
            <a:pPr marL="398520" indent="-33804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rgent status is requested in order to eliminate this inefficient DC Tie operation &amp; consequent on-going harm to Market Participants ASAP – already harmed too long by this avoidable change</a:t>
            </a:r>
            <a:endParaRPr b="0" lang="en-US" sz="1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9853-C96E-4D4A-A81D-7888A2A482A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CFE DC Tie E-Tags Denied, DASPP &amp; RTSPP on October 11, 2016</a:t>
            </a:r>
            <a:endParaRPr b="0" lang="en-US" sz="3600" spc="-1" strike="noStrike">
              <a:solidFill>
                <a:srgbClr val="999900"/>
              </a:solidFill>
              <a:latin typeface="Garamond"/>
            </a:endParaRPr>
          </a:p>
        </p:txBody>
      </p:sp>
      <p:pic>
        <p:nvPicPr>
          <p:cNvPr id="106" name="Picture 6" descr=""/>
          <p:cNvPicPr/>
          <p:nvPr/>
        </p:nvPicPr>
        <p:blipFill>
          <a:blip r:embed="rId1"/>
          <a:stretch/>
        </p:blipFill>
        <p:spPr>
          <a:xfrm>
            <a:off x="1371600" y="1504800"/>
            <a:ext cx="6080040" cy="474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4F8C-C7DE-4FB6-B995-A622BEB377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 Pre-POB755</a:t>
            </a:r>
            <a:endParaRPr b="0" lang="en-US" sz="4400" spc="-1" strike="noStrike">
              <a:solidFill>
                <a:srgbClr val="999900"/>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POB #755, ERCOT would accept DC Tie Schedules (E-Tags) submitted any time prior to or after DAM up to the physical limit of the corresponding ties even if it exceeded ERCOT’s posted DC Tie Limits</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C Tie Load was treated in accordance with NP 4.4.4 that states that “DC Tie Load is considered as Load for daily and hourly reliability studies, and settled as Adjusted Metered Load (AML).  DC Tie Load is curtailed prior to other Load on the ERCOT System due to transmission constraints as set forth in Section 6.5.9.3.4, Emergency Notice, and during Energy Emergency Alert (EEA) events as set forth in 6.5.9.4.2, EEA Levels.”</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DC Tie Load shall neither be curtailed during the Adjustment Period, nor for more than one hour at a time, except for the purpose of maintaining reliability.”</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rarely) only curtailed e-Tags close to the Operating Hour if necessary under Emergency Conditions.</a:t>
            </a:r>
            <a:endParaRPr b="0" lang="en-US" sz="1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5178-E14E-43E1-85AA-748C172EC11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B755 - Description</a:t>
            </a:r>
            <a:endParaRPr b="0" lang="en-US" sz="4400" spc="-1" strike="noStrike">
              <a:solidFill>
                <a:srgbClr val="999900"/>
              </a:solidFill>
              <a:latin typeface="Garamond"/>
            </a:endParaRPr>
          </a:p>
        </p:txBody>
      </p:sp>
      <p:sp>
        <p:nvSpPr>
          <p:cNvPr id="114"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B755 made the following changes to “ERCOT DC Tie Desk Procedures Manual”:</a:t>
            </a:r>
            <a:endParaRPr b="0" lang="en-US" sz="1800" spc="-1" strike="noStrike">
              <a:solidFill>
                <a:srgbClr val="000000"/>
              </a:solidFill>
              <a:latin typeface="Verdana"/>
            </a:endParaRPr>
          </a:p>
          <a:p>
            <a:pPr lvl="1" marL="798480" indent="-3380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OB755</a:t>
            </a:r>
            <a:r>
              <a:rPr b="0" lang="en-US" sz="1400" spc="-1" strike="noStrike">
                <a:solidFill>
                  <a:srgbClr val="000000"/>
                </a:solidFill>
                <a:latin typeface="Verdana"/>
              </a:rPr>
              <a:t>: Daily import and export limits for the Railroad and Eagle Pass DC Ties, and Laredo VFT will be provided by the Operations Engineering Support Group on the “Transmission Limits to Be Monitored” sheet.</a:t>
            </a:r>
            <a:endParaRPr b="0" lang="en-US" sz="1400" spc="-1" strike="noStrike">
              <a:solidFill>
                <a:srgbClr val="000000"/>
              </a:solidFill>
              <a:latin typeface="Verdana"/>
            </a:endParaRPr>
          </a:p>
          <a:p>
            <a:pPr lvl="1" marL="798480" indent="-3380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B755</a:t>
            </a:r>
            <a:r>
              <a:rPr b="0" lang="en-US" sz="1400" spc="-1" strike="noStrike">
                <a:solidFill>
                  <a:srgbClr val="000000"/>
                </a:solidFill>
                <a:latin typeface="Verdana"/>
              </a:rPr>
              <a:t>: Studies are required to set import/export limits between CFE and ERCOT based on system conditions for commercial and emergency operations.  ERCOT will conduct studies in different time horizons including but not limited to seasonal (winter and summer peaks), Day-Ahead and real-time as needed. Operations Support group will calculate daily import/export transfer limits for the Railroad and Eagle Pass DC Ties, and Laredo VFT. </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aily import and export limits for the Railroad and Eagle Pass DC Ties, and Laredo VFT will be posted on the “Transmission Limits to Be Monitored” on the MIS Secure.</a:t>
            </a:r>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4B61-28C6-43DE-AAB6-A2DECE0F516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B755 – Description (cont.)</a:t>
            </a:r>
            <a:endParaRPr b="0" lang="en-US" sz="4400" spc="-1" strike="noStrike">
              <a:solidFill>
                <a:srgbClr val="999900"/>
              </a:solidFill>
              <a:latin typeface="Garamond"/>
            </a:endParaRPr>
          </a:p>
        </p:txBody>
      </p:sp>
      <p:sp>
        <p:nvSpPr>
          <p:cNvPr id="118" name="PlaceHolder 2"/>
          <p:cNvSpPr>
            <a:spLocks noGrp="1"/>
          </p:cNvSpPr>
          <p:nvPr>
            <p:ph/>
          </p:nvPr>
        </p:nvSpPr>
        <p:spPr>
          <a:xfrm>
            <a:off x="457200" y="1447560"/>
            <a:ext cx="8229600" cy="4530600"/>
          </a:xfrm>
          <a:prstGeom prst="rect">
            <a:avLst/>
          </a:prstGeom>
          <a:noFill/>
          <a:ln w="0">
            <a:noFill/>
          </a:ln>
        </p:spPr>
        <p:txBody>
          <a:bodyPr anchor="t">
            <a:normAutofit/>
          </a:bodyPr>
          <a:p>
            <a:pPr lvl="1" marL="798480" indent="-3380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OB755</a:t>
            </a:r>
            <a:r>
              <a:rPr b="0" lang="en-US" sz="1400" spc="-1" strike="noStrike">
                <a:solidFill>
                  <a:srgbClr val="000000"/>
                </a:solidFill>
                <a:latin typeface="Verdana"/>
              </a:rPr>
              <a:t>: </a:t>
            </a:r>
            <a:r>
              <a:rPr b="0" lang="en-US" sz="1400" spc="-1" strike="noStrike" u="sng">
                <a:solidFill>
                  <a:srgbClr val="000000"/>
                </a:solidFill>
                <a:uFillTx/>
                <a:latin typeface="Verdana"/>
              </a:rPr>
              <a:t>The posted limits will not be used to curtail or deny tags </a:t>
            </a:r>
            <a:r>
              <a:rPr b="0" lang="en-US" sz="1400" spc="-1" strike="noStrike">
                <a:solidFill>
                  <a:srgbClr val="000000"/>
                </a:solidFill>
                <a:latin typeface="Verdana"/>
              </a:rPr>
              <a:t>in the Day-Ahead process or the current day scheduling process.</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The limits are less than the capacity of a DC-Tie, this is an indication of an outage in the area;</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N: A greater chance of curtailments occurring near real-time is a possibility. </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The sum of the E-Tags received exceed the export limits on any CFE DC-Tie, </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N: Notify the Shift Supervisor of the possible need to commit additional Resources closer to real-time.</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No additional Resources are available, and a reliability purpose exists;</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N: Curtailments may be requested by the Shift Supervisor or Transmission Desk.</a:t>
            </a:r>
            <a:endParaRPr b="0" lang="en-US" sz="1400" spc="-1" strike="noStrike">
              <a:solidFill>
                <a:srgbClr val="000000"/>
              </a:solidFill>
              <a:latin typeface="Verdana"/>
            </a:endParaRPr>
          </a:p>
          <a:p>
            <a:pPr lvl="1" marL="798480" indent="-338040">
              <a:lnSpc>
                <a:spcPct val="95000"/>
              </a:lnSpc>
              <a:spcBef>
                <a:spcPts val="4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B755</a:t>
            </a:r>
            <a:r>
              <a:rPr b="0" lang="en-US" sz="1400" spc="-1" strike="noStrike">
                <a:solidFill>
                  <a:srgbClr val="000000"/>
                </a:solidFill>
                <a:latin typeface="Verdana"/>
              </a:rPr>
              <a:t>: Once the DC-Tie limits for next day are received, check the sum of the E-Tags to ensure the import/export limits are not exceeded on any of the CFE DC-Tie.</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The sum of the E Tags exceed the import or export limit on any CFE DC Tie, THEN: </a:t>
            </a:r>
            <a:r>
              <a:rPr b="0" lang="en-US" sz="1400" spc="-1" strike="noStrike" u="sng">
                <a:solidFill>
                  <a:srgbClr val="000000"/>
                </a:solidFill>
                <a:uFillTx/>
                <a:latin typeface="Verdana"/>
              </a:rPr>
              <a:t>ERCOT will curtail the E-Tag </a:t>
            </a:r>
            <a:r>
              <a:rPr b="0" lang="en-US" sz="1400" spc="-1" strike="noStrike">
                <a:solidFill>
                  <a:srgbClr val="000000"/>
                </a:solidFill>
                <a:latin typeface="Verdana"/>
              </a:rPr>
              <a:t>to zero (0) based on the criteria of “Last in – First out” until the over schedule is alleviated.</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A new E-Tag received exceeds the posted export limits on any CFE DC-Tie, </a:t>
            </a:r>
            <a:endParaRPr b="0" lang="en-US" sz="1400" spc="-1" strike="noStrike">
              <a:solidFill>
                <a:srgbClr val="000000"/>
              </a:solidFill>
              <a:latin typeface="Verdana"/>
            </a:endParaRPr>
          </a:p>
          <a:p>
            <a:pPr lvl="1" marL="798480"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N:Deny the E-Tag</a:t>
            </a:r>
            <a:endParaRPr b="0" lang="en-US" sz="1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A22D-AA9E-43D6-B414-FC3D733C777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B755 – ERCOT’s Rationale</a:t>
            </a:r>
            <a:endParaRPr b="0" lang="en-US" sz="4400" spc="-1" strike="noStrike">
              <a:solidFill>
                <a:srgbClr val="999900"/>
              </a:solidFill>
              <a:latin typeface="Garamond"/>
            </a:endParaRPr>
          </a:p>
        </p:txBody>
      </p:sp>
      <p:sp>
        <p:nvSpPr>
          <p:cNvPr id="122"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departure of Frontera, ERCOT was concerned that there may be situations where ERCOT would have to declare Emergency Conditions in order to curtail DC Tie Exports.</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s preference is to take action in advance to avoid the chance of an Emergency Condition and subsequent possible NERC scrutiny of why ERCOT did not act in advance to avoid the Emergency Condition</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B755 achieves this goal by denying (equivalent to pre-curtailing) E-Tags that exceed DC Tie export amounts that ERCOT’s day-ahead studies show can be accommodated by resources self-committed in the DRUC COP (not accounting for other resources that are available in DRUC COP)</a:t>
            </a:r>
            <a:endParaRPr b="0"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9D4E-0E88-4905-A089-1D983CE2EB2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B755 – Consequences</a:t>
            </a:r>
            <a:endParaRPr b="0" lang="en-US" sz="4400" spc="-1" strike="noStrike">
              <a:solidFill>
                <a:srgbClr val="999900"/>
              </a:solidFill>
              <a:latin typeface="Garamond"/>
            </a:endParaRPr>
          </a:p>
        </p:txBody>
      </p:sp>
      <p:sp>
        <p:nvSpPr>
          <p:cNvPr id="126"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B755’s ultra-conservative approach resulted in 0 CFE DC Tie limits for many hours on certain days and, in general, greatly reduced DC Tie limits even though the system in real-time could accommodate exports and RTSPPs were in the teens and twenties</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B755 negated all relevant Protocol sections requiring ERCOT to treat DC Tie Load similar to Load in the DRUC and HRUC processes since E-Tags were denied (pre-curtailed) based on ultra-conservative calculated export amounts that negated the price signal and need for any additional resources</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ry to all the provisions introduced by NPRR405, Clarification of DC Tie Load into Operational Systems and Processes, to treat DC Tie Load as Load, POB755 is pre-curtailing DC Tie Load (by denying E-Tags) [like asking a Load not to consume the next day] without taking any of the actions prescribed in Protocols prior the declaring an Emergency Condition while DC Tie Load still must pay all Load related charges including all RUC charges anywhere &amp; not made whole</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9, 2017</a:t>
            </a:r>
            <a:endParaRPr b="0" lang="en-US" sz="1000" spc="-1" strike="noStrike">
              <a:solidFill>
                <a:srgbClr val="000000"/>
              </a:solidFill>
              <a:latin typeface="Verdana"/>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E065-698C-4D91-A561-93796B6E82A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PRR818</a:t>
            </a:r>
            <a:endParaRPr b="0" lang="en-US" sz="4400" spc="-1" strike="noStrike">
              <a:solidFill>
                <a:srgbClr val="999900"/>
              </a:solidFill>
              <a:latin typeface="Garamond"/>
            </a:endParaRPr>
          </a:p>
        </p:txBody>
      </p:sp>
      <p:sp>
        <p:nvSpPr>
          <p:cNvPr id="130" name="PlaceHolder 2"/>
          <p:cNvSpPr>
            <a:spLocks noGrp="1"/>
          </p:cNvSpPr>
          <p:nvPr>
            <p:ph/>
          </p:nvPr>
        </p:nvSpPr>
        <p:spPr>
          <a:xfrm>
            <a:off x="457200" y="1447560"/>
            <a:ext cx="8229600" cy="4530600"/>
          </a:xfrm>
          <a:prstGeom prst="rect">
            <a:avLst/>
          </a:prstGeom>
          <a:noFill/>
          <a:ln w="0">
            <a:noFill/>
          </a:ln>
        </p:spPr>
        <p:txBody>
          <a:bodyPr anchor="t">
            <a:normAutofit/>
          </a:bodyPr>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PRR818 is to undo POB755 – the only months-long (assuming Urgent approval) process to undo a POB issued with little market notice, no stakeholder input, and no stakeholder endorsement after its issuance (need to examine and improve this process) </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allowing ERCOT to curtail E-Tags in an Alert prior to declaring an Emergency Condition, NPRR818 addresses ERCOT’s concerns of possible NERC scrutiny of why ERCOT did not act in advance to avoid the Emergency Condition</a:t>
            </a:r>
            <a:endParaRPr b="0" lang="en-US" sz="1800" spc="-1" strike="noStrike">
              <a:solidFill>
                <a:srgbClr val="000000"/>
              </a:solidFill>
              <a:latin typeface="Verdana"/>
            </a:endParaRPr>
          </a:p>
          <a:p>
            <a:pPr marL="398520" indent="-338040">
              <a:lnSpc>
                <a:spcPct val="95000"/>
              </a:lnSpc>
              <a:spcBef>
                <a:spcPts val="56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PRR818 allows E-Tags to be approved prior to DAM, Market Participants to procure power in DAM for export, all the provisions of NPRR405 to work properly except that ERCOT would be allowed to curtail E-Tags in an Alert prior to declaring an Emergency Condition</a:t>
            </a:r>
            <a:endParaRPr b="0" lang="en-US" sz="1800" spc="-1" strike="noStrike">
              <a:solidFill>
                <a:srgbClr val="000000"/>
              </a:solidFill>
              <a:latin typeface="Verdana"/>
            </a:endParaRPr>
          </a:p>
          <a:p>
            <a:pPr marL="398520" indent="0">
              <a:lnSpc>
                <a:spcPct val="9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17-02-08T15:32:15Z</dcterms:modified>
  <cp:revision>79</cp:revision>
  <dc:subject/>
  <dc:title>Locational Marginal Pricing: The Texas Nodal Market</dc:title>
</cp:coreProperties>
</file>