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06CC9-880A-44A9-AAE5-93A60B09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85F982-9CCC-41C4-8C64-8440409EA2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822-340C-4C7F-A39E-94E3818F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857-F9B9-458A-9934-37E27CE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A6D-D27B-4C67-89AC-EDF00076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3D8-F471-48E3-B662-8AD99E88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238-D2EC-4E47-8ABD-B64BFBFD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AB5B-80C8-4DE7-ACDB-4B5F0F29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0299-E97F-4339-B0B0-CD14EB95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05C-98AC-454D-A603-ACC93FB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D27-9B61-4E22-94C7-99E99FA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758-DD5B-4696-9493-DDC1E524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636-49E8-4401-A829-31B1AEA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8AE-EC9E-4E3C-8770-A54E084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200-6331-40D7-AA69-B3DD987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536-2667-455B-AEB0-22B99C3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4BB-5FF0-44D5-A85E-22606100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69EA-2FB9-4A3B-B7B6-9AFF69CE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AEDA-3078-43CC-B208-E9FD1EA0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CBA-A6C9-4F25-B1F3-020CC3A6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C81-68C4-4069-8C7A-717F5AFF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604-8F3B-478D-A8D7-F6340993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686-4CE6-4CD8-930C-314AFCA3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575-09FD-49D5-8707-A36B426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03A-9A15-4FE6-99D2-324F6C8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054-4FB5-476C-9FD8-462A087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5F0DD3-F2BA-4712-8955-043FBC6AC11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ounded Rectangle 6"/>
          <p:cNvSpPr/>
          <p:nvPr/>
        </p:nvSpPr>
        <p:spPr>
          <a:xfrm>
            <a:off x="295200" y="162000"/>
            <a:ext cx="11572560" cy="6559200"/>
          </a:xfrm>
          <a:prstGeom prst="roundRect">
            <a:avLst>
              <a:gd name="adj" fmla="val 4509"/>
            </a:avLst>
          </a:prstGeom>
          <a:noFill/>
          <a:ln w="28575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570E5-27AB-4FF0-AFFD-DFAAA522CB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ounded Rectangle 8"/>
          <p:cNvSpPr/>
          <p:nvPr/>
        </p:nvSpPr>
        <p:spPr>
          <a:xfrm>
            <a:off x="295200" y="162000"/>
            <a:ext cx="11572560" cy="6559200"/>
          </a:xfrm>
          <a:prstGeom prst="roundRect">
            <a:avLst>
              <a:gd name="adj" fmla="val 4509"/>
            </a:avLst>
          </a:prstGeom>
          <a:noFill/>
          <a:ln w="28575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13008/DRAFT_PGRR-01_Responsibilities_for_Performing_GMD_Vulnerability_Assessments_01XX17.doc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PLWG Report to R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bruary 2,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ROS Assign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380240"/>
            <a:ext cx="10688040" cy="479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ility Issues Identified during FIS Process/Impact on Generic Transmiss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WG submitted following PGGR and NPRR for ROS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RR054 – Stability Limits in the Full Interconnect Study (Consens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viewed IA and recommended to ROS for consid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09 – GTC or GTL for New Generation Interconnection (Consens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pared draft comments for ROS consideration in responding to PRS refer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dditional action items planned at this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4BA-A232-403B-BF07-FD9B250E7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ctive PGR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10515240" cy="48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720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052 – Stability Assessment for Interconnecting Ge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bled at TAC, Pending Companion NPRR809 Approv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720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053 – Addition of Proposed All-Inclusive Generation Resources to the Planning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Approved, Pending February ERCOT BOD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720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054 – Stability Limits in the Full Interconnect Stu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WG Consensus, Pending ROS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dependent on companion PGRR052 and NPRR8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720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055 – Planning Guide Revision Reques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GRR revises the process for reviewing PGR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WG conducted a first review and reviewed the 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review is scheduled for the February PLWG meet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720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RR056 – Alignment With NPRR562, Subsynchronous Re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360" indent="-212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LWG will conduct a first review at the February PLWG meetin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38F-B343-4769-B33D-4398300FA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ew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WG was informed of a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draft PGR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ERCOT intends to submit in February. The PGRR defines the roles for complying with NERC TPL-007-1 “Transmission System Planned Performance for Geomagnetic Disturbance Even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1 requires the Planning Coordinator to identify individual and joint responsibi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DTF and ERCOT propose to memorialize this in the Planning Gu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ed and updated PLWGs issues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1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A97F-5BAA-49C6-B9E5-258AF2A701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  <Words>270</Words>
  <Paragraphs>36</Paragraphs>
  <Company>Lower Colorado River Author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4:31:10Z</dcterms:created>
  <dc:creator>Charles DeWitt</dc:creator>
  <dc:description/>
  <dc:language>en-US</dc:language>
  <cp:lastModifiedBy>Bowen, Kenneth</cp:lastModifiedBy>
  <dcterms:modified xsi:type="dcterms:W3CDTF">2017-01-27T21:53:56Z</dcterms:modified>
  <cp:revision>49</cp:revision>
  <dc:subject/>
  <dc:title>PLWG Report to 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4</vt:r8>
  </property>
</Properties>
</file>