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F12-8805-425D-91F5-0F795F79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D2C-F892-418E-AB0B-C95037A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7734A-FEB9-49ED-A8CC-CE81F7CA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D9049-274B-44D9-B5B7-7F5B944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7698B-1C9A-4C69-9D84-6FB46059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0D024-77FD-435A-BE0C-539E458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EF8C1-3E01-4B33-B0E5-22AD2EC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FAAC-7014-4E2F-A2DF-88F1693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F7A23-AB24-4C97-B2DA-2D9D4C6D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9D275-222E-4180-9088-164A2A18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9E246-8673-49B2-9322-18927493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13D77-F232-459C-AE37-045E1C6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576-A658-4CC1-A3A2-BF4F8544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D4F3-773B-4020-B5AE-2C87C87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A712B-6E54-4DD9-9184-1212101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77328-F8E1-4371-A7B3-17DDE34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015B6-AE42-46AA-8F94-E42F0A2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895DA-9017-4EAF-BCE9-EE1AF29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BA884-8122-4A23-A7EE-D82AC61E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0897E-B53A-4938-B0A9-766BBF67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60D77-EA42-4F73-B0DB-B2DDDDF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8AE05-2F8E-465F-A197-A0EC6BD0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E6575-D4EE-47A3-BFF2-07A34229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547-310B-4C96-A403-D2521D83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25A6E-4D88-468E-A15B-4E7CADD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F1957-A6FE-4436-BE37-84A50E37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E6404-4D02-4F7F-8107-8D12DEB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BF35-A566-42E3-9624-A3633D09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56F82-B10B-42DE-BB95-C9832A61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FE461-94D7-4E43-856F-605FBB8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CA89D-BB16-46DB-B3E6-074F622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3A5F-EB01-475C-9F50-3E47921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2FA1-F8D9-4C07-A247-DF5BAD06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4CDCB-C53F-45F9-8B6E-D75B6A2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4401-4CA1-4C58-A1FF-73369A78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8E847-1A66-47B1-9A7E-2997420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8B24-D4F5-4832-95D9-D0431B5E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430C9-3CD4-4AB2-8BA3-12254BAB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810E1-1868-42CC-9A75-E1A506EA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F7BF0-D348-4B52-8010-4FDEBBA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46B52-7B2D-4511-B5A3-2069AAE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95263-4CDE-474D-914B-876E409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5B938-130C-4587-B9BC-3CB19EB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29D74-B6A6-496E-A7D9-B6BBDD1F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B5FC3-8F3C-4C33-891D-43026A0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737-E3F0-46A2-897F-CE98A7C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2A24A-BF7B-4D0E-9993-85B397F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48A08-E92F-4DBE-A297-CB88207B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17CC2-19BF-48A9-A305-237A282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B0AF0-5081-45C2-994C-1D09159B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CF86C-1D27-459B-B2D3-58F87D46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DEF-2FC2-4C67-A69B-99F4B20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5E09-CE32-4913-81A2-2182EF64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966-F5C4-40FA-BD5E-2EC04ACB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D49-88A3-40E0-B693-420B203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7E0A-F5C6-4F54-BEA3-E8350A0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EB7-BD9F-404B-BB1F-21A5D89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201-2129-4862-8A63-7CF3C3A4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85C5-3383-4F45-A4C4-76F45E1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5B09-D1F5-440C-9BD5-C1991DA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DC4B-2A13-4C09-AA5B-A62CB9CD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D31-70F9-4BB4-A902-325473C8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A66A-D5E1-4AE4-9CA6-DE2648B4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9D40-3E87-4F7C-A912-4969C7D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0E9A-0618-472C-9FEF-D5702555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FEB7-9EF3-4F7D-9631-452CB9B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E70D-D9F2-41BB-8292-DF462BAA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ADC-76C3-4A34-A98B-63076A02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6003-6075-4133-92E7-CB05E9A6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158D-9702-4E47-92D2-5631E2AC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03B5-FEDE-4E30-8426-5704069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E2F2-2408-4DDD-871F-2B1486D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F4C6-2587-4B38-8C53-BD90E06D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C300A-BD7B-4A93-B450-E17FF730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3EE0-0F88-4B41-8BAE-C5888CF9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0ABD-D41A-4576-BD7F-FEDC79C6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4820-EE9A-4928-9785-161835D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A879-E8B1-4D09-A17D-51A9647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FB2-B1F4-40DE-B17A-EAA37AEF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D7E5-1210-4196-A9FD-12462DAB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F40F-6658-4718-AE8B-6EE1ADE6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A066-43DA-4F78-B806-76BEA7F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6EAE-3B22-41F4-BA58-2322660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8DB2-98B6-4604-B727-9DAE859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09DC-4D71-4D62-9E4E-3A785E2B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198C-FCE2-4DD2-A490-935EB7A9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2E46-FA4F-4A5B-9792-69E62816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35CC-70C4-44BE-BFB8-F6183FF4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2466-9442-485D-B8CB-5C4F537B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71D-6851-4D29-A190-E6191372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5E68-41EB-4861-B336-3116E1B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5F9A3-3E14-4CCC-BCA8-66BF377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BD65-8581-40D7-A014-1B47B5AA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CE2CE-DD0F-4C0B-8A8A-CFD9A8F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65AA-239F-44F3-9299-72E6A6D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E2B5-7CBF-4E42-ABD8-78D3624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E44E-98B2-4660-81E8-CC6243B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862C-AA02-4851-AECB-0F139EC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8B09-7D85-4405-886B-8855A18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35D1-0F9C-425C-870E-52AFC226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08C-A1C2-4D99-AC22-951238B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401B-6FF7-46B0-ABDB-D09E1C7C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017D-4CB3-4DC8-AA7A-578ABBC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09260-64F5-435C-BEF5-F808EB9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B989-15B1-4A26-8367-C9D8619F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362A-E808-42B3-81CF-238783C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707D-4F4B-47B8-9E7F-DB6F5DA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7470-B7C6-46E4-8D17-489A9CFB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FCC5-A614-4AA2-8A02-61F12DE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4E98-E0F6-4427-A390-63C74180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7A25B-FB67-4CA9-9110-1590902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858-BDF9-498D-83C2-12719D7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88B3-7349-484E-89FC-BE473A75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1204-7358-4FBB-A249-D0E61392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83B4-7742-4EEA-874F-FE0BA993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AC72-DC1F-4609-B980-AABBDFDB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07A0-2160-4268-BC9A-556257FE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A0ED-5507-46CB-A14F-7A3AE841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3942C-8792-47F8-AF87-813FCEEB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7946A-2150-4C18-811F-1A175C6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D380-773B-40FC-890B-263CFFEF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EFB8-D5A6-42FB-93AE-625757B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28C-2DD4-409A-818C-BA95A47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B476-4AE6-457F-84C1-55647270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EAFB-1193-4A08-B8F2-8078D54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567AA-C24A-4A69-A004-3321559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4080F-BE3F-4870-86FF-8BFD395C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BA17-35AA-4323-9F01-F5B8FCC5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C6D2-FE98-4197-AAD1-73336AE5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3A81-0BEF-4684-B033-4BCE06B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DF213-B74F-4523-8D0C-9E3EFF2E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DA05-719D-4D7A-9DEB-A44EA98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9326-D955-4445-A6D4-7A7DD081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47D-E5E7-436B-9569-C2A0224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4E98-DF1A-4F14-9A4B-7A1B0E54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D06A-D8A7-481C-99E4-9AE1C54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68B1-D166-4590-AF08-AF1DC374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827FD-533B-4759-9F26-B611670B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86512-2CBB-4135-80F4-710B71B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C9D1-572B-494D-881C-09BEA59E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3774-2EF5-4B1B-B176-D3F2540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41C0C-F223-413A-851D-711E23F8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2E93-FCE1-4D19-BB30-D9334DF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F2950-F8C3-4260-A95B-1EFEAFC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D06-E8A8-4727-A969-58138B0903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88DEA04B-7C56-4CAF-A81E-1C19A57A8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4B1-E2FC-489D-9FBC-87A4F9666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D728-E36D-4D70-BC6B-8E6CC16CF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7A9-F5E1-48CA-A56B-712DEEDCD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529-EA23-4996-9D79-CDC7D48C7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AF1-320D-4976-AB67-54F05A971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2FD-1C30-4EC3-8356-ED46F005D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885E-2328-4069-A141-C6ABDDD1E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59FE-0D1A-4D60-9C68-D1D615F73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F44-6759-4E60-B6C1-B68F8E49F5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06A9-C60B-43F9-B9AC-16ABB402B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51B9-AEA8-4D4C-83E8-F420A4211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82F-0115-4E3A-B034-F4C6CCCAA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8B53-80F6-482C-946F-47DA22DB8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059-C878-4066-81D0-EE6D06ED1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DCA-ADB7-4BA8-9EA6-F9A10C368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15E-5CA9-4411-A428-2CF20997C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DE5-5A91-43C4-97E0-716136D80C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6EAC-DA1D-4851-BB0A-6A52C5C1B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ABC1-F127-453E-BCA3-0CF18F9A8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113-A7DF-4CEC-9980-F4EDD1571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0B31-1927-4299-A923-20BDDA02D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46B-8E32-4D32-90EC-AA3493347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bruary  2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EDC4-07C7-470C-9A5A-DE930ACC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 of the PGDTF in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on January  11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Draft GMD Planning PGRR and Provided Comments to ERC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National and State Activities Related to GM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Update to Procedure  Manua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iscussed Development of Procedures for GMD Vulnerability Assessmen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cument GMD Planning Responsibilities in the Planning Guide for June 2017 BOD Meeting (NERC Standard R1) To Meet 7/1/2017 NERC Enforcement Da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GIC System Model for Geomagnetic Disturbance (GMD) Vulnerability Assessment (NERC Standard R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se GIC System Model Procedure Manu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Meet in Febr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2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469-A08E-4656-9595-9242F73B9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hedule for Creating GIC System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/31/2016 – TSP Data for 345 kV System Based on 2021 Summer Peak Case Released on 10/15/2016 Provided to ERC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/31/2017 – TSP Data for 138 kV and 69 kV Systems and Update to 345 kV System Data Based on 2021 Summer Peak Case Released on 10/15/2016 Due to ERC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/31/2017 – REs’ Updated RARF with GIC System Model Data Due to ERC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/1/2017 – ERCOT Provides First Pass of GIC System Model for Review to TSPs and 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/1/2017 – TSPs and REs Provide Changes to GIC System Model to ERC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equent Model Review Passes Will be Scheduled a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/1/2018 – Complete 2021 Summer Peak and 2021 Minimum GIC System Models Using July 2017 SSWG 2021 Summer Peak and 2021 Minimum Base C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2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9EC-8B8A-4073-A412-7956D0E9B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A4D-7219-4D78-BC00-88A952480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2/2/2017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Oncor</cp:lastModifiedBy>
  <dcterms:modified xsi:type="dcterms:W3CDTF">2017-01-26T15:03:31Z</dcterms:modified>
  <cp:revision>213</cp:revision>
  <dc:subject/>
  <dc:title>PGDTF Update to ROS</dc:title>
</cp:coreProperties>
</file>