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DFF6-2E06-4012-8060-F673CA878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04F4-DA61-403A-A330-10C5EEF68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AD14-E3E4-444D-AA8A-EC00ECD9E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9631-D5EC-4919-81D2-89C224AD5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D6D4-C71A-4676-825A-73F2E408C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0DA5-C976-4749-BC12-D49AB5643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E326-2F1F-4051-B6FE-4EFEF2DE1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28E2-07F8-4463-A9D6-B5229A41D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1B28-5F42-47BB-BDCD-DF8E7D2B7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410F-C820-4199-9B1D-78DD904C5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2AA7-0780-4688-A025-6BD4DE873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3234-03C2-401B-B08A-D582814A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BB6-76C4-4FC3-AD19-D4B515D3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9EB-84B3-4ECF-8BA4-2BA7AE9F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2C60-43B2-461E-99E5-0CA4875C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172E-A820-4024-AD0F-8FEBC91C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B411-0103-4DAD-934B-1A89937A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E4C2-3C51-494C-B9C6-B799DD67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A0AD-3EA7-42F6-B21F-EFADDC04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B0F7-F29C-4493-AABF-6D96E39C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F2F5-6ABC-4A01-A9FE-8FF59628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CC38-F004-4D98-9F3A-01965C71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12A-AA4E-4FE2-B132-4894572A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2284-2C99-4EF7-B992-FD803243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6E5C-9738-437D-BC28-C9DE44E4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89A5-D3AF-4ECC-AF04-F8FFA46F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C222-6B28-4FCB-8215-5CECB0D3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FAB0-8856-4940-BFE5-9543CA62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5CBBE-CDCF-4109-8C7A-ADF7D2E5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7DDC0-126F-49CE-8585-EE8AB5A2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3C3F-ACE5-472F-84EF-F97DBB24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EB8A-B4B3-4129-9D25-0C1E64A7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69743-501B-4BBC-9CAD-5C037B9B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21D8-B803-48B7-A4F7-2BC67315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0722-951E-4852-8024-59AD398D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DC042-B178-4BEA-9127-01F2DB40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F0724-5BC3-4E93-91DB-C0CBD88D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E8427-EB92-45CE-A923-A0F15EB9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B7396-04F1-4727-B9A2-F6986466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CF0C0-9D49-4519-9655-859FEA68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2D885-71BC-4E6E-A7AC-47C450BA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A52B0-3001-44DB-995A-3AF8D810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646B8-5A2E-4043-B2C7-33FFF37F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D6FBF-4A73-41CA-AD2A-69B59D9C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DFF-53D7-4150-87D9-9C25BFD8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9A896-ACF9-4316-98AD-B80B591B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50774-6564-41A1-BBC4-B89FF552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71482-68CA-4EAB-9037-174437A4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E0D2D-5909-4B69-9F9F-C4A0B3E3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B98C5-1409-4648-A69E-47180AAC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02250-6124-403C-98DB-3CCC12DB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63EE8-F198-44FC-9A0F-6283A33A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DB1B8-BA44-4493-A6A4-C3CC4CBB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FBD7C-9CD8-4918-827B-47AC8AB7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19B81-A248-4E41-B333-1808947D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242-1629-479D-881D-7189D9C7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CAAAE-C492-44D6-9673-42A81D86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F592A-1E77-4DFE-A0E5-08BD3D29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44052-5923-43DF-877A-A8AF3915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72684-4672-401A-B557-794384A1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800A9-D8E3-43B1-B7C2-20130278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09FB1-3A98-46F5-A426-86AD2D29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4C902-4C39-4B9A-9D56-2DD73D31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80C14-5E3E-41D0-ABAB-B5DECF01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3AFDB-73D1-43AA-B056-785FF65E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187C0-CE0E-4997-AFC2-00F8C7C5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ACA-C66A-4A00-A22B-A0C52106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A6D64-7A7A-42F1-8113-38BE3728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DAFAC-0E33-4EDE-837B-DF86A630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7F061-3C75-4D15-AEA2-5D59FA91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2AC67-A1C8-4C80-A626-D0451B54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830E9-0ECD-4210-BD5C-65ACE0B5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728AA-8CF9-4A53-9B15-7C001695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6FA9E-9E35-4B0F-8DE2-DE6BD1E0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9270D-60DB-469A-8A9A-8732E795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A309F-04E9-4A23-A147-9B72BAE0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B8A62-CB8F-453A-ADDB-0F688D12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150-DB29-4231-B7B0-E3549FE4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1BF88-0C25-4C5E-A78D-39A84114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0A807-F09B-4A17-844D-CE9D4D97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59053-BB2B-419E-A0EC-316E3D99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146F8-D0AE-4353-A09D-73E38575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B6D9B-BCCA-4D1C-A6F6-B31BDD96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67226-7B72-4BFB-9D70-B7572AE7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76C0D-F3E8-4453-8BDB-4B328B90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229AB-3948-4D41-A2D4-F52E136A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33B35-EF7A-425A-9901-FFA9EACA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2FAD0-C31C-4BEE-B33C-400B87DE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1F0-9426-415F-8374-3078ACAA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30B0C-6350-4284-8B1F-27BCC8E7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19C08-12E8-4620-A293-A98254B3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B6E8C-C5E4-448E-B6E0-A098220F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D3873-004C-4741-AF82-5B00D315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33505-241F-42B5-84FE-A4117DD3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AB3-B290-4CC7-AE9A-E2AB88F7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F937-47B5-4335-A169-96EC0608FD6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4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62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79CB-2F21-47F9-979C-61B387C5959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B32A-8620-462B-ABED-EEAAD7321B7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409A-7B29-4670-91A6-AC487B7CE28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5C42-CEA3-4B95-9F06-37DEF7519E5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917E-5E94-4708-B3BA-AA388030EE5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80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3CF5-BF35-457F-A8F9-CC442052608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0" y="2114280"/>
            <a:ext cx="6657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January 10,  2017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Retail Market Subcommittee (RMS)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Update to TAC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361960" y="327636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6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ABDB-5884-409B-9B2B-2EEA98AC720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-114480"/>
            <a:ext cx="80010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Other Business”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143000" y="9144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gital Certification Renewal Process Discus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http://ercot.com/content/wcm/key_documents_lists/108470/18._Digital_Certificates_Renewal_process.ppt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ction Item: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975960" indent="-15408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RCOT will take RMS discussions and/or suggestions internally to determine what items can be streamlined or identify potential system improvements that may require an SCR.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take 2 months for ERCOT to complete their investigations and planned to provide feedback to RMS and other Stakeholders.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975960" indent="-15408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MS suggested that ERCOT develop online training modules that includes some tips and tricks to assist Market Participants and/or their USA’s with creating,  renewing and/or canceling their DUNS’ Digital Certificat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6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0A91-8E78-4A9D-8548-194D64B5C09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0"/>
            <a:ext cx="929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49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D8E2-577B-4E63-A904-2562FA534A4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6,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7" descr="C:\Users\00015621\AppData\Local\Microsoft\Windows\Temporary Internet Files\Content.IE5\M2YDF2H6\passe-compose-ou-imparfait-grammaire-bdf-19[1].jpg"/>
          <p:cNvPicPr/>
          <p:nvPr/>
        </p:nvPicPr>
        <p:blipFill>
          <a:blip r:embed="rId1"/>
          <a:stretch/>
        </p:blipFill>
        <p:spPr>
          <a:xfrm>
            <a:off x="1854360" y="990720"/>
            <a:ext cx="5918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-766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72314"/>
                </a:solidFill>
                <a:latin typeface="Gill Sans MT"/>
              </a:rPr>
              <a:t>Technical Advisory Committee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D498-D26B-4E00-9B1A-7B337CEE719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6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6" descr="C:\Users\00015621\AppData\Local\Microsoft\Windows\Temporary Internet Files\Content.IE5\XVT3PF63\2013-happy-new-year-wallpapers-15[1].jpg"/>
          <p:cNvPicPr/>
          <p:nvPr/>
        </p:nvPicPr>
        <p:blipFill>
          <a:blip r:embed="rId1"/>
          <a:stretch/>
        </p:blipFill>
        <p:spPr>
          <a:xfrm>
            <a:off x="990720" y="7621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RMS Leadership and Accomplishments </a:t>
            </a: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Election of 2017 RMS Chair and Vice Chair (Vot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Kathy Scott  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–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CenterPoint Energy - Chai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Rebecca Reed Zerwas 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–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RERS 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–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 Vice Chai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2016 RMS Goals &amp; Accomplishments Report Ca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11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6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1963-5997-43C1-8D1B-1937C3EEB21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2"/>
          <p:cNvGraphicFramePr/>
          <p:nvPr/>
        </p:nvGraphicFramePr>
        <p:xfrm>
          <a:off x="4191120" y="4952880"/>
          <a:ext cx="914400" cy="7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9528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New Revision Requests (Vote)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RMGRR144, Elimination of REP-Specific Switch Hold Li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Retail Market Guide Revision Request (RMGRR) eliminates the requirement for Transmission and/or Distribution Service Providers (TDSPs) to maintain a secure list by Retail Electric Provider (REP) Data Universal Numbering Systems (DUNS) of all Electric Service Identifiers (ESI IDs) with switch hol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TX SET recommended Approval of RMGRR144 during SET’s leadership’s update to R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Motion to Approve was Unanim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pact Analysis (IA) will return to RMS on 2/7/17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6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0606-A8E4-4174-A4A1-907FF89DCFF5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ERCOT Updates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light 0217 Schedu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light 0217 signup begins 01/11/1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light 0217 signup deadline is 01/18/17 (Adhoc, 02/24/17 for Current MPs Only,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ubject to Flight Administrator and TDSPs’ Approva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nectivity testing begins 01/24/1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y 1 transactions begin 02/13/1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light 0217 is scheduled to conclude on 02/24/17 (Contingency/Adhoc Period until 04/07/17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mulated (SIM) Dates will not be used in Flight 021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light 0217 Adhoc Schedu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hoc signup deadline is 02/24/1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hoc connectivity testing begins 02/27/1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hoc testing begins no later than 03/24/1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 scripts to be completed by 04/07/1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6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5908-B496-4508-A5D3-91909C3EBB1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ERCOT Updates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COT LSE Activity Report &amp; Error Code Updates Associated with implementing NPRR753 &amp; RMGRR134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This Project is scheduled for ERCOT’s Release 1 implementation on March 7-9, 2017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http://ercot.com/content/wcm/key_documents_lists/108470/08._867_03_Error_Codes_Document_v1.2.xl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http://ercot.com/content/wcm/key_documents_lists/108470/08._Interval_Data_LSE_Activity_Report_v1.2.xl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http://ercot.com/content/wcm/key_documents_lists/108470/08._Interval_Data_LSE_Error_Codes_v1.3.xl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http://ercot.com/content/wcm/key_documents_lists/108470/08._TDSPReadGeneration_Formv4.1.xl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6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7636-9E91-48C0-AA7B-CE6A3E7C62E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26"/>
          <p:cNvGraphicFramePr/>
          <p:nvPr/>
        </p:nvGraphicFramePr>
        <p:xfrm>
          <a:off x="4495680" y="2666880"/>
          <a:ext cx="838440" cy="7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666880"/>
                    <a:ext cx="8384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27"/>
          <p:cNvGraphicFramePr/>
          <p:nvPr/>
        </p:nvGraphicFramePr>
        <p:xfrm>
          <a:off x="4572000" y="4713120"/>
          <a:ext cx="838080" cy="70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713120"/>
                    <a:ext cx="83808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28"/>
          <p:cNvGraphicFramePr/>
          <p:nvPr/>
        </p:nvGraphicFramePr>
        <p:xfrm>
          <a:off x="4572000" y="3657600"/>
          <a:ext cx="733320" cy="619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64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657600"/>
                    <a:ext cx="7333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29"/>
          <p:cNvGraphicFramePr/>
          <p:nvPr/>
        </p:nvGraphicFramePr>
        <p:xfrm>
          <a:off x="4724280" y="5715000"/>
          <a:ext cx="685800" cy="577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66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5715000"/>
                    <a:ext cx="6858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Working Group/Taskforces Updat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1440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26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etail Market Training Taskforce (RMTTF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1560" indent="-189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pcoming Retail Instructor Led Cla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960" indent="-226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AUSTIN 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Georgetown Library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037520" indent="-14580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tail 101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uesday,     January 31, 20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037520" indent="-14580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keTrak  101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ednesday,   February 1, 20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91960" indent="-226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   </a:t>
            </a: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  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DALLAS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Oncor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037520" indent="-14580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tail 101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Wednesday,  May 3, 20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037520" indent="-14580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advertent Gain Training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ursday,  May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2017 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91960" indent="-226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HOUSTON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CenterPoint Energy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037520" indent="-14580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tail 101 -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uesday, September 26, 20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037520" indent="-14580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advertent Gain Training -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ednesday, September 27,  2017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91960" indent="-226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587 Market Participant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ave reviewed or completed the online modules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91960" indent="-226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Gill Sans MT"/>
              </a:rPr>
              <a:t>Largest ERCOT Training participation of any instructor led training course with over 500 Market Participants attending either in person or via WebEx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11560" indent="-189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Gill Sans MT"/>
              </a:rPr>
              <a:t>RETAIL 101 – 341 attendees (3 classe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11560" indent="-189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Gill Sans MT"/>
              </a:rPr>
              <a:t>MarkeTrak 101 – 157 attendees (2 classe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11560" indent="-189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11560" indent="-189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7387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525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6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50A7-9E7D-4590-8593-D6759FF1F2B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Working Group/Taskforces Updat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dvanced Metering Working Group (AMWG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AMSR Cycle Read Analysis – LSE vs. 867_03 Month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ope limited to July AMSR Cycle Reads where the kWh delta was greater than +/- 500 kW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963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ESI IDs identifi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937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ESI IDs root cause determin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6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ESI IDs still under investig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6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759B-AC85-4BA9-B5C3-B576C7288F6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"/>
          <p:cNvPicPr/>
          <p:nvPr/>
        </p:nvPicPr>
        <p:blipFill>
          <a:blip r:embed="rId1"/>
          <a:stretch/>
        </p:blipFill>
        <p:spPr>
          <a:xfrm>
            <a:off x="1600200" y="3962520"/>
            <a:ext cx="70866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90720" y="9140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-228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SMT Statistics  Year to Year Comparison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8686800" y="63244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AD26-3B95-4B15-B096-1355EFEDF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6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PUCT Projects to Monitor in 2017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Gill Sans MT"/>
              </a:rPr>
              <a:t>Project 42786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view of Advanced Metering System Web Portal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Gill Sans MT"/>
              </a:rPr>
              <a:t>Project 46206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ulemaking Regarding Governance, Performance, and Funding of Smart Meter Texa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650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Gill Sans MT"/>
              </a:rPr>
              <a:t>Project 46204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ulemaking Regarding Third Party Authorization to Access Smart Meter Texas Dat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650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26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68D2-C7E2-41CF-A02D-3B2F8E125FC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Kathy Scott </cp:lastModifiedBy>
  <dcterms:modified xsi:type="dcterms:W3CDTF">2017-01-23T21:56:40Z</dcterms:modified>
  <cp:revision>1638</cp:revision>
  <dc:subject/>
  <dc:title>Instructions</dc:title>
</cp:coreProperties>
</file>