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23BEC-6FFC-4551-8B92-8BA9E8BC5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77E51-9FE1-4894-9A99-58E1B74F9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1949F-2BE8-4BAE-9D0C-CD1D41C95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B88DD-DB8E-49C1-9085-BC2B1548A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1226B-8346-4DF8-94B7-A428810B8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3BF95-FED8-4F80-8FD3-CAD6E5A89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646-E743-48E9-981A-EA7544CE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DD9-A1B4-4EE9-BA5C-814DB781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A4EDD-C054-4FDE-878C-5D48A996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AB785-88A8-4B60-BFA4-D9ADC80D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73442-CBD6-4405-AC4B-4B37C10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F3A35-623C-4830-AA48-C5D7D77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BD212-7C7C-4E1B-BC54-902EA9D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7C794-90C8-42D9-8774-A6FF498C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E5E55-4B44-4B50-B386-44132E99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DD92D-629A-492C-A9FD-E2D6B1B7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1A1F3-6FD7-4162-B1E7-E57368FB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1F3F0-6A3F-4DA2-AED0-807C90A4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DA4-67D8-42F3-ADF4-99C18C1F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C9730-1EE6-4BE4-BF13-26B7540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A375A-61A8-4871-B16B-B2FD8456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147B14-A6C6-4342-9DDE-42C533B3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3BBE00-EB72-460B-893D-85779D6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82DAB-8DB9-4591-A2DB-FF54D15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7C3F5-11E3-467B-B0E8-ABB27C7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829C50-F856-486F-9A80-8B4B6FB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2B484-8DAA-45AC-8630-FABD62C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C5CEE-E15D-45E8-8540-61958229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3C7DA-A3E4-40A4-A378-4326067F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744-36C2-43BB-80F4-2B3F7F71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0182B9-9A5B-4F5B-B50F-404ACF70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96A7-6AB4-4951-AD25-81A45F46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2B3-BA3C-4467-B325-67E0E1E6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AB88-842B-4262-A752-3A27F2C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827-4FFA-4900-89D7-1DD5C75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CC3-DE69-4C4B-8EE2-5DBB02E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7D5-4D28-4626-86D8-318A036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60A-561D-43E9-9BEB-66F25B5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B0A-0BA7-4F0E-B0E1-48B934A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EB6-65DF-4B51-9288-DBDAC7FD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52A-851D-44C4-861C-94289BC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0FEE-4D8C-427C-9B51-33C61600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A23-3CE4-4526-8F6F-E4C7D73A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8134-A4E4-4CD8-99AF-62332D19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BB6-2CD7-472A-8A82-1495C64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49E-2E97-4FA4-B050-192DBB0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8472D-5080-469E-A149-2381E269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2B9-F15F-4853-8C08-2D91EE1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E729F-D9D6-4B0B-A897-113DAED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E918D-7804-42FA-891B-BE30D3F8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61E55-0909-404A-8EA0-904316B0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23F2F-FAC6-4EFF-A1D1-7E8C957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87859-AA70-411F-AE27-E91AAB3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51B60-B486-45B1-8DDE-8EEF7EC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74A55-2B62-4E20-9018-1C1AAFA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60ADF-D06F-4E1D-93BA-9A6CDE59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DCEA8-F915-4122-AC14-BDCB276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D54D3-00C7-488D-A80D-23472110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339-108F-4EEC-94BD-EAC77F1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95104-3ED6-4EAA-848D-C39404AC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0016B-9099-46FC-875E-1ED3CD6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83AE4-AB56-463E-92CB-307BA33A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FAC4D-2DD8-46FB-8383-00A158F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B062B-FC48-44A8-B347-BBA74D4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B6535-180D-418A-A3EE-9A62C983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66749-6D44-400C-8894-7F24D17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5166E-760B-44AD-A087-44B3070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B6711-9612-4C4F-948E-3F4AF74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53C16-644B-4073-A62E-545015E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FD8-5DA1-4F24-AE29-77A1F75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47266-A5B0-4959-8423-5CF6055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88163-4083-407C-B5B4-802D83EF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E7F08-EFF3-4642-BD5E-0877E792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8E4EE-2EBD-4D29-9567-A61F05EF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0DD9D-78A1-40A4-BBE8-66E0CADE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F4C2E-2FA8-44AD-B17A-257A9A5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B32C4-6DAA-4BA0-895D-632BE3B7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CFAFA-7FEE-443C-B6B5-B453EC17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5F099-2E10-44E3-92D1-A07AACB8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04FE3-F082-4BB4-8F2F-83B8BD7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696-CF8D-49C2-A2F8-672F464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B41D1-4AC4-49F9-ABF2-B7B82C9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68196-C25A-48F8-9340-F8D9BE2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CD7DF-6EB0-4362-8D82-3AAEF0F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325B7-49A0-4675-918B-50C1D4C5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83FF5-5647-45A5-A016-9D73D78F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16110-F8F5-405D-98CD-024E3C51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7C0E2-E8F3-4BC5-A40D-D1F67F0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A2F0C-9DDD-4532-823A-98E59F8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A5175-79BC-4265-A527-2A109A5C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0C390-6A96-4637-8FE4-6A3427AC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2ED-C221-46A2-ACBC-6B72C5C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97C84-CFA8-44AA-9C64-23398AF9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99AF2-18BA-4D69-B23A-A4D83C5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12B3C-81C0-4AE1-BE7C-830A6CE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0F1D5-7B7E-4507-B9DA-33F52D5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99520-4B77-4448-BA56-C8370C7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F077C-EDB5-4D28-9346-957FAB70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891B5-442A-4670-B026-1E46FDA8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D76D1-72BF-4C4A-9527-7BB4C8E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E45DB-5796-4BBA-A497-83DBA844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96A55-4DAD-413C-8C02-05DE6DB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689EA-D669-4617-B1D4-6C37078AA00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9F37C-2476-49A5-BE47-EC65D62E8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4506B-0996-40F4-A6C8-4769F38C261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6B50F-01CB-405A-9CFF-2B93EDA77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8D631-1395-42ED-A68C-6461F2656F9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1745C-2DDB-4F70-A98E-8608D6539C3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1A1B8-E4CC-4183-AEF0-323CCE0B27E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1AFA7-ECD4-4E21-A6C3-DCCED7BB1CA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D5745-6598-4549-9FB7-F0713D4087D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C59A9-EE41-4E89-AABF-0F32B29CD5C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F7E4D-DB05-4185-B9CF-A60622E1362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C22A1-D322-4F12-B282-4B1F32FF909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893D7-0373-4FC9-912E-6E4BBBD8652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EB15-CE38-47E8-880F-A5826D816B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9B14F-7A0C-4BA9-BE1B-BB85960A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anuary 26th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712D5-2185-4448-BC5F-798A975BEF5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7E22C-F4FA-448F-B767-714337FF7B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B9B77-6846-4766-83D0-172AA7359CB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E32FA-FE85-42F3-8419-381F912189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38A76-4EDD-41CD-A4D4-3735F4568EE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8E5CA-19C4-4495-A141-2A58C5A5A7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12858-9F88-4022-AF41-E061AEC71C9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634A6-DE63-4EEA-AEC5-3E5AA821D4CA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5D086-3B1A-483B-A391-4064DE95C38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62DEA-F843-43D8-A164-8380A49D0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A967B-8541-4C9A-8424-5E250823C2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anuary 1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ebruary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A70D0-B8FB-4C84-BB57-94F2983720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08 – Three Year CRR Au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2/6/16 Morgan Stanley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04 – Remove Posting Requirement for One Line Diagra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as amended by WMS with changes to the cover page and 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00 – Revisions to Credit Exposure Calculations to Use Electricity Futures Market Pr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1/16/16 Credit Working Group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36226-338B-4E88-94F7-1ED04B4364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Assignment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2% Resettlement Rul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was asked to evaluate the 2% threshold for appropriateness with regards to market resettl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aiting to understand what COPS/CSWG determi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10FB1-E5A3-465C-8407-FD848F2253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2017 WMS Leadership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hai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eremy Carpenter – Tenaska Power Ser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ice-Chai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avid Kee – CPS Energ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6TH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CD54-A7AA-4B3D-8BB0-DD6E45114D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1-16T19:41:06Z</dcterms:modified>
  <cp:revision>89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