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D337D-C306-4422-9757-F21E86D0C4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727D5-1868-490E-B8A5-D5272F28B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12C62-50F9-4F04-8FB2-AE63A47D9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60B04-3C60-49E3-83C8-7E0527267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D963E-C821-498B-8E46-ECAC9D199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A30B7-0054-4915-A031-D6301BC0F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E81A6-EA3F-4B3A-8226-9524BC343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5CB31-834B-4386-A5A5-25AF0C19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C72FE-1730-4FC2-9AF3-282AC8A3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B59E5-BB04-4E35-877B-C00E2240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187F-BAA3-46AA-8942-2C415EF13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7EC8-A692-42F4-8ED1-11CD86CCE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1C9E9-8C0F-4D45-9C1E-E32FE870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5DCA-67A5-4E5B-ACC0-42594FC2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6A9A-C91D-4B98-BDBF-E9728C20C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2CD5B-E89C-4A1B-89C5-59E4C9F484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C7A5D-1039-49DA-88C2-3A6729FE0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25F1B-14FA-485F-AA87-41F38504A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7: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nuary 26,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4, Relocation of Unregistered DG Repor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5, Clarification for Multi-Month CRR Auction Offe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6, Clarification for Designation of Capacity or Refund PC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7 PRS Leadership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ir:  Martha Henson, Oncor</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ice Chair: </a:t>
            </a:r>
            <a:r>
              <a:rPr b="0" lang="en-US" sz="2000" spc="-1" strike="noStrike">
                <a:solidFill>
                  <a:srgbClr val="000000"/>
                </a:solidFill>
                <a:latin typeface="Arial"/>
              </a:rPr>
              <a:t>	</a:t>
            </a:r>
            <a:r>
              <a:rPr b="0" lang="en-US" sz="2000" spc="-1" strike="noStrike">
                <a:solidFill>
                  <a:srgbClr val="000000"/>
                </a:solidFill>
                <a:latin typeface="Arial"/>
              </a:rPr>
              <a:t>Diana Coleman, OPUC</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00, Revisions to Credit Exposure Calculations to Use Electricity Futures Market Prices – URGENT</a:t>
            </a:r>
            <a:endParaRPr b="0" lang="en-US" sz="2000" spc="-1" strike="noStrike">
              <a:solidFill>
                <a:srgbClr val="000000"/>
              </a:solidFill>
              <a:latin typeface="Arial"/>
            </a:endParaRPr>
          </a:p>
        </p:txBody>
      </p:sp>
      <p:graphicFrame>
        <p:nvGraphicFramePr>
          <p:cNvPr id="177" name=""/>
          <p:cNvGraphicFramePr/>
          <p:nvPr/>
        </p:nvGraphicFramePr>
        <p:xfrm>
          <a:off x="285840" y="830160"/>
          <a:ext cx="8585280" cy="5456520"/>
        </p:xfrm>
        <a:graphic>
          <a:graphicData uri="http://schemas.openxmlformats.org/drawingml/2006/table">
            <a:tbl>
              <a:tblPr/>
              <a:tblGrid>
                <a:gridCol w="1245960"/>
                <a:gridCol w="733932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Nodal Protocol Revision Request (NPRR) revises the Real-Time Liability Extrapolated (RTLE) and Day-Ahead Liability Extrapolated (DALE) factors used in the Counter-Party Estimated Aggregate Liability (EAL) and Minimum Current Exposure (MCE) calculations to use electricity futures mark-to-market prices for estimating forward risk.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004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n 1/19/17, PRS voted to grant NPRR800 Urgent status.  There was one opposing vote from the Independent Generator Market Segment.  On 1/19/17, PRS voted to recommend approval of NPRR800 as amended by the 11/16/16 Credit WG comments; and to forward to TAC with a recommended priority of 2017 and rank of 1561.  There was one opposing vote from the Independent Generator Market Segmen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pon system implementation - Priority 2017; Rank 156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3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tween $150k and $250k; no impacts to ERCOT staffing; impacts to Credit Monitoring and Management (CMM), Enterprise Information Services (EIS), Market Information System (MIS), Enterprise Integration (EI), and Reports; ERCOT business processes will be updated; no impacts to ERCOT grid operations and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288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change-based electricity futures market prices are assumed to be a better indicator of forward risk than historic ERCOT market prices. Based on the past analysis in light of NPRR638, Revisions to Certain Price Components of EAL, it was observed that separation of volume and prices for forward exposure estimation could result in extreme exposure consequences as that approach may not be able to predict or consider Market Participants’ future hedging behavior under various price levels.  This NPRR continues to consider the built-in relationship of volume to prices by considering Market Participants’ historic portfolio exposure as a whole and transforms anticipated forward exposure based on publicly traded electricity futures mark-to-market prices.  Based on ERCOT’s analysis presented at the April 20, 2016 Credit WG meeting, there is a market-wide reduction in collateral requirements of approximately $20 million to $70 million under certain assumptions and limit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4, Relocation of Unregistered DG Reporting Requirements [ERCOT]</a:t>
            </a:r>
            <a:endParaRPr b="0" lang="en-US" sz="1800" spc="-1" strike="noStrike">
              <a:solidFill>
                <a:srgbClr val="000000"/>
              </a:solidFill>
              <a:latin typeface="Arial"/>
            </a:endParaRPr>
          </a:p>
        </p:txBody>
      </p:sp>
      <p:sp>
        <p:nvSpPr>
          <p:cNvPr id="180"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 conjunction with Commercial Operations Market Guide Revision Request (COPMGRR) 044, Alignment with NPRR794, Relocation of Unregistered DG Reporting Requirements, relocates unregistered Distributed Generation (DG) reporting requirements from the Commercial Operations Market Guide to the Protoco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794 as amended by the 9/16/16 ERCOT comments.  On 12/1/16, PRS unanimously voted to endorse and forward to TAC the 11/10/16 PRS Report and Impact Analysis for NPRR7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5, Clarification for Multi-Month CRR Auction Offers [ERCOT]</a:t>
            </a:r>
            <a:endParaRPr b="0" lang="en-US" sz="1800" spc="-1" strike="noStrike">
              <a:solidFill>
                <a:srgbClr val="000000"/>
              </a:solidFill>
              <a:latin typeface="Arial"/>
            </a:endParaRPr>
          </a:p>
        </p:txBody>
      </p:sp>
      <p:sp>
        <p:nvSpPr>
          <p:cNvPr id="182"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e criteria for Congestion Revenue Right (CRR) offers that are submitted by CRR Account Holders for CRR Auctions that are part of a CRR Long-Term Auction Sequence.  Specifically, it makes clear that CRR Account Holders are able to submit multi-month CRR offers for those auctions as long as the months are all consecutive, are within the period covered by the auction, and are months in which the CRR Account Holder has ownership of the CR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5 as submitted.  On 12/1/16, PRS unanimously voted to endorse and forward to TAC the 11/10/16 PRS Report and Impact Analysis for NPRR8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6, Clarification for Designation of Capacity or Refund PCRRs [ERCOT]</a:t>
            </a:r>
            <a:endParaRPr b="0" lang="en-US" sz="1800" spc="-1" strike="noStrike">
              <a:solidFill>
                <a:srgbClr val="000000"/>
              </a:solidFill>
              <a:latin typeface="Arial"/>
            </a:endParaRPr>
          </a:p>
        </p:txBody>
      </p:sp>
      <p:sp>
        <p:nvSpPr>
          <p:cNvPr id="184"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how Non-Opt-In Entities (NOIEs) are to designate whether they want to accept the refund option or the capacity option for their Pre-Assigned Congestion Revenue Right (PCRR)-eligible Resources. Specifically, it makes clear that the choice of refund or capacity is for the entire PCRR allocation year for each eligible Resource. NOIEs cannot select one option (refund or capacity) for some months of the year and the other option for the remaining month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0/16, PRS unanimously voted to recommend approval of NPRR806 as submitted.  On 12/1/16, PRS unanimously voted to endorse and forward to TAC the 11/10/16 PRS Report and Impact Analysis for NPRR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1-19T20:54:56Z</dcterms:modified>
  <cp:revision>33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