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2.png" ContentType="image/png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B803-BE92-4B4F-95A2-EA952199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3657-5025-468F-B260-78E84880B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E2E1-76E3-4E2C-B9F3-B56531CC3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6E3E-D9C7-4551-9E15-EC1498244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871-10DD-40C1-9355-04BF41CE9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ABEF-90E1-4FA8-B2E8-2C30821A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6233-9FAC-4382-943A-06DA3A28E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F528-8C1B-4C23-A3AE-E1726D7DA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BAA7-3F46-4B10-9077-249A825A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3B1B-5C2C-472F-8F49-DFA9B98A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FA75-B808-43EE-AB25-F882EC8A0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925B-B0B9-4295-9FED-BA1CC488C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9237-9383-4947-9025-CE9E89A1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D955-810D-4CF6-9C1C-1CEAE5A7C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103-B9BA-4B2D-86AA-12DE4940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025-0BE3-4710-AB3C-5F16CBCF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60E-02F3-443E-934D-57DA0A50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8E0-3690-446E-84C8-6A9D5C92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248E-B8C4-4E10-9FDA-D71816C6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1797-E274-4D77-A7FD-7AC558E0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1B1A-F617-4594-99B9-8A570E81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5FC0-74FB-4B84-86AD-C0C0D5C8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75AD-5321-4D08-B1E4-F864DD8E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079C-98A9-43A4-8AC0-740AE05A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7808-D8E4-4E2D-BE82-0239B9D7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D69-E041-453C-A1CB-B20ADCCE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8E02-1DD3-435E-9D78-56DF4754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1D3C-302D-4002-9FA4-ECBFAB2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DB54-B8EE-478D-B3E8-EB6D5206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0BFF-20D4-4FD8-96BD-71E5BACC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975C-2C99-43AF-96A4-72215B18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9221C-F3B4-4DD7-B8D9-71CEE6D3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CFC2-3E8E-4527-8251-698A70F4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7659-FFEF-442D-89CE-C9CD3F9B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503A-E28B-4476-97CC-259F0A82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ED20-D2BB-4DB2-8B94-67D061D7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8C2-0531-4822-B653-76CFF5E1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783E-3ADE-426D-8BAB-B919C497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C06D-55EC-41ED-B62B-0FC1BCC3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001BD-CA95-4384-8900-22D57D0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9DB0-CF75-4E72-9352-0A688EF9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B314-AACB-46EE-BBDB-0FD6A902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1666C-53E4-4E9F-A9B1-3124A555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61FE-2B96-4EA0-80BC-D8E1C08D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D9E8A-0AA0-4888-A49D-014DAFB8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6E85-C61E-4548-8B32-B44489E2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5A22-AAAE-4765-AB63-3E573E75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7B6-EB43-4BF4-BB85-217893C2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B4326-E4BE-405D-9283-FA0D7EA7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49AE-881E-48CC-9309-11911A4D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E94E-9CCC-4DD8-8AF3-351DA9B2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E6EFC-928B-4703-8CAC-40729843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FC48-E9B1-4430-BF04-5695BBD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5611-1B21-4600-B960-FFFB8E2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2ADD-63F8-4F89-BF9E-CB11C165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00D2-1007-41F8-9F17-2A4497C5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4BEB-A71D-480A-AFB8-F675B2D5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CBE4C-AEB4-4ACB-B8BD-D51A0349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BA1-7055-4D4E-9512-FAFD9305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2CF1F-58EC-4A3A-8C75-1BC5B368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B20C5-A729-43D0-B384-E79D83FC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AD3B8-4D7F-495D-8C9F-EBBBB440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29D9-C4AF-43D6-B217-EBE1C748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BBEBD-55A6-4B5E-8D5B-C3460D8D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0C65-68DB-44E4-8BCF-AC7F4046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70349-0FA7-4628-ACEB-4AF66A23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8ADB-5414-4673-9028-2FB8173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DE5BF-BB10-4EA9-B29B-9989E0D3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6B80-7E04-4902-8F3E-D9C3B6E2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0B3-A1F3-4440-8075-F9A540A2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FAA0C-95A6-49E8-A425-C733279A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0DB0C-3699-4EA3-87BC-D839001C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B81B-F756-4BB9-BA19-FE94C401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0A912-3824-4F7D-8BC1-D13C02ED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0E6A5-161C-48FD-9E9F-187C57C4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26542-B842-4CAE-8FD8-B1531768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5E304-389F-468C-B8A2-A5B35DCF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1100-D2CF-4DF7-8DFF-C332B15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30BE8-7B39-4B1E-A4E3-0F837EC8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38BD1-2ECC-4158-ACBD-6C58B5A5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1EB-6C6F-49AB-9DED-8B70A9C2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8A31E-6AFB-497D-8D4B-0CB54124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47600-0E4F-4D86-AC9D-0AFAA81F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DCF4-059E-4D6A-9912-E5B30F87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E546-74B2-43EB-8BC0-69AAEE72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4B1BB-012D-4679-BBEC-609F1B56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E1F88-8916-4295-918E-FE6ABCF9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1E187-9C1F-4CA3-A5E8-0DFF8E3D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3DEB6-FD06-4D19-8E04-0982E3D0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DFC0-8F71-4FF7-8637-61BCFD67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656EB-5564-4B07-A573-B1EA7A7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1C0-7BA8-4A05-B351-8843017A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21446-ED34-44B7-9F54-43ECCC1F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77423-46EC-420B-A3AD-0FE1A821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EC576-626D-4E26-A534-7BD392AA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5D4CC-EEB6-4617-888B-D0F84708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3D8F1-8752-43CC-822A-5AAE7413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C37-2FA4-412E-921A-98255F4B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C14-4067-49BD-867E-1954702A9F0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2B91-58A2-47AC-8628-16760C684D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2251-E1AD-4AF3-9D71-D9F82B735F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192D-7059-4049-A0C0-92643DA83E9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D87A-3F27-430F-9B18-8167579E2C4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D4E-41C4-410D-BF71-D1F774758E5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4B7C-6A76-44AE-873C-58E74475CC5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08470/08._Inadvertent_Stats_-_October_2016.pptx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January 10,  2017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(RMS)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COPS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044A-91A8-40AC-8E30-3E72B18767D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Working Group/Taskforces Upda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tail Market Training Taskforce (RMTTF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pcoming Retail Instructor Led Cla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AUSTIN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Georgetown Library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uesday,     January 3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keTrak 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dnesday,   February 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 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DALLAS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Oncor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ednesday,  May 3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advertent Gain Training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ursday,  May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2017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HOUSTON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CenterPoint Energy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-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uesday, September 26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037520" indent="-14580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advertent Gain Training -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dnesday, September 27,  2017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587 Market Participants have reviewed or completed the online modules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91960" indent="-226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Gill Sans MT"/>
              </a:rPr>
              <a:t>Largest ERCOT Training participation of any instructor led training course with over 500 Market Participants attending in person or via WebEx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Gill Sans MT"/>
              </a:rPr>
              <a:t>RETAIL 101 – 341 attendees (3 class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Gill Sans MT"/>
              </a:rPr>
              <a:t>MarkeTrak 101 – 157 attendees (2 class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738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525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E2B1-7869-456F-9254-FF76BB4E8B6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Working Group/Taskforces Upda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dvanced Metering Working Group (AMWG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AMSR Cycle Read Analysis – LSE vs. 867_03 Month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ope limited to July AMSR Cycle Reads where the kWh delta was greater than +/- 500 kW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963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ESI IDs identifi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937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ESI IDs root cause determin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ESI IDs still under investig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5C54-B143-4A7C-BA7D-3F1794C7E84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1600200" y="3962520"/>
            <a:ext cx="70866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907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-228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SMT Statistics  Year to Year Comparison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8686800" y="632448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CA07-C8C0-4E2B-A62F-E597D0001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2640" y="-114480"/>
            <a:ext cx="80010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Other Business”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43000" y="8380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ther Business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gital Certification Renewal Process Discus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18._Digital_Certificates_Renewal_process.ppt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ction Item: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RCOT will take RMS discussions and/or suggestions internally to determine what items can be streamlined or identify potential system improvements, which may require an SCR.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RCOT stated it may take 2 months to complete their internal investigations and planned to provide feedback to RMS.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so a suggestion was made for ERCOT to develop online training modules that includes some tips and tricks to assist Market Participants and/or  their USA’s with creating, renewing and/or canceling their Digital Certificat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0F52-37F4-46D1-8B49-D8FF4060557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0" y="0"/>
            <a:ext cx="929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4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805E-A895-4D82-82D0-C6AFF49BA49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7" descr="C:\Users\00015621\AppData\Local\Microsoft\Windows\Temporary Internet Files\Content.IE5\M2YDF2H6\passe-compose-ou-imparfait-grammaire-bdf-19[1].jpg"/>
          <p:cNvPicPr/>
          <p:nvPr/>
        </p:nvPicPr>
        <p:blipFill>
          <a:blip r:embed="rId1"/>
          <a:stretch/>
        </p:blipFill>
        <p:spPr>
          <a:xfrm>
            <a:off x="1854360" y="990720"/>
            <a:ext cx="5918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-7668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72314"/>
                </a:solidFill>
                <a:latin typeface="Gill Sans MT"/>
              </a:rPr>
              <a:t>Commercial Operations Subcommittee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6E55-9B9F-4C38-A9DF-B2A4464ABC0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6" descr="C:\Users\00015621\AppData\Local\Microsoft\Windows\Temporary Internet Files\Content.IE5\XVT3PF63\2013-happy-new-year-wallpapers-15[1].jpg"/>
          <p:cNvPicPr/>
          <p:nvPr/>
        </p:nvPicPr>
        <p:blipFill>
          <a:blip r:embed="rId1"/>
          <a:stretch/>
        </p:blipFill>
        <p:spPr>
          <a:xfrm>
            <a:off x="990720" y="7621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RMS Leadership and Accomplishments </a:t>
            </a: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lection of 2017 RMS Chair and Vice Chair (Vot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Kathy Scott 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–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CenterPoint Energy - Chai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Rebecca Reed Zerwas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–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NRG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 Vice Chai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016 RMS Goals &amp; Accomplishments Report Ca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11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54D9-548F-4B86-9BD0-C52FA784B64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4191120" y="4952880"/>
          <a:ext cx="914400" cy="7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9528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ew Revision Requests (Vote)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MGRR144, Elimination of REP-Specific Switch Hold Li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tail Market Guide Revision Request (RMGRR) eliminates the requirement for Transmission and/or Distribution Service Providers (TDSPs) to maintain a secure list by Retail Electric Provider (REP) Data Universal Numbering Systems (DUNS) of all Electric Service Identifiers (ESI IDs) with switch hol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TX SET recommended Approval of RMGRR144 during SET’s leadership’s update to 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Motion to Approve was Unanim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act Analysis (IA) will return to RMS on 2/7/17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B0C3-6658-4276-9E55-1BE655CB80D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cident Report Highlight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ervice Availability –Dece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tail Market IT systems met all SLA targe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cidents &amp; Maintenance – Dece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01/03/17 – ERCOT renewed/replaced the NAESB.ERCOT.com SSL digital certifica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o action is typically required of Market Participants for this type of certificate renew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XUE experienced errors which were resolved by downloading the new certificate and installing it into their trusted key stor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o other issues were reported by Market Participant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RCOT has traditionally sent Market Notices for this type of change, but failed to do so in this instanc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06000" indent="-16956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r future changes of this type, ERCOT will ensure that a Market Notice is s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RCOT planned to meet with TDTMS, CSWG and MDWG to develop final draft recommendations for 2017 ERCOT’s Retail and Market Transparency Service Level Agreements (SLA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D35-F31F-47AC-82EA-8EBCE675189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light 0217 Schedu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ight 0217 signup begins 01/11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ight 0217 signup deadline is 01/18/17 (Adhoc, 02/24/17 for Current MPs Only,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ubject to Flight Administrator and TDSPs’ Approva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nectivity testing begins 01/24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y 1 transactions begin 02/13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ight 0217 is scheduled to conclude on 02/24/17 (Contingency/Adhoc Period until 04/07/17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ulated (SIM) Dates will not be used in Flight 02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light 0217 Adhoc Schedu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hoc signup deadline is 02/24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hoc connectivity testing begins 02/27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hoc testing begins no later than 03/24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 scripts to be completed by 04/07/17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39BA-D2F3-4C84-BE6C-078924C1A71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advertent Gain (IAG) or Loss (IAL) Re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108470/08._Inadvertent_Stats_-_October_2016.ppt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ction Ite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cussion at RMS led to additional tweaks were needed to the reporting as it relates to the 1% threshold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ket Participants will work through TDTMS to make the necessary changes for recommendation to RMS.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5AA2-3D28-4B49-A70F-2DCE34B0A8E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2"/>
          <p:cNvGraphicFramePr/>
          <p:nvPr/>
        </p:nvGraphicFramePr>
        <p:xfrm>
          <a:off x="4648320" y="4952880"/>
          <a:ext cx="91440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49528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RCOT LSE Activity Report &amp; Error Code Updates Associated with NPRR753/RMGRR13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08._867_03_Error_Codes_Document_v1.2.x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08._Interval_Data_LSE_Activity_Report_v1.2.xl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08._Interval_Data_LSE_Error_Codes_v1.3.xl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08._TDSPReadGeneration_Formv4.1.xl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3886-3684-403B-9D5A-A528799F154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26"/>
          <p:cNvGraphicFramePr/>
          <p:nvPr/>
        </p:nvGraphicFramePr>
        <p:xfrm>
          <a:off x="5562720" y="2362320"/>
          <a:ext cx="914400" cy="7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2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3623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27"/>
          <p:cNvGraphicFramePr/>
          <p:nvPr/>
        </p:nvGraphicFramePr>
        <p:xfrm>
          <a:off x="5334120" y="4419720"/>
          <a:ext cx="914400" cy="77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419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28"/>
          <p:cNvGraphicFramePr/>
          <p:nvPr/>
        </p:nvGraphicFramePr>
        <p:xfrm>
          <a:off x="5486400" y="3352680"/>
          <a:ext cx="914400" cy="771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7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33526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29"/>
          <p:cNvGraphicFramePr/>
          <p:nvPr/>
        </p:nvGraphicFramePr>
        <p:xfrm>
          <a:off x="5029200" y="5562720"/>
          <a:ext cx="914400" cy="7714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78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556272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etail Project(s) Upd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0/08._RMS_January_2017_Project_Update.ppt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NPRR778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odifications to Date Change and Cancellation Evaluation Window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” is currently  scheduled for 10/31-11/2/17 Implementation instead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Quarter 2017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oy Anderson (ERCOT) will review this project’s schedule again to determine if implementation could be scheduled sooner in 2017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70AF-E722-44EE-8569-6DACE8E19A6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Working Group/Taskforces Upda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Texas SET (TX SET)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viewed and recommended language changes for Draft RMGRR, Elimination of TDSP Requirement to Maintain a Secure List, by REP DUNS, of All ESI IDs with Switch Hol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leted Market Continuity Workshop Discus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Texas Data Transport and MarkeTrak Systems (TDTMS)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R786 Testing Environment Update &amp; Discu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o-live completed on schedule on December 12, 2016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R786 User Orientation Document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raft RMGRR – Buyer’s Remor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DTMS reviewed twice, but could not reach consensus for endorsement to RMS – the RMGRR Sponsor will submit to RM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keTrak Upgrade Update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No change to Functionality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anuary 1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2716-69D8-4BC8-A459-0FA1CB1BE76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7-01-16T06:33:55Z</dcterms:modified>
  <cp:revision>1627</cp:revision>
  <dc:subject/>
  <dc:title>Instructions</dc:title>
</cp:coreProperties>
</file>