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embeddings/oleObject1.pptx" ContentType="application/vnd.openxmlformats-officedocument.presentationml.presentation"/>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ACBD-9EAE-480F-83E8-4AC0F395A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1400-33BA-4E5F-9A9B-0F0BC85382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35C5-8C08-42EA-AEEF-EFFF2C4811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5E675A0-325A-47FB-A0FE-82B1F7607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3990012-D62B-4CC0-A20F-AF11E95FA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8C30204-33DA-4770-94DB-ABA5C23D180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3E73E04-4131-407A-8DBD-1FDB024BF16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C0A4534-C1F5-4F55-B5AD-B09B82D5AB0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25A3473-4D5E-479A-B06D-ABE7507F396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AEB977C-4851-4A16-9082-4D94BE7B71D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732B051-2AF7-4307-B4F5-F7670E4616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773F98A-F7DF-44CE-8AC1-496C87D8CA5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4C578B5-5072-4714-AC26-17541B964E2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7A6D511-84ED-481B-83FE-47E45A75BED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B514ED0-1941-41DA-A0FF-9A2194EB46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87C98CE-65CB-4972-9E81-DAAB61C22B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D348F-971C-4F55-A4A1-88E046886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7C2AB-988E-4070-9246-B04A9E47C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D6B1D-FF65-423A-8405-0C7649830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42E57-67E6-415B-8548-1B371A80F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B3549-4DD5-4A1C-9D55-9121C98CF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33FAB-4A40-47E5-B53A-97918EC12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ABF03-BB67-429F-AD99-A23576C5C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9EF169-5E5A-457B-A83F-B90A0F6B9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36EAC-4412-4FA5-A7A2-E88BDD8E1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102F1-F885-47E9-9087-35477A7E4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DD73B-8886-4F1D-ABE9-3ED77203E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99C72-4BD2-4BC0-9568-44634A93F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CA755-0D35-446C-96B5-CDDE7C6C3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6A07886-9ED8-4FBE-8C0E-C8E399A15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5EFFAA4-E02E-45FA-92C7-A85653D1465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0EF072-24F2-4E50-8F72-1A2C9D676C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C3806B-1AB1-41BE-9503-E65E2B70BA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64ACD58-5345-41A2-B21B-82520408C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12EABF-051B-4889-A3E0-48C6AC7341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5D16A5-2AB7-41FC-848C-136B5325C5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7F960F-EC89-4017-8EFF-2D2F227724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C1F353-F456-47B0-BA68-43BF110B98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7F7FDA-1A5D-47A9-BA7C-68BDC5FDBF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5A809A-6CCA-4FD4-9132-3CA94352D7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CA55E2-040D-4D49-8496-EC2AF34EE4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FFE9458-91C2-4D61-86A0-E138656117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AF6908E-BF7F-4DF4-9845-E83594D3E61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2DCC7BA-0AB0-4A7E-A0C5-1C612CB2D62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3AB32A-A32F-4A35-AB66-53E952F9A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C36940-40C4-4620-95D5-9CF9B79D195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09967D8-36AA-45D5-867B-B52C7A6B04D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8033E57-5B5C-40A5-84E1-BD64C645EFE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682423C-7905-4557-BE6A-2086110CA35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28D616-5215-419D-BBDA-0686DEF926E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D58DDA-C76F-45F5-AAF3-CD9C204DC6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7D96E0-C467-4A3A-9D3F-D9A33FB479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63FE9A-859B-4B0E-B8C5-92F66DCF58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525CEE8-E652-4DF1-A408-EA80F61941C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EC09B00-9C44-47ED-A181-F9741A3BE6F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3978717-6C2D-4F69-A729-172EC9951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4A0CFC1-9F5F-467F-8644-3C0A1C3266E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EFD5E23-7355-4C99-9A3F-82878935521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8D0890C-FB60-44CE-AF96-32C96BD0198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371F741-1A5E-4DB6-B9DE-41F9D74B6EE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1224D7-EBC9-4676-A86C-09AC0526535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855D6CA-F15F-4F0F-98F9-1A28B12605B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7BAB0DB-F6DF-47A9-958B-93AAE88534F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27965E5-A45E-441F-8A03-C1AFD340E1F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FE1547-F599-4C29-8B75-E25746F4D4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C85E207-5CFA-42F6-A228-A03A28B3A93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208E4C-045D-422C-83E5-8A1ED5C38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B3E75F8-4D0C-44AD-8E8B-A7D81B801CB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B9FB222-5468-45EC-A0C3-EACDF48DD96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EEA8FE2-6A6A-44A5-82CE-D0AD09E569C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0E38C99-9773-4BE8-A6A6-A4158AA3F3E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28096CF-54B5-4FAE-AB2A-830AF078885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26538EF-E3F5-4C5E-82CF-2EB99E99C2C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6B5AE55-F1FB-41B1-B529-892380FBEB2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4293FD3-3C96-4D91-B0CB-D37D51358BE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E9CC3AE-FCDA-4ED4-A1F6-8A3F2AB022E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1A0EDA-E14E-4986-9B14-007DB9567A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33F217-09EE-409A-9208-6DA047C74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98E1596-A717-48F5-AB8B-B47184F815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A0960F-9B95-4A74-BFDB-CF52668284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A0351D6-1034-496B-BBFB-AB2A449DCB3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56351AB-361F-481A-A990-A3A6375D42F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C6990D4-17B0-4407-9C00-A064FEDB81D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CD01AE9-3310-49F9-B3D5-9083B4134B6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E0578B8-BBEE-4AAB-A157-44ED49ABC6B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BE5A324-9351-4751-8EB8-DCF7F8E3800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4A995C3-F5B9-4108-9953-08CC8C74264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C8BDDFF-1D09-4059-90CF-A5D6E280D31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51B33E-32CD-4BBC-8398-4FCDDB2B4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639F8CB-0579-4E66-A583-D2AEEAB8205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81E03F7-7F90-444C-B842-51F4B5C4F75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7B0FA9-89B4-4715-B197-C3D7F908B6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7D412F-12F2-48FF-B4BE-FB6EA43A56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2C8EC9B-9D20-4176-9A07-9B81AFF8A8A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6038B9D-0562-4A4F-97E0-3044A41D66D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C1A582B-BB26-4CDA-AF42-9800B44FD65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1054497-7C55-4352-87A9-6EF23B04489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9EB1D2-C218-491D-8AFC-D6C54CF39BB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0146D42-26F8-4F0B-933C-96A826AFFCC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E78F-4C7F-44E0-A785-1319AF6DB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BDBA-48C8-455F-BED4-D9FA84C47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5075-3872-4EDA-86D8-2A040B92E1A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7059-9B16-4433-872D-91F3E23E035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09A6-9C01-4AA6-BCBA-40CE2983206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0EA4-D4EB-4016-8E3E-5B16183858F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A388-7D25-4B85-BA53-D26F9D3C196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1231-A6BF-45D4-A11F-E8A349B6D01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981D-B3E3-406C-B9FB-D466E9C6412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ercot.com/content/wcm/key_documents_lists/76857/04._Tabled_Revision_Requests.zip"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January 10, 2017</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0004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cember 1,  2016</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C Update to RMS</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8607-C24B-4A61-9330-17F6F4C9AF76}"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572314"/>
                </a:solidFill>
                <a:latin typeface="Gill Sans MT"/>
              </a:rPr>
              <a:t>Retail Market Subcommittee </a:t>
            </a:r>
            <a:endParaRPr b="0" lang="en-US" sz="4300" spc="-1" strike="noStrike">
              <a:solidFill>
                <a:srgbClr val="572314"/>
              </a:solidFill>
              <a:latin typeface="Gill Sans MT"/>
            </a:endParaRPr>
          </a:p>
        </p:txBody>
      </p:sp>
      <p:sp>
        <p:nvSpPr>
          <p:cNvPr id="47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E52E-7013-40BB-993D-DD9F1B7148F1}"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7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73" name="Picture 16" descr="C:\Users\00015621\AppData\Local\Microsoft\Windows\Temporary Internet Files\Content.IE5\XVT3PF63\2013-happy-new-year-wallpapers-15[1].jpg"/>
          <p:cNvPicPr/>
          <p:nvPr/>
        </p:nvPicPr>
        <p:blipFill>
          <a:blip r:embed="rId1"/>
          <a:stretch/>
        </p:blipFill>
        <p:spPr>
          <a:xfrm>
            <a:off x="990720" y="762120"/>
            <a:ext cx="8153280" cy="54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3. PRS Initiatives and Votes</a:t>
            </a:r>
            <a:endParaRPr b="0" lang="en-US" sz="3600" spc="-1" strike="noStrike">
              <a:solidFill>
                <a:srgbClr val="572314"/>
              </a:solidFill>
              <a:latin typeface="Gill Sans MT"/>
            </a:endParaRPr>
          </a:p>
        </p:txBody>
      </p:sp>
      <p:sp>
        <p:nvSpPr>
          <p:cNvPr id="424" name=""/>
          <p:cNvSpPr txBox="1"/>
          <p:nvPr/>
        </p:nvSpPr>
        <p:spPr>
          <a:xfrm>
            <a:off x="914400" y="609480"/>
            <a:ext cx="8229600" cy="5562720"/>
          </a:xfrm>
          <a:prstGeom prst="rect">
            <a:avLst/>
          </a:prstGeom>
          <a:noFill/>
          <a:ln w="0">
            <a:noFill/>
          </a:ln>
        </p:spPr>
        <p:txBody>
          <a:bodyPr anchor="t">
            <a:normAutofit fontScale="59000"/>
          </a:bodyPr>
          <a:p>
            <a:pPr marL="215280" indent="-166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a:t>
            </a:r>
            <a:endParaRPr b="0" lang="en-US" sz="28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nfirmation of 2016 PRS Chair/Vice Chair (Vote)</a:t>
            </a:r>
            <a:endParaRPr b="0" lang="en-US" sz="2400" spc="-1" strike="noStrike">
              <a:solidFill>
                <a:srgbClr val="000000"/>
              </a:solidFill>
              <a:latin typeface="Gill Sans MT"/>
            </a:endParaRPr>
          </a:p>
          <a:p>
            <a:pPr lvl="2" marL="522360" indent="-1346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manda Frazier</a:t>
            </a:r>
            <a:r>
              <a:rPr b="1" lang="en-US" sz="2000" spc="-1" strike="noStrike">
                <a:solidFill>
                  <a:srgbClr val="000000"/>
                </a:solidFill>
                <a:latin typeface="Gill Sans MT"/>
              </a:rPr>
              <a:t> </a:t>
            </a:r>
            <a:r>
              <a:rPr b="0" lang="en-US" sz="2000" spc="-1" strike="noStrike">
                <a:solidFill>
                  <a:srgbClr val="000000"/>
                </a:solidFill>
                <a:latin typeface="Gill Sans MT"/>
              </a:rPr>
              <a:t>(Luminant Generation) -- </a:t>
            </a:r>
            <a:r>
              <a:rPr b="1" lang="en-US" sz="2000" spc="-1" strike="noStrike">
                <a:solidFill>
                  <a:srgbClr val="c00000"/>
                </a:solidFill>
                <a:latin typeface="Gill Sans MT"/>
              </a:rPr>
              <a:t>Confirmed</a:t>
            </a:r>
            <a:r>
              <a:rPr b="0" lang="en-US" sz="2000" spc="-1" strike="noStrike">
                <a:solidFill>
                  <a:srgbClr val="000000"/>
                </a:solidFill>
                <a:latin typeface="Gill Sans MT"/>
              </a:rPr>
              <a:t> as Chair </a:t>
            </a:r>
            <a:endParaRPr b="0" lang="en-US" sz="2000" spc="-1" strike="noStrike">
              <a:solidFill>
                <a:srgbClr val="000000"/>
              </a:solidFill>
              <a:latin typeface="Gill Sans MT"/>
            </a:endParaRPr>
          </a:p>
          <a:p>
            <a:pPr lvl="2" marL="522360" indent="-1346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artha Henson </a:t>
            </a:r>
            <a:r>
              <a:rPr b="0" lang="en-US" sz="2000" spc="-1" strike="noStrike">
                <a:solidFill>
                  <a:srgbClr val="000000"/>
                </a:solidFill>
                <a:latin typeface="Gill Sans MT"/>
              </a:rPr>
              <a:t>(Oncor) -- </a:t>
            </a:r>
            <a:r>
              <a:rPr b="1" lang="en-US" sz="2000" spc="-1" strike="noStrike">
                <a:solidFill>
                  <a:srgbClr val="c00000"/>
                </a:solidFill>
                <a:latin typeface="Gill Sans MT"/>
              </a:rPr>
              <a:t>Confirmed</a:t>
            </a:r>
            <a:r>
              <a:rPr b="0" lang="en-US" sz="2000" spc="-1" strike="noStrike">
                <a:solidFill>
                  <a:srgbClr val="000000"/>
                </a:solidFill>
                <a:latin typeface="Gill Sans MT"/>
              </a:rPr>
              <a:t> as Vice Chair  </a:t>
            </a:r>
            <a:endParaRPr b="0" lang="en-US" sz="2000" spc="-1" strike="noStrike">
              <a:solidFill>
                <a:srgbClr val="000000"/>
              </a:solidFill>
              <a:latin typeface="Gill Sans MT"/>
            </a:endParaRPr>
          </a:p>
          <a:p>
            <a:pPr lvl="2" marL="522360" indent="-1346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92</a:t>
            </a:r>
            <a:r>
              <a:rPr b="0" lang="en-US" sz="2400" spc="-1" strike="noStrike">
                <a:solidFill>
                  <a:srgbClr val="000000"/>
                </a:solidFill>
                <a:latin typeface="Gill Sans MT"/>
              </a:rPr>
              <a:t>, Changing Special Protection System (SPS) to Remedial Action Scheme (RAS)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803</a:t>
            </a:r>
            <a:r>
              <a:rPr b="0" lang="en-US" sz="2400" spc="-1" strike="noStrike">
                <a:solidFill>
                  <a:srgbClr val="000000"/>
                </a:solidFill>
                <a:latin typeface="Gill Sans MT"/>
              </a:rPr>
              <a:t>, Remove Grey-boxed Language from NPRR439, Updating a Counter-Party’s Available Credit Limit for Current Day DAM-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ther Binding Document (OBD) List</a:t>
            </a:r>
            <a:endParaRPr b="0" lang="en-US" sz="2400" spc="-1" strike="noStrike">
              <a:solidFill>
                <a:srgbClr val="000000"/>
              </a:solidFill>
              <a:latin typeface="Gill Sans MT"/>
            </a:endParaRPr>
          </a:p>
          <a:p>
            <a:pPr lvl="2" marL="522360" indent="-1346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moval from OBD List (Vote)  </a:t>
            </a:r>
            <a:endParaRPr b="0" lang="en-US" sz="2400" spc="-1" strike="noStrike">
              <a:solidFill>
                <a:srgbClr val="000000"/>
              </a:solidFill>
              <a:latin typeface="Gill Sans MT"/>
            </a:endParaRPr>
          </a:p>
          <a:p>
            <a:pPr lvl="3" marL="646920" indent="-1018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0" lang="en-US" sz="2000" spc="-1" strike="noStrike">
                <a:solidFill>
                  <a:srgbClr val="000000"/>
                </a:solidFill>
                <a:latin typeface="Gill Sans MT"/>
              </a:rPr>
              <a:t>PCRR Allocation Eligibility Form”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522360" indent="-1346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15280" indent="-166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377280" indent="-1393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77280" indent="-1393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77280" indent="-1393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15280" indent="-166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77DB-122A-44E2-BA77-FF41F7EFFE1B}"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43000" y="-15264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2314"/>
                </a:solidFill>
                <a:latin typeface="Gill Sans MT"/>
              </a:rPr>
              <a:t>4</a:t>
            </a:r>
            <a:r>
              <a:rPr b="1" lang="en-US" sz="3900" spc="-1" strike="noStrike">
                <a:solidFill>
                  <a:srgbClr val="572314"/>
                </a:solidFill>
                <a:latin typeface="Gill Sans MT"/>
              </a:rPr>
              <a:t>. </a:t>
            </a:r>
            <a:r>
              <a:rPr b="1" lang="en-US" sz="2800" spc="-1" strike="noStrike">
                <a:solidFill>
                  <a:srgbClr val="572314"/>
                </a:solidFill>
                <a:latin typeface="Gill Sans MT"/>
              </a:rPr>
              <a:t>Revision Request Previously Tabled by TAC</a:t>
            </a:r>
            <a:endParaRPr b="0" lang="en-US" sz="2800" spc="-1" strike="noStrike">
              <a:solidFill>
                <a:srgbClr val="572314"/>
              </a:solidFill>
              <a:latin typeface="Gill Sans MT"/>
            </a:endParaRPr>
          </a:p>
        </p:txBody>
      </p:sp>
      <p:sp>
        <p:nvSpPr>
          <p:cNvPr id="429" name=""/>
          <p:cNvSpPr txBox="1"/>
          <p:nvPr/>
        </p:nvSpPr>
        <p:spPr>
          <a:xfrm>
            <a:off x="914400" y="685440"/>
            <a:ext cx="8229600" cy="5638680"/>
          </a:xfrm>
          <a:prstGeom prst="rect">
            <a:avLst/>
          </a:prstGeom>
          <a:noFill/>
          <a:ln w="0">
            <a:noFill/>
          </a:ln>
        </p:spPr>
        <p:txBody>
          <a:bodyPr anchor="t">
            <a:normAutofit fontScale="67000"/>
          </a:bodyPr>
          <a:p>
            <a:pPr lvl="2" marL="593280" indent="-1530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73</a:t>
            </a:r>
            <a:r>
              <a:rPr b="0" lang="en-US" sz="2400" spc="-1" strike="noStrike">
                <a:solidFill>
                  <a:srgbClr val="000000"/>
                </a:solidFill>
                <a:latin typeface="Gill Sans MT"/>
              </a:rPr>
              <a:t>, Broadening Scope of Acceptable Letter of Credit Issuers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593280" indent="-1530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GRR051</a:t>
            </a:r>
            <a:r>
              <a:rPr b="0" lang="en-US" sz="2400" spc="-1" strike="noStrike">
                <a:solidFill>
                  <a:srgbClr val="000000"/>
                </a:solidFill>
                <a:latin typeface="Gill Sans MT"/>
              </a:rPr>
              <a:t>, Alignment with NPRR792, Changing Special Protection System (SPS) to Remedial Action Scheme (RAS)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593280" indent="-1530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GRR164</a:t>
            </a:r>
            <a:r>
              <a:rPr b="0" lang="en-US" sz="2400" spc="-1" strike="noStrike">
                <a:solidFill>
                  <a:srgbClr val="000000"/>
                </a:solidFill>
                <a:latin typeface="Gill Sans MT"/>
              </a:rPr>
              <a:t>, Alignment with NPRR792, Removing Special Protection System (SPS) and adding Remedial Action Scheme (RAS) – URGENT – “</a:t>
            </a:r>
            <a:r>
              <a:rPr b="1" lang="en-US" sz="2000" spc="-1" strike="noStrike">
                <a:solidFill>
                  <a:srgbClr val="000000"/>
                </a:solidFill>
                <a:latin typeface="Gill Sans MT"/>
              </a:rPr>
              <a:t>Table</a:t>
            </a:r>
            <a:r>
              <a:rPr b="0" lang="en-US" sz="2000" spc="-1" strike="noStrike">
                <a:solidFill>
                  <a:srgbClr val="000000"/>
                </a:solidFill>
                <a:latin typeface="Gill Sans MT"/>
              </a:rPr>
              <a:t>” awaiting NPRR792 Approval at the December 13</a:t>
            </a:r>
            <a:r>
              <a:rPr b="0" lang="en-US" sz="2000" spc="-1" strike="noStrike" baseline="30000">
                <a:solidFill>
                  <a:srgbClr val="000000"/>
                </a:solidFill>
                <a:latin typeface="Gill Sans MT"/>
              </a:rPr>
              <a:t>th</a:t>
            </a:r>
            <a:r>
              <a:rPr b="0" lang="en-US" sz="2000" spc="-1" strike="noStrike">
                <a:solidFill>
                  <a:srgbClr val="000000"/>
                </a:solidFill>
                <a:latin typeface="Gill Sans MT"/>
              </a:rPr>
              <a:t> Board meeting, TAC Leadership stated an email vote would be provided to TAC members following NPRR792/PGRR051 ERCOT Board Approval.  </a:t>
            </a:r>
            <a:endParaRPr b="0" lang="en-US" sz="2000" spc="-1" strike="noStrike">
              <a:solidFill>
                <a:srgbClr val="000000"/>
              </a:solidFill>
              <a:latin typeface="Gill Sans MT"/>
            </a:endParaRPr>
          </a:p>
          <a:p>
            <a:pPr lvl="2" marL="593280" indent="-1530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ppeal of NOGRR149</a:t>
            </a:r>
            <a:r>
              <a:rPr b="0" lang="en-US" sz="2400" spc="-1" strike="noStrike">
                <a:solidFill>
                  <a:srgbClr val="000000"/>
                </a:solidFill>
                <a:latin typeface="Gill Sans MT"/>
              </a:rPr>
              <a:t>, Revision to Definition of Transmission Operator </a:t>
            </a:r>
            <a:r>
              <a:rPr b="0" lang="en-US" sz="2000" spc="-1" strike="noStrike">
                <a:solidFill>
                  <a:srgbClr val="c00000"/>
                </a:solidFill>
                <a:latin typeface="Gill Sans MT"/>
              </a:rPr>
              <a:t>- </a:t>
            </a:r>
            <a:r>
              <a:rPr b="1" lang="en-US" sz="2000" spc="-1" strike="noStrike">
                <a:solidFill>
                  <a:srgbClr val="c00000"/>
                </a:solidFill>
                <a:latin typeface="Gill Sans MT"/>
              </a:rPr>
              <a:t>Motion to Table until the January 26, 2017 TAC meeting was Unanimous.  </a:t>
            </a:r>
            <a:endParaRPr b="0" lang="en-US" sz="2000" spc="-1" strike="noStrike">
              <a:solidFill>
                <a:srgbClr val="000000"/>
              </a:solidFill>
              <a:latin typeface="Gill Sans MT"/>
            </a:endParaRPr>
          </a:p>
          <a:p>
            <a:pPr lvl="2" marL="593280" indent="-1530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57/04._Tabled_Revision_Requests.zip</a:t>
            </a:r>
            <a:endParaRPr b="0" lang="en-US" sz="1600" spc="-1" strike="noStrike">
              <a:solidFill>
                <a:srgbClr val="000000"/>
              </a:solidFill>
              <a:latin typeface="Gill Sans MT"/>
            </a:endParaRPr>
          </a:p>
          <a:p>
            <a:pPr lvl="2" marL="593280" indent="-1530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593280" indent="-1530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93280" indent="-1530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93280" indent="-1530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93280" indent="-1530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593280" indent="-1530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593280" indent="-1530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26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2678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2678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267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79D3-A647-4367-9A57-AC6456BE904F}"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914400" y="685800"/>
            <a:ext cx="8229600" cy="556272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GRR162</a:t>
            </a:r>
            <a:r>
              <a:rPr b="0" lang="en-US" sz="2400" spc="-1" strike="noStrike">
                <a:solidFill>
                  <a:srgbClr val="000000"/>
                </a:solidFill>
                <a:latin typeface="Gill Sans MT"/>
              </a:rPr>
              <a:t>, Process for Resolving Real-Time Data Discrepancies (Vote) - </a:t>
            </a:r>
            <a:r>
              <a:rPr b="1" lang="en-US" sz="2000" spc="-1" strike="noStrike">
                <a:solidFill>
                  <a:srgbClr val="c00000"/>
                </a:solidFill>
                <a:latin typeface="Gill Sans MT"/>
              </a:rPr>
              <a:t>Motion to Approve with ERCOT comments  was Unanimous </a:t>
            </a: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GRR042</a:t>
            </a:r>
            <a:r>
              <a:rPr b="0" lang="en-US" sz="2400" spc="-1" strike="noStrike">
                <a:solidFill>
                  <a:srgbClr val="000000"/>
                </a:solidFill>
                <a:latin typeface="Gill Sans MT"/>
              </a:rPr>
              <a:t>, Regional Transmission Plan Model Reserve Requirement and Load-Generation Imbalance Methodology (Vote) – </a:t>
            </a:r>
            <a:r>
              <a:rPr b="1" lang="en-US" sz="2000" spc="-1" strike="noStrike">
                <a:solidFill>
                  <a:srgbClr val="000000"/>
                </a:solidFill>
                <a:latin typeface="Gill Sans MT"/>
              </a:rPr>
              <a:t>Ballot Voting Required </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a:t>
            </a:r>
            <a:r>
              <a:rPr b="1" lang="en-US" sz="2000" spc="-1" strike="noStrike">
                <a:solidFill>
                  <a:srgbClr val="000000"/>
                </a:solidFill>
                <a:latin typeface="Gill Sans MT"/>
              </a:rPr>
              <a:t>Motion to Table”– Failed </a:t>
            </a:r>
            <a:endParaRPr b="0" lang="en-US" sz="20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24% Yes)  (76 % No) (0 Abstention) </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1" lang="en-US" sz="2000" spc="-1" strike="noStrike">
                <a:solidFill>
                  <a:srgbClr val="000000"/>
                </a:solidFill>
                <a:latin typeface="Gill Sans MT"/>
              </a:rPr>
              <a:t>Motion to Approve”-Passed </a:t>
            </a:r>
            <a:endParaRPr b="0" lang="en-US" sz="20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86% Yes)</a:t>
            </a:r>
            <a:r>
              <a:rPr b="0" lang="en-US" sz="2000" spc="-1" strike="noStrike">
                <a:solidFill>
                  <a:srgbClr val="c00000"/>
                </a:solidFill>
                <a:latin typeface="Gill Sans MT"/>
              </a:rPr>
              <a:t> </a:t>
            </a:r>
            <a:r>
              <a:rPr b="1" lang="en-US" sz="2000" spc="-1" strike="noStrike">
                <a:solidFill>
                  <a:srgbClr val="c00000"/>
                </a:solidFill>
                <a:latin typeface="Gill Sans MT"/>
              </a:rPr>
              <a:t>(14% No) (1 Abstention)</a:t>
            </a:r>
            <a:endParaRPr b="0" lang="en-US" sz="20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76857/05._ROS_Report.zip </a:t>
            </a:r>
            <a:endParaRPr b="0" lang="en-US" sz="16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3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3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3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0D15-B8C8-4B1C-A42E-73B480AE2036}"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37"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ea typeface="Arial"/>
              </a:rPr>
              <a:t>5.   ROS Initiatives and Vot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914400" y="685800"/>
            <a:ext cx="8153280" cy="5562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olesale Market Subcommittee (WMS): </a:t>
            </a:r>
            <a:endParaRPr b="0" lang="en-US" sz="2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OGRR018</a:t>
            </a:r>
            <a:r>
              <a:rPr b="0" lang="en-US" sz="2400" spc="-1" strike="noStrike">
                <a:solidFill>
                  <a:srgbClr val="000000"/>
                </a:solidFill>
                <a:latin typeface="Gill Sans MT"/>
              </a:rPr>
              <a:t>, EPS Metering for Three-Wire Wye Configurations (Vote)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OGRR019</a:t>
            </a:r>
            <a:r>
              <a:rPr b="0" lang="en-US" sz="2400" spc="-1" strike="noStrike">
                <a:solidFill>
                  <a:srgbClr val="000000"/>
                </a:solidFill>
                <a:latin typeface="Gill Sans MT"/>
              </a:rPr>
              <a:t>, Clarifications and Updates to Paralleling Current Transformers, Instrument Transfer Name Plate Photos and Loss Potential Event Logging Requirements (Vote)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016 CRR Activity Calendar </a:t>
            </a:r>
            <a:r>
              <a:rPr b="0" lang="en-US" sz="2400" spc="-1" strike="noStrike">
                <a:solidFill>
                  <a:srgbClr val="000000"/>
                </a:solidFill>
                <a:latin typeface="Gill Sans MT"/>
              </a:rPr>
              <a:t>(Vote)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rket Continuity Updates to TAC</a:t>
            </a:r>
            <a:endParaRPr b="0" lang="en-US" sz="24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ercot.com/content/wcm/key_documents_lists/76857/06._WMS_Report.zip</a:t>
            </a: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9320" indent="-221400">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57840" indent="-176760">
              <a:spcBef>
                <a:spcPts val="20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90DD-1291-4CB4-AB49-BF342A47C198}"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42"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ea typeface="Arial"/>
              </a:rPr>
              <a:t>6. WMS Initiatives and Votes: </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443" name="Object 1"/>
          <p:cNvGraphicFramePr/>
          <p:nvPr/>
        </p:nvGraphicFramePr>
        <p:xfrm>
          <a:off x="7162920" y="4724280"/>
          <a:ext cx="914400" cy="771480"/>
        </p:xfrm>
        <a:graphic>
          <a:graphicData uri="http://schemas.openxmlformats.org/presentationml/2006/ole">
            <p:oleObj progId="PowerPoint.Show.12" r:id="rId1" spid="">
              <p:embed/>
              <p:pic>
                <p:nvPicPr>
                  <p:cNvPr id="444" name="Object 1" descr=""/>
                  <p:cNvPicPr/>
                  <p:nvPr/>
                </p:nvPicPr>
                <p:blipFill>
                  <a:blip r:embed="rId2"/>
                  <a:stretch/>
                </p:blipFill>
                <p:spPr>
                  <a:xfrm>
                    <a:off x="7162920" y="4724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914400" y="68580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mmercial Operations Subcommittee (COPS):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onfirmation of 2016 COPS Vice Chair (Vote)</a:t>
            </a:r>
            <a:endParaRPr b="0" lang="en-US" sz="22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John Schatz</a:t>
            </a:r>
            <a:r>
              <a:rPr b="0" lang="en-US" sz="2000" spc="-1" strike="noStrike">
                <a:solidFill>
                  <a:srgbClr val="000000"/>
                </a:solidFill>
                <a:latin typeface="Gill Sans MT"/>
              </a:rPr>
              <a:t> (TXU Energy Retail Company) reconfirmed as Vice Chair changed from IOU to Independent REP segment.  </a:t>
            </a:r>
            <a:r>
              <a:rPr b="1" lang="en-US" sz="2000" spc="-1" strike="noStrike">
                <a:solidFill>
                  <a:srgbClr val="c00000"/>
                </a:solidFill>
                <a:latin typeface="Gill Sans MT"/>
              </a:rPr>
              <a:t>Vote was Unanimous.  </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OPMGRR044</a:t>
            </a:r>
            <a:r>
              <a:rPr b="0" lang="en-US" sz="2200" spc="-1" strike="noStrike">
                <a:solidFill>
                  <a:srgbClr val="000000"/>
                </a:solidFill>
                <a:latin typeface="Gill Sans MT"/>
              </a:rPr>
              <a:t>,  Alignment with NPRR794, Relocation of Unregistered DG Reporting Requirements (Vote) – </a:t>
            </a:r>
            <a:endParaRPr b="0" lang="en-US" sz="2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for Tabling waiting for NPRR794 that was currently at PRS.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96920" indent="-1731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97080" indent="-182520">
              <a:spcBef>
                <a:spcPts val="20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4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7002-F2AE-48BF-BDDD-3AEB3230A8A6}"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49"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ea typeface="Arial"/>
              </a:rPr>
              <a:t>7. COPS Initiatives and Votes: </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914400" y="685800"/>
            <a:ext cx="8229600" cy="5562720"/>
          </a:xfrm>
          <a:prstGeom prst="rect">
            <a:avLst/>
          </a:prstGeom>
          <a:noFill/>
          <a:ln w="0">
            <a:noFill/>
          </a:ln>
        </p:spPr>
        <p:txBody>
          <a:bodyPr anchor="t">
            <a:normAutofit fontScale="53000"/>
          </a:bodyPr>
          <a:p>
            <a:pPr marL="193320" indent="-1497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193320" indent="-1497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 Update: </a:t>
            </a:r>
            <a:endParaRPr b="0" lang="en-US" sz="28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ercot.com/content/wcm/key_documents_lists/76857/08._RMS_Update_to_TAC_12_01_16__v1_.ppt</a:t>
            </a:r>
            <a:endParaRPr b="0" lang="en-US" sz="2000" spc="-1" strike="noStrike">
              <a:solidFill>
                <a:srgbClr val="000000"/>
              </a:solidFill>
              <a:latin typeface="Gill Sans MT"/>
            </a:endParaRPr>
          </a:p>
          <a:p>
            <a:pPr lvl="4" marL="687240" indent="-9648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687240" indent="-9648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687240" indent="-9648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687240" indent="-9648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687240" indent="-9648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193320" indent="-1497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 Continuity Updates to TAC</a:t>
            </a:r>
            <a:endParaRPr b="0" lang="en-US" sz="28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ercot.com/content/wcm/key_documents_lists/76857/08._Market_Continuity_TXSET_Discussion_Matrix_20161130_Final_Draft.docx </a:t>
            </a:r>
            <a:endParaRPr b="0" lang="en-US" sz="2000" spc="-1" strike="noStrike">
              <a:solidFill>
                <a:srgbClr val="000000"/>
              </a:solidFill>
              <a:latin typeface="Gill Sans MT"/>
            </a:endParaRPr>
          </a:p>
          <a:p>
            <a:pPr lvl="3" marL="581040" indent="-9144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469440" indent="-1209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193320" indent="-1497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38760" indent="-12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38760" indent="-12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193320" indent="-1497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581040" indent="-9144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469440" indent="-1209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469440" indent="-1209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469440" indent="-1209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469440" indent="-120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 </a:t>
            </a:r>
            <a:endParaRPr b="0" lang="en-US" sz="20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469440" indent="-12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469440" indent="-1209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5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3F03-0F88-451C-9038-A5E22E5C2C59}"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54" name="Title 1"/>
          <p:cNvSpPr/>
          <p:nvPr/>
        </p:nvSpPr>
        <p:spPr>
          <a:xfrm>
            <a:off x="1143000" y="-257040"/>
            <a:ext cx="80010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ea typeface="Arial"/>
              </a:rPr>
              <a:t>8.   RMS Initiatives and Updates  </a:t>
            </a:r>
            <a:endParaRPr b="0" lang="en-US" sz="3600" spc="-1" strike="noStrike">
              <a:solidFill>
                <a:srgbClr val="000000"/>
              </a:solidFill>
              <a:latin typeface="Arial"/>
            </a:endParaRPr>
          </a:p>
        </p:txBody>
      </p:sp>
      <p:graphicFrame>
        <p:nvGraphicFramePr>
          <p:cNvPr id="455" name="Object 1"/>
          <p:cNvGraphicFramePr/>
          <p:nvPr/>
        </p:nvGraphicFramePr>
        <p:xfrm>
          <a:off x="4419720" y="2362320"/>
          <a:ext cx="914400" cy="771480"/>
        </p:xfrm>
        <a:graphic>
          <a:graphicData uri="http://schemas.openxmlformats.org/presentationml/2006/ole">
            <p:oleObj progId="PowerPoint.Show.12" r:id="rId1" spid="">
              <p:embed/>
              <p:pic>
                <p:nvPicPr>
                  <p:cNvPr id="456" name="Object 1" descr=""/>
                  <p:cNvPicPr/>
                  <p:nvPr/>
                </p:nvPicPr>
                <p:blipFill>
                  <a:blip r:embed="rId2"/>
                  <a:stretch/>
                </p:blipFill>
                <p:spPr>
                  <a:xfrm>
                    <a:off x="4419720" y="2362320"/>
                    <a:ext cx="914400" cy="771480"/>
                  </a:xfrm>
                  <a:prstGeom prst="rect">
                    <a:avLst/>
                  </a:prstGeom>
                  <a:ln w="0">
                    <a:noFill/>
                  </a:ln>
                </p:spPr>
              </p:pic>
            </p:oleObj>
          </a:graphicData>
        </a:graphic>
      </p:graphicFrame>
      <p:graphicFrame>
        <p:nvGraphicFramePr>
          <p:cNvPr id="457" name="Object 2"/>
          <p:cNvGraphicFramePr/>
          <p:nvPr/>
        </p:nvGraphicFramePr>
        <p:xfrm>
          <a:off x="4419720" y="4876920"/>
          <a:ext cx="914400" cy="771480"/>
        </p:xfrm>
        <a:graphic>
          <a:graphicData uri="http://schemas.openxmlformats.org/presentationml/2006/ole">
            <p:oleObj r:id="rId3" spid="">
              <p:embed/>
              <p:pic>
                <p:nvPicPr>
                  <p:cNvPr id="458" name="Object 2" descr=""/>
                  <p:cNvPicPr/>
                  <p:nvPr/>
                </p:nvPicPr>
                <p:blipFill>
                  <a:blip r:embed="rId4"/>
                  <a:stretch/>
                </p:blipFill>
                <p:spPr>
                  <a:xfrm>
                    <a:off x="4419720" y="48769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914400" y="685800"/>
            <a:ext cx="8229600" cy="5562720"/>
          </a:xfrm>
          <a:prstGeom prst="rect">
            <a:avLst/>
          </a:prstGeom>
          <a:noFill/>
          <a:ln w="0">
            <a:noFill/>
          </a:ln>
        </p:spPr>
        <p:txBody>
          <a:bodyPr anchor="t">
            <a:normAutofit fontScale="41000"/>
          </a:bodyPr>
          <a:p>
            <a:pPr marL="149400" indent="-115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 Continuity Update to TAC </a:t>
            </a:r>
            <a:endParaRPr b="0" lang="en-US" sz="28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 Ruane stated ERCOT will take all the information gathered from WMS and RMS.  Based upon that information, ERCOT may develop some operating principles and possible protocol language that would be discussed during the March 2017 TAC meeting.   </a:t>
            </a:r>
            <a:endParaRPr b="0" lang="en-US" sz="24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149400" indent="-115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AM Make-Whole Calculation Issue </a:t>
            </a:r>
            <a:endParaRPr b="0" lang="en-US" sz="28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 Ruane provided the following updates:  </a:t>
            </a:r>
            <a:endParaRPr b="0" lang="en-US" sz="2400" spc="-1" strike="noStrike">
              <a:solidFill>
                <a:srgbClr val="000000"/>
              </a:solidFill>
              <a:latin typeface="Gill Sans MT"/>
            </a:endParaRPr>
          </a:p>
          <a:p>
            <a:pPr lvl="3" marL="449640" indent="-7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ercot.com/content/wcm/key_documents_lists/76857/09._TAC_2016_12_01_DAM_Make-Whole_Calculation_Issue_v1.pptx </a:t>
            </a:r>
            <a:endParaRPr b="0" lang="en-US" sz="1800" spc="-1" strike="noStrike">
              <a:solidFill>
                <a:srgbClr val="000000"/>
              </a:solidFill>
              <a:latin typeface="Gill Sans MT"/>
            </a:endParaRPr>
          </a:p>
          <a:p>
            <a:pPr lvl="3" marL="449640" indent="-7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ction Item</a:t>
            </a:r>
            <a:r>
              <a:rPr b="0" lang="en-US" sz="2000" spc="-1" strike="noStrike">
                <a:solidFill>
                  <a:srgbClr val="000000"/>
                </a:solidFill>
                <a:latin typeface="Gill Sans MT"/>
              </a:rPr>
              <a:t> – TAC referred this issue to WMS and COPS for additional discussions and possible recommendations concerning the 2% threshold for Resettlement of the DAM as stated in  ERCOT Protocol's Section 9.2.5(2)</a:t>
            </a: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149400" indent="-115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149400" indent="-115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262080" indent="-9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363240" indent="-93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262080" indent="-9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262080" indent="-9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149400" indent="-115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449640" indent="-709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363240" indent="-93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363240" indent="-93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363240" indent="-93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363240" indent="-93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 </a:t>
            </a: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363240" indent="-93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363240" indent="-93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D27D-0C29-492B-8ED1-156A73E437D6}"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63" name="Title 1"/>
          <p:cNvSpPr/>
          <p:nvPr/>
        </p:nvSpPr>
        <p:spPr>
          <a:xfrm>
            <a:off x="990720" y="-228600"/>
            <a:ext cx="8001000" cy="11430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ea typeface="Arial"/>
              </a:rPr>
              <a:t>9. ERCOT Operations, Planning, and IT Repor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6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A167-9B39-4EA8-A0B6-C8EEF419BD93}"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6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6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68" name="Picture 7" descr="C:\Users\00015621\AppData\Local\Microsoft\Windows\Temporary Internet Files\Content.IE5\M2YDF2H6\passe-compose-ou-imparfait-grammaire-bdf-19[1].jpg"/>
          <p:cNvPicPr/>
          <p:nvPr/>
        </p:nvPicPr>
        <p:blipFill>
          <a:blip r:embed="rId1"/>
          <a:stretch/>
        </p:blipFill>
        <p:spPr>
          <a:xfrm>
            <a:off x="1854360" y="990720"/>
            <a:ext cx="591804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12-14T17:54:47Z</dcterms:modified>
  <cp:revision>1261</cp:revision>
  <dc:subject/>
  <dc:title>Instructions</dc:title>
</cp:coreProperties>
</file>