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5E3-1687-4B8C-B9F5-0F2206D3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C87-CEE9-4429-8919-C80740CA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6688A-33BA-4FA6-9DF5-5B243C65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348D8-8258-4109-8E98-F65CE01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37F6A-0103-4BB1-863C-4FF2C1DC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4FA9C-BA6C-4777-9D4F-AAF5F28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DA00C-0291-4473-8F59-55FBB19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2DF2-E04D-4658-85C5-E90459A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D8796-AFAA-47C5-948B-DFCF54BF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DDBC7-A106-4D8F-8538-F39D632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8E993-5CA9-4883-9BB4-79A5EF7E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76B20-D6C8-438A-A600-E7405E79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515-CA1F-4D02-87B7-B18FC884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D0B12-BC37-4A8E-9E4B-524E58C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AD09E-203A-4F73-8983-11A0B4FC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916A7-4670-44D5-9DE5-65AB5DF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DF395-89D8-4047-BB73-50C229C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EDFF1-30CF-4672-A676-0C2A468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A8211-75FF-4A90-88E7-F90E223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9DCEB-3FB1-4C43-934E-9433DB1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5AAC0-2577-4438-80B1-27AC9B70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02E21-474C-4E1E-A5B8-73016277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19F09-32DF-4877-A04D-67094AAE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C24-A757-4075-852B-FB028D7D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DE46A-8BC9-4905-B034-1DD33EF4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8536-FBA8-40A5-8924-092C2CCA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F6620-2246-448C-A01F-69C05FB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E358A-724C-4101-A70F-7F1A06C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6F868-89CA-4698-A1EE-09414A65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D9242-DED5-42FE-ABAD-7766CEA0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2B64-1423-4285-AF70-5FC8EA3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A6C65-DD39-4AC7-984F-8AEA8B8B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7D5D-BABD-4DB6-B845-A6A71002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54604-79D9-40ED-9E29-74CCCAD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2F99-AF03-4AC4-A28F-89755E2F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00088-6B61-4C7E-AD63-EF013547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FD004-3706-4FD8-A83D-D49A581F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812A-7EA6-4437-8FE2-0F588408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65FE5-70B6-472A-8254-CF8E79CA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10BDE-7E06-4C1E-9F6C-FE9A3A1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5E34F-5A05-4CF2-9D1B-78765CB1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76D5F-B2F1-4F4B-A6D4-D8DCF7ED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2FDC6-BD81-4E4C-832D-B7617EC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0CB1B-96E6-4B35-86E4-A08CBA06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92F10-62E4-4A61-8045-9A55EC4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D9F-7F57-4875-998A-51C1C027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948EA-508F-4135-88B4-E585984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7BFCC-5E8E-4488-BB59-8EE3042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41F9A-A205-4CBC-A089-0DC4E78D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B8377-07CE-41B0-9AE3-407E92D8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FBF9F-70FD-4A5D-99F3-DA16A702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16D-2214-4001-AD30-6CB36C8A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A794-51F8-45F5-B463-47447949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A9CF-2D9D-4CC3-815D-4539F4DC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19B-E2CA-4C9C-9853-E7F0508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11BE-5ADC-44B4-8DC7-0319E42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8DC-F359-4AAA-8C36-5167FF4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2E24-2C9F-40BD-A779-920AAC4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3E5-0BC9-4FE4-BB98-FC4A74F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031F-7887-4128-89D5-332BDE5C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ED2F-DC0C-4F5D-A34E-1104FA82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A00B-F3BC-4C8D-941F-DDF59E46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E395-FAAE-46BA-9E84-55419C76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A2AC-8D2A-4485-A7B7-F68F596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E729-47A3-4953-93A7-3416A482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9A9A-1E07-4298-B053-6EB76330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7ABD-5138-4D80-9377-8B6B97F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BF2-6E1B-4C8D-9685-9D03940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6EDB-5BDE-4EAC-AD91-AB45E6D7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16D2-3F86-4845-A13E-2EE1110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895C-7488-44D2-961E-1A1AFE4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2BDF-4D2E-461A-987A-9B50EDB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22E1-976E-434C-A390-E1DBF128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4DC3-FA76-445A-9B3C-0F9C8DE0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31A5-F8A9-48A2-8261-E2146320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5B09-9700-4DCA-A96B-B9420B5F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EEB5-42DC-4462-B7B1-BCB1E06C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0533-DBA6-4007-AA1F-6A6460FE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95C-C344-4388-803B-75A82EB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2533-D0C3-46A9-BF34-93082A7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1D1B-0B76-4762-B201-85170F9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EE1E-FCE7-4E0D-A087-57D2CC9C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7EDB-0373-443D-B9E3-F5DD881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33E6-0193-479D-9C0D-DE2FD91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993A-0BB5-42EA-89D9-4FC98F1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75C6-C6B4-4A6B-9968-4E598C30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E6B4-E543-40E4-9487-C80B2D0A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AE10-8784-44E3-8C4E-0604DF60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0075-931F-4078-930A-AAECC51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9B0-D8BE-4919-9E19-4CCC64B1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6D10-E216-48AC-86DB-4DAFEDBC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ECA8D-44CF-4450-A865-2D0574DF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9946F-415F-4E63-AA91-A978FD40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237F-1AB2-4AB0-9085-AEAC84BB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5AF1-CCE9-4548-BA19-73660168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DFAC-4E4C-4719-9C79-26AC5DA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D433-7977-49ED-8BFA-CDF4E888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C50A-C2FE-41AD-9DE1-0FAE940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6154-77E0-42F6-A7FA-ED7E14D0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3B5E-59B2-49F9-892C-655E6A13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07D-7848-41A7-A2BA-78E0FB2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B56D-6C53-43B0-8490-9583B83F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98DB-E483-4DB0-B626-EED3259A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B72C0-13DA-42AE-8675-3B5807D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751EA-B5AB-4165-9FD6-F3303210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DA1D-4CD0-4480-816A-0F4C4AF2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9EB4-1799-4A3E-8EF9-416CE84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8175D-7BE6-4FE1-B7A4-03ED8848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A153-9577-44FF-985E-FE092FA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A2FB-FD1B-4AF2-808F-E1C659C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2C9E-F294-425D-9BCF-F68FC57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8C0-BAF2-48B7-AE0F-AB7F35B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4A56-2841-4DE4-9999-A3503187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7238-4A48-4043-8CCD-0F69F2A0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8659-E701-4409-8720-3C95D6FE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BFE57-B523-4EB3-964E-B1FA4F68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F3EA-090E-4B1F-A21C-6E0E6F7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E569B-8650-4E92-BC79-459B322D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A5781-5B20-471E-8DCE-2BE17578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CF8AD-5594-4ECE-AE4E-76FE0987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134D3-8628-466B-9F94-2CDF7912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877D-7578-4077-94F4-3D2A4326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1B2-A133-41B6-853B-EBEE78A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8DDC-2B25-42E3-A395-B91A943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2092-248F-4947-B287-88F226D6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2688B-952F-4749-9D43-8C40AC0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28AE-BDA2-4EF7-B013-91BFCD51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29B51-FB02-4D3C-A3A5-B5A76D4C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BDA6D-A067-4A3D-BF10-F58B6F60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35CA-45B0-4AB5-AB73-3FF2063B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C3EF-97A5-4D81-BD2A-A65E4028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D34F-E075-4E68-ACE4-F919CA9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12EC-D8D5-4FED-A4C0-2512925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4C6-DF59-40EC-B2B7-C11CC57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73A8-E1B4-4BA3-8E87-F861BBF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F87A2-346E-4CEE-94D2-72FDB65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C7722-62F0-4E07-A162-BCA0E49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82255-964A-4569-AB64-5E285F2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5AF68-C056-459E-967C-6E4AB46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276D-8CD7-4AA6-8CD9-EDC3CA4E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CAED6-F78B-41A1-8098-4D4F9B2C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F4A68-A8CA-49A6-9410-E3FBF6D5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EC06-BC50-4122-B4E1-67BD631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E8E6A-9589-4D72-8BAA-4F1A3D6D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C8B-9644-4EFD-BA74-B7E3D949C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4FADA346-7BF0-4C4A-ABD4-E47B43545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0EF-0787-4943-A051-31A816A5C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7EEA-89B9-425D-8858-4376E6064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31C8-8D6A-4DD8-8860-58B5F8B250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D107-9913-4867-A78D-6C5B642D3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58E5-16E1-4382-8FE7-3151C9991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F2C-94E8-4CD7-AFC7-ED1D8EF95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0F9-9C48-4029-BCB0-E79D5FB3B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2AB-AAF6-4942-B1F0-6D3DA1105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4E2-D49C-450E-A036-C849CE084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269-DCDA-49C5-8B32-0338A335F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9567-EFB6-45BE-BE27-E2D884AA3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0A30-31CB-4BE5-A909-712EB38EC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F99A-D614-42B8-B48B-B53CCDBAE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3054-14F9-449A-B980-7F1B96AA9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7E0C-2887-4EF7-B742-07380A266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A81-DC04-43BE-9300-27EF064C3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AF89-D52A-4487-8EC2-08C7950F2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D12-5EA1-4131-8BBD-F511F1FDA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AD8C-0127-4FB0-BE4D-8AB027067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3926-3C3E-4365-8790-D16EFE993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A72-7EDF-4093-AF9F-01F5320C8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9D1-D056-4CAD-8320-05788B77B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anuary  12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E79A-4774-4FFC-8197-5BC8CAD1E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and State GMD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ERC Planning Committee Approved the GMDTF’s Proposal to Address the FERC’s Directiv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ECR GMD Mitigation Standard Drafting Team Meets on January 17 through 19, 2017.  WebEx is Avail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ERC Deadline for Response to Directives is May 29, 2018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5 (R) SB 83 – Relating to Protection of Energy Critical Infrastructure From Electromagnetic, Geomagnetic, Terrorist, and Cyber- Attack Threa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5 (R) HB 407 – Relating to Protection of the Electric Power Transmission and Distribution 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1/1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CE2-EE80-4D3E-AD23-B3A6F3250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for the PGDTF in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cument GMD Planning Responsibilities in the Planning Guide for June 2017 BOD Meeting (R1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GIC System Model for Geomagnetic Disturbance (GMD) Vulnerability Assessment (R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ise GIC System Model Procedure Man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 on January  11, 2017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1/1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D71-0128-4607-874C-4B068411F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e for Creating GIC System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/31/2016 – TSP Data for 345 kV System Based on 2021 Summer Peak Case Released on 10/15/2016 Due to ERCO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/31/2017 – TSP Data for 138 kV and 69 kV Systems and RE Data Based on 2021 Summer Peak Case Released on 10/15/2016 and Update to 345 kV System Data Due to ERC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1/2017 – ERCOT Provides First Pass of GIC System Model for Review to TSPs and 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7/1/2017 – TSPs and REs Provide Changes to GIC System Model to ERC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sequent Model Review Passes as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/1/2018 – Complete 2021 Summer Peak and 2021 Minimum GIC System Models Using July 2017 SSWG 2021 Summer Peak and 2021 Minimum Base C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35652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1/1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DD70-2A34-4CFA-849E-B29243AE3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03C-0EB2-41FA-9A73-21BFC5734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1/1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Oncor</cp:lastModifiedBy>
  <dcterms:modified xsi:type="dcterms:W3CDTF">2017-01-09T17:25:05Z</dcterms:modified>
  <cp:revision>206</cp:revision>
  <dc:subject/>
  <dc:title>PGDTF Update to ROS</dc:title>
</cp:coreProperties>
</file>