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47"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20C2-370A-434E-B78C-6CECD6778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6760" y="692280"/>
            <a:ext cx="4616640" cy="3463920"/>
          </a:xfrm>
          <a:prstGeom prst="rect">
            <a:avLst/>
          </a:prstGeom>
          <a:ln w="0">
            <a:noFill/>
          </a:ln>
        </p:spPr>
      </p:sp>
      <p:sp>
        <p:nvSpPr>
          <p:cNvPr id="26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C35D-5417-4C81-99D4-AED7D167B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6760" y="692280"/>
            <a:ext cx="4616640" cy="3463920"/>
          </a:xfrm>
          <a:prstGeom prst="rect">
            <a:avLst/>
          </a:prstGeom>
          <a:ln w="0">
            <a:noFill/>
          </a:ln>
        </p:spPr>
      </p:sp>
      <p:sp>
        <p:nvSpPr>
          <p:cNvPr id="27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B493-66EB-4D53-ADEF-B7F1EA6E9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6760" y="692280"/>
            <a:ext cx="4616640" cy="3463920"/>
          </a:xfrm>
          <a:prstGeom prst="rect">
            <a:avLst/>
          </a:prstGeom>
          <a:ln w="0">
            <a:noFill/>
          </a:ln>
        </p:spPr>
      </p:sp>
      <p:sp>
        <p:nvSpPr>
          <p:cNvPr id="27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8529-DF6C-4329-9ED2-4C4C9EF5B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2280"/>
            <a:ext cx="4616640" cy="3463920"/>
          </a:xfrm>
          <a:prstGeom prst="rect">
            <a:avLst/>
          </a:prstGeom>
          <a:ln w="0">
            <a:noFill/>
          </a:ln>
        </p:spPr>
      </p:sp>
      <p:sp>
        <p:nvSpPr>
          <p:cNvPr id="27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18E6-D9F5-49ED-B937-7F3A402A7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2280"/>
            <a:ext cx="4616640" cy="3463920"/>
          </a:xfrm>
          <a:prstGeom prst="rect">
            <a:avLst/>
          </a:prstGeom>
          <a:ln w="0">
            <a:noFill/>
          </a:ln>
        </p:spPr>
      </p:sp>
      <p:sp>
        <p:nvSpPr>
          <p:cNvPr id="27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FCE4-B345-45F3-A40B-ECCC3FFCB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2280"/>
            <a:ext cx="4616640" cy="3463920"/>
          </a:xfrm>
          <a:prstGeom prst="rect">
            <a:avLst/>
          </a:prstGeom>
          <a:ln w="0">
            <a:noFill/>
          </a:ln>
        </p:spPr>
      </p:sp>
      <p:sp>
        <p:nvSpPr>
          <p:cNvPr id="28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42BD-539C-45C7-A42E-B51D6A231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7DA8708-6205-4043-94B6-4E4C7D23D7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0321AF0-C0D8-4947-A61B-381863FD7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CE3D065-B82A-4338-9DF3-B2D61E98A1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032BC32-97B7-494E-B80F-CBCC54B759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ED05F-6F18-41AF-82A1-46B8FC5E1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B979F-9B3F-4E72-A9BE-C1B74C995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B32B2-DAFD-44B8-BC60-43F306AE2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4C6AB-79BD-4DDC-8454-3CC8E475D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7A3CE-D015-45F0-ADAC-9F923D650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8F16D-2290-45B4-A586-F1DF3396F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B4FF2-D562-4178-BB5F-765C9F2FE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6FA629-494F-4C34-BA54-7A32A1C4D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A3B29-A64F-428D-9AF4-7CD705CE3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7D149-AD6C-4BF3-AEBD-AD9E37DDC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31023-E21F-4F41-93C7-246F9202F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B91B3-599B-4EB9-B55E-483B9FB40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42EA5-32FD-4663-89A9-2C594E0DE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6806F9-3481-440F-B64A-9035A372D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A4995E5-76DC-4C5B-8129-965C3D2CC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119D4B-A438-4F74-8BB9-1227E18C7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649FF08-3678-42FA-B7CE-0A57E96ED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77679E-3B09-4562-9B72-5ADE2C181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39128F5-4FB3-40B8-88F5-5B74D460A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6180AB7-5687-4CD8-AD51-483E9196E5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D7DF-6652-4CEA-8F8B-07B6D59A9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013E-7F45-4056-8E60-6495AB89C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CAACD-1E2D-495A-B71C-B7C221D67B5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8653A-4B4C-4ABB-9262-9A8949E5F8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2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Picture 11" descr=""/>
          <p:cNvPicPr/>
          <p:nvPr/>
        </p:nvPicPr>
        <p:blipFill>
          <a:blip r:embed="rId2"/>
          <a:stretch/>
        </p:blipFill>
        <p:spPr>
          <a:xfrm>
            <a:off x="212760" y="0"/>
            <a:ext cx="8718480" cy="13716000"/>
          </a:xfrm>
          <a:prstGeom prst="rect">
            <a:avLst/>
          </a:prstGeom>
          <a:ln w="0">
            <a:noFill/>
          </a:ln>
        </p:spPr>
      </p:pic>
      <p:sp>
        <p:nvSpPr>
          <p:cNvPr id="166"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1" descr=""/>
          <p:cNvPicPr/>
          <p:nvPr/>
        </p:nvPicPr>
        <p:blipFill>
          <a:blip r:embed="rId2"/>
          <a:stretch/>
        </p:blipFill>
        <p:spPr>
          <a:xfrm>
            <a:off x="212760" y="0"/>
            <a:ext cx="8718480" cy="13716000"/>
          </a:xfrm>
          <a:prstGeom prst="rect">
            <a:avLst/>
          </a:prstGeom>
          <a:ln w="0">
            <a:noFill/>
          </a:ln>
        </p:spPr>
      </p:pic>
      <p:sp>
        <p:nvSpPr>
          <p:cNvPr id="20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0E196-25FB-42AF-8FC6-D66DFE3FD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RMS</a:t>
            </a:r>
            <a:br>
              <a:rPr sz="2800"/>
            </a:br>
            <a:r>
              <a:rPr b="0" lang="en-US" sz="2800" spc="-1" strike="noStrike">
                <a:solidFill>
                  <a:srgbClr val="000000"/>
                </a:solidFill>
                <a:latin typeface="Arial Black"/>
              </a:rPr>
              <a:t>John Schatz</a:t>
            </a:r>
            <a:br>
              <a:rPr sz="2800"/>
            </a:br>
            <a:r>
              <a:rPr b="0" lang="en-US" sz="2800" spc="-1" strike="noStrike">
                <a:solidFill>
                  <a:srgbClr val="000000"/>
                </a:solidFill>
                <a:latin typeface="Arial Black"/>
              </a:rPr>
              <a:t>1/10/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2" name=""/>
          <p:cNvSpPr txBox="1"/>
          <p:nvPr/>
        </p:nvSpPr>
        <p:spPr>
          <a:xfrm>
            <a:off x="266760" y="762120"/>
            <a:ext cx="8686800" cy="54864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PRR802, Settlements Cleanup</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voted to approve comments in support of NPRR802</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current ERCOT practices and cleans up Protocol language</a:t>
            </a:r>
            <a:endParaRPr b="0" lang="en-US" sz="24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es how Reliability Unit Commitment (RUC) Resources that have opted out of RUC Settlement are treated in the calculation of Real-Time On-Line Reserve Capacity</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ifies the methodology to be used when Base Point data has been corrupted due to issues with ERCOT’s Energy Management System (EMS) </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es that Resources receiving Emergency Base Points are not charged for Base Point deviation during the relevant Settlement Interval(s)</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cts descriptions of variables used in Ancillary Service imbalance Settlement to agree to the associated Settlement formulas</a:t>
            </a:r>
            <a:endParaRPr b="0" lang="en-US" sz="1600" spc="-1" strike="noStrike">
              <a:solidFill>
                <a:srgbClr val="000000"/>
              </a:solidFill>
              <a:latin typeface="Arial"/>
            </a:endParaRPr>
          </a:p>
          <a:p>
            <a:pPr lvl="2" marL="1257480" indent="-343080">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s up references in Section 9, Settlement and Billing, that refer to paragraphs of Section 7.9.3.3, Shortfall Charges to CRR Owners, that have been removed from the Protocols</a:t>
            </a:r>
            <a:endParaRPr b="0" lang="en-US" sz="16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57480" indent="-343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54"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e Pagliai presented the IT report for November 2016</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LA targets met</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0/16 – 11/14/16: Data not being loaded into the Settlement System</a:t>
            </a:r>
            <a:endParaRPr b="0" lang="en-US" sz="20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 scheduled Site Failover on 11/10/16, 867_03 data was not being loaded into the Settlement system</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67_03 data was manually loaded on 11/14/16</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11/14/16 @ 1:10 pm all 867_03 data from 11/10/16 – 11/13/16 was loaded into the appropriate ERCOT systems</a:t>
            </a:r>
            <a:endParaRPr b="0" lang="en-US" sz="1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lements Timeline for 2016 Holiday Period Provided</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request of the CSWG, Ohlen Dinopol presented the ERCOT Settlements Timeline for the 2016 Holiday Period</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request of COPS, ERCOT staff sent market notice M-A121616-01 Settlements, ERCOT Settlements Timeline for 2016 Holiday Period, on 12/16/2016 to provide the same information to all MPs </a:t>
            </a:r>
            <a:endParaRPr b="0" lang="en-US" sz="20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76320"/>
            <a:ext cx="8458200" cy="7617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2016 “4CP” Coincident Peak Load</a:t>
            </a:r>
            <a:endParaRPr b="0" lang="en-US" sz="2400" spc="-1" strike="noStrike">
              <a:solidFill>
                <a:srgbClr val="000000"/>
              </a:solidFill>
              <a:latin typeface="Arial Black"/>
            </a:endParaRPr>
          </a:p>
        </p:txBody>
      </p:sp>
      <p:sp>
        <p:nvSpPr>
          <p:cNvPr id="256" name=""/>
          <p:cNvSpPr txBox="1"/>
          <p:nvPr/>
        </p:nvSpPr>
        <p:spPr>
          <a:xfrm>
            <a:off x="266760" y="685440"/>
            <a:ext cx="8686800" cy="5638680"/>
          </a:xfrm>
          <a:prstGeom prst="rect">
            <a:avLst/>
          </a:prstGeom>
          <a:noFill/>
          <a:ln w="0">
            <a:noFill/>
          </a:ln>
        </p:spPr>
        <p:txBody>
          <a:bodyPr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 M-A120216-01 Operations, ERCOT has posted the 2016 Planned Service Four Coincident Peak Load Calculation Repor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Ruane informed COPS that ERCOT’s determination of the 4CP peak interval for the month of July 2016 was affected by a system anomaly.</a:t>
            </a:r>
            <a:endParaRPr b="0" lang="en-US" sz="1800" spc="-1" strike="noStrike">
              <a:solidFill>
                <a:srgbClr val="000000"/>
              </a:solidFill>
              <a:latin typeface="Arial"/>
            </a:endParaRPr>
          </a:p>
          <a:p>
            <a:pPr lvl="2" marL="1143000" indent="-2286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4CP Report shows that the July 4CP peak interval occurred at IE 16:00 on July 14.  However, during this interval – at exactly 15:50 – the East DC Tie tripped offline while importing approx. 581 MW.</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DC Tie trip, ERCOT deployed additional generation to replace the lost capacity.</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s determines each month’s peak demand by summing total generation and total scheduled DC Tie imports (This methodology is also used by other system operators in North America).</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July 14, the import value for IE 16:00 was not equal to the scheduled imports, because both the scheduled import value along with the replacement generation was counted.</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followed Protocols to determine the 4CP and does not have the authority to alter the outcome.</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notified the PUCT in Docket No. 46604 of what happened and is working with SPP staff, the DC Tie operator, to improve the e-Tag curtailment notification process.</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determined that if the system demand value for IE 16:00 had been corrected to account for the DC Tie trip, the July 4CP would have been IE 16:30 on the same day.</a:t>
            </a:r>
            <a:endParaRPr b="0" lang="en-US" sz="1400" spc="-1" strike="noStrike">
              <a:solidFill>
                <a:srgbClr val="000000"/>
              </a:solidFill>
              <a:latin typeface="Arial"/>
            </a:endParaRPr>
          </a:p>
          <a:p>
            <a:pPr lvl="2" marL="1143000" indent="-228600">
              <a:spcBef>
                <a:spcPts val="34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ERCOT is unable to work with SPP to improve the process, they will consider a Protocol change to prevent this from happening ag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76320"/>
            <a:ext cx="8458200" cy="7617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M Make-Whole Calculation Issue</a:t>
            </a:r>
            <a:endParaRPr b="0" lang="en-US" sz="2400" spc="-1" strike="noStrike">
              <a:solidFill>
                <a:srgbClr val="000000"/>
              </a:solidFill>
              <a:latin typeface="Arial Black"/>
            </a:endParaRPr>
          </a:p>
        </p:txBody>
      </p:sp>
      <p:sp>
        <p:nvSpPr>
          <p:cNvPr id="258" name=""/>
          <p:cNvSpPr txBox="1"/>
          <p:nvPr/>
        </p:nvSpPr>
        <p:spPr>
          <a:xfrm>
            <a:off x="266760" y="685440"/>
            <a:ext cx="8686800" cy="5638680"/>
          </a:xfrm>
          <a:prstGeom prst="rect">
            <a:avLst/>
          </a:prstGeom>
          <a:noFill/>
          <a:ln w="0">
            <a:noFill/>
          </a:ln>
        </p:spPr>
        <p:txBody>
          <a:bodyPr anchor="t">
            <a:normAutofit/>
          </a:bodyPr>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Ruane informed COPS that a material increase in DAM Make-Whole payments was noticed after the implementation of NPRR617, Energy Offer Flexibility on June 22, 2016.</a:t>
            </a:r>
            <a:endParaRPr b="0" lang="en-US" sz="1800" spc="-1" strike="noStrike">
              <a:solidFill>
                <a:srgbClr val="000000"/>
              </a:solidFill>
              <a:latin typeface="Arial"/>
            </a:endParaRPr>
          </a:p>
          <a:p>
            <a:pPr lvl="2" marL="1143000" indent="-228600">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pon review, it was determined that the increase resulted from a mismatch between how Startup and Minimum Energy Costs were being used by the DAM clearing engine and Settlements.</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mismatch affected Resources that submitted Three-Part offers with null values for Startup and Minimum Energy for the entire day but failed to meet all the qualifications to be considered self-committed by DAM Protocol Section 4.4.9.1 (3).</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 implemented, if an affected Resource was committed by the DAM, the Settlement system would consider the Startup and Minimum Energy values as null, while the clearing engine valued them at zero.</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 a result, the Make-Whole payment was based on the Startup Cap amount (generic or verifiable cost) rather than zero.</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discovering the issue, ERCOT determined that none of the impacted Operating Days met the 2% threshold for Resettlement of the DAM per Protocol Section 9.2.5 (2).</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code fix was implemented effective OD November 16, 2016 forward.</a:t>
            </a:r>
            <a:endParaRPr b="0" lang="en-US" sz="1500" spc="-1" strike="noStrike">
              <a:solidFill>
                <a:srgbClr val="000000"/>
              </a:solidFill>
              <a:latin typeface="Arial"/>
            </a:endParaRPr>
          </a:p>
          <a:p>
            <a:pPr lvl="2" marL="1143000" indent="-228600">
              <a:spcBef>
                <a:spcPts val="374"/>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COT staff is also evaluating additional means of monitoring Settlement outcomes to more rapidly identify implementation issues or other anomalies in the future.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Referrals</a:t>
            </a:r>
            <a:endParaRPr b="0" lang="en-US" sz="2400" spc="-1" strike="noStrike">
              <a:solidFill>
                <a:srgbClr val="000000"/>
              </a:solidFill>
              <a:latin typeface="Arial Black"/>
            </a:endParaRPr>
          </a:p>
        </p:txBody>
      </p:sp>
      <p:sp>
        <p:nvSpPr>
          <p:cNvPr id="260"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S referred review of the 2% Resettlement Rule to the CSWG</a:t>
            </a:r>
            <a:endParaRPr b="0" lang="en-US" sz="24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s and Settlements Working Group will review the 2% Resettlement Rule for both the DAM and RTM and recommend language changes if deemed necessary.</a:t>
            </a:r>
            <a:endParaRPr b="0" lang="en-US" sz="16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col Section 9.2.5 (2) DAM Resettlement Statement, paragraph (2):</a:t>
            </a:r>
            <a:endParaRPr b="0" lang="en-US" sz="1400" spc="-1" strike="noStrike">
              <a:solidFill>
                <a:srgbClr val="000000"/>
              </a:solidFill>
              <a:latin typeface="Arial"/>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shall issue a DAM Resettlement Statement for a given DAM due to error in data other than prices when the total of all errors in data other than prices results in an impact greater than 2% of the total payments due to ERCOT for the DAM, excluding bilateral transactions.  ERCOT shall issue DAM Resettlement Statements as soon as possible to correct the errors.  ERCOT shall review this percentage on an annual basis.  Upon the review, ERCOT may make a recommendation to revise this percentage under Section 21, Revision Request Process.</a:t>
            </a:r>
            <a:endParaRPr b="0" lang="en-US" sz="1400" spc="-1" strike="noStrike">
              <a:solidFill>
                <a:srgbClr val="000000"/>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ocol Section 9.5.6 RTM Resettlement Statement, paragraph (2):</a:t>
            </a:r>
            <a:endParaRPr b="0" lang="en-US" sz="1400" spc="-1" strike="noStrike">
              <a:solidFill>
                <a:srgbClr val="000000"/>
              </a:solidFill>
              <a:latin typeface="Arial"/>
            </a:endParaRPr>
          </a:p>
          <a:p>
            <a:pPr lvl="1" marL="45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shall issue a RTM Resettlement Statement for a given Operating Day due to data error in data other than prices when the total of all errors in data other than prices results in an impact greater than 2% of the total payments due to ERCOT for the RTM for the Operating Day, excluding bilateral transactions.  ERCOT shall issue RTM Resettlement Statements as soon as possible to correct the errors.  ERCOT shall review this percentage on an annual basis.  Upon the review, ERCOT may make a recommendation to revise this percentage under Section 21, Revision Request Process.</a:t>
            </a:r>
            <a:endParaRPr b="0" lang="en-US" sz="1400" spc="-1" strike="noStrike">
              <a:solidFill>
                <a:srgbClr val="000000"/>
              </a:solidFill>
              <a:latin typeface="Arial"/>
            </a:endParaRPr>
          </a:p>
          <a:p>
            <a:pPr lvl="1" marL="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Working Group Activities</a:t>
            </a:r>
            <a:endParaRPr b="0" lang="en-US" sz="2400" spc="-1" strike="noStrike">
              <a:solidFill>
                <a:srgbClr val="000000"/>
              </a:solidFill>
              <a:latin typeface="Arial Black"/>
            </a:endParaRPr>
          </a:p>
        </p:txBody>
      </p:sp>
      <p:sp>
        <p:nvSpPr>
          <p:cNvPr id="262" name=""/>
          <p:cNvSpPr txBox="1"/>
          <p:nvPr/>
        </p:nvSpPr>
        <p:spPr>
          <a:xfrm>
            <a:off x="266760" y="685440"/>
            <a:ext cx="8686800" cy="563868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SWG reported on their review of NPRR802, Settlements Cleanup</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DWG reported on the creation of NOGRR166, Daily Grid Operations Summary Report (Replacing NOGRR084)</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NOGRR created to take the Daily Grid Operations reporting requirements in a new direction</a:t>
            </a:r>
            <a:endParaRPr b="0" lang="en-US" sz="2000" spc="-1" strike="noStrike">
              <a:solidFill>
                <a:srgbClr val="000000"/>
              </a:solidFill>
              <a:latin typeface="Arial"/>
            </a:endParaRPr>
          </a:p>
          <a:p>
            <a:pPr lvl="1" marL="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WG reported on two draft LPGRRs</a:t>
            </a:r>
            <a:endParaRPr b="0" lang="en-US" sz="24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lean up LPGRR057 (Section 12 and 13)</a:t>
            </a:r>
            <a:endParaRPr b="0" lang="en-US" sz="2000" spc="-1" strike="noStrike">
              <a:solidFill>
                <a:srgbClr val="000000"/>
              </a:solidFill>
              <a:latin typeface="Arial"/>
            </a:endParaRPr>
          </a:p>
          <a:p>
            <a:pPr lvl="1" marL="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Annual Validation Timelines</a:t>
            </a:r>
            <a:endParaRPr b="0" lang="en-US" sz="20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64" name=""/>
          <p:cNvSpPr txBox="1"/>
          <p:nvPr/>
        </p:nvSpPr>
        <p:spPr>
          <a:xfrm>
            <a:off x="533520" y="914400"/>
            <a:ext cx="8076960" cy="22096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January 18, 2017</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01-04T18:53:31Z</dcterms:modified>
  <cp:revision>1746</cp:revision>
  <dc:subject/>
  <dc:title>Instructions</dc:title>
</cp:coreProperties>
</file>