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4B7E-6A8F-4876-A483-71CFB8AAA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CDDA-935A-42D5-9FB3-64F73224D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2B82-F5A8-476C-ADCB-1860C2407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EA2B-8A9B-43A0-B239-CCC21B548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110E-D676-457A-A2A6-AF2FE14E9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9F3A-7EB1-46EA-B31C-F70C43FA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2D6A-2DDF-456F-ABB6-6DF73E3C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42C7-E3DF-4AD5-A814-B72358D1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192D-6741-42BB-BBB2-FE1D789F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701A-5D3B-4376-9C46-31FD4440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6F4F-69C2-4D5F-B4D2-0BCE0680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DFE8-32AC-4061-A781-E835AD0A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C3AB-A7E9-4D70-8E7E-F8C24122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F72F-F218-4AEF-8808-0B79E48F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B2BD-EC43-4F7F-87CE-E4F5BCEA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6763-B1EF-4F02-9232-F2F4ED6E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EE32-D1C5-46EA-A220-CA8567C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3112-5986-499F-96A3-DA7B6096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3BBB-2C2D-4C00-BF02-AEEDDFDB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D520-35E1-417F-ABC6-CB9FC468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DDE5-76A0-4829-A550-008BDB34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ED54-57F1-4201-8C83-CD86BC57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0E66-BE2D-4BD1-9771-663701E1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FD54-65FE-4A9E-AF69-A3768699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03D0-4774-42BD-9C10-0DBE02EF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AE41-4CD6-4CB7-BFF1-E4655793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9919-9EA5-4A50-B724-FEB24886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FE3F-CAA2-4240-AC64-8F2CA92D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8F74-C31D-4AF7-AF7A-F110266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56CA-DE1D-4E6C-AFCF-1E09F7A4A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8CCF-1DDA-4E39-8AFB-36C29425E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4646C-2944-442F-AAF8-FF516810ABA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A2899-5E1B-4537-AA9B-A680DACD1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8FF92-B6E7-4127-955A-7FA68743F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rcot.com/calendar/2016/11/9/78069-COPS" TargetMode="External"/><Relationship Id="rId2" Type="http://schemas.openxmlformats.org/officeDocument/2006/relationships/hyperlink" Target="http://ercot.com/calendar/2016/11/9/78069-COPS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2/1/20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6676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 Confirmation of 2016 COPS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Schatz (TXU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election required due to change in ERCOT Corporate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MGRR044, Alignment with NPRR794, Relocation of Unregistered Distributed Generation (DG) Repor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cates Unregistered DG reporting requirements from the Commercial Operations Market Guide to th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to table pending consideration of NPRR7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Overview of Credi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6676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thanks to Vanessa Spells for providing COPS an overview of the ERCOT Credit Repor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Credit Reports Overview” presentation may be found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rcot.com/calendar/2016/11/9/78069-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Key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3"/>
          <a:stretch/>
        </p:blipFill>
        <p:spPr>
          <a:xfrm>
            <a:off x="1359000" y="2209680"/>
            <a:ext cx="6502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6676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e Pagliai presented the IT report for October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LA targets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Incidents and Maintenance items were repor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3/2016 – 10/14/2016 Reports posted intermit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4/2016 Day-Ahead Forecast information was missing from the Load Forecast vs. Actual dash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8/2016 – 10/20/2016 Planned Maintenance (Including site failov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d Market Notice Enhancement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d Hailu presented an update on the scope and expected implementation of the Archived Market Notice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project completion Q1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ebsite will include a page of archived Market Notices, subscription to an exploder list will not be required to see the No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eature for Notices dating back three years based o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PRS NPRR Referra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6676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802, Settlements Clean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requests NPRR802 continue to be tabled at 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ed to the CSWG for furth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will submit comments at their December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794, Relocation of Unregistered DG Repor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by CSWG and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submitted comments recommending approval of NPRR794 with ERCOT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32004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533520" y="9144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cember 14, 20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10-21T15:37:14Z</cp:lastPrinted>
  <dcterms:modified xsi:type="dcterms:W3CDTF">2016-11-23T15:12:26Z</dcterms:modified>
  <cp:revision>1722</cp:revision>
  <dc:subject/>
  <dc:title>Instructions</dc:title>
</cp:coreProperties>
</file>