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99B1B-9C5C-4A2F-9063-86ACC3C88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93F62-E6B0-486F-8AC2-5DF5D2D82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D812A-B5F1-4723-A90C-473A0CCB9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45976-5449-4C7C-BAE3-78A08ECF9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B95D1-6FFF-4849-BD89-66B9CA68D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ED1AE-06A2-4D89-9E29-58D21F6AD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829E9-B176-46CA-9725-4526B06EF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932BA-90C0-4909-966F-51918298F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24C-7A7A-42FA-8191-8490C7BA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0C7-EFC0-434E-8A7E-2161B2B7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5BE15D-DB28-4D9B-8FE2-73FD2074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F42B77-FC6A-4E90-B87B-85283D4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E7AF4-0483-4C5E-AB42-A41143FE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8F391E-BB32-44D2-A147-EBFC3F88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0E91D0-DF03-4AAE-87CC-4095AB5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5D23A2-EE0A-431D-9617-958EEA30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8D1F81-2382-443F-9BC1-6FE62D93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C37A20-EF10-4102-9D1C-CB0A96F3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B75F32-24F5-466A-BE70-8457813A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800E51-DDBF-4D00-9C4E-E6FF5F1C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969-D1BB-45D3-87CB-EC96FF73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BF41A-6433-46C2-985E-FDEDDB28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AB1D3-4A78-4DBF-A1B7-73CAD60A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75A569-EF53-4857-802C-D65C60BE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1DB512-CD60-4969-A506-9B9C8F39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17901C-8BD5-4702-A3B9-CF18BC7F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A6EBCD-B57A-40EB-990A-563B5A3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C81593-7754-44F3-9135-8F33774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6A88A8-46F5-412C-BF52-00A79451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5A9E16-2956-4652-AAF5-1B3E23BA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6B97A-F03C-4050-8A5D-3FEB18C9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3F7-12B6-4D00-B8CD-239D67BE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1E9115-085C-4F85-8455-5855CDFC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DB5D-5FAC-498D-9674-5AD51E2A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AD8F-A0DE-4DF8-A8C5-04DAC90D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A5A8-ECF8-47F4-9CA1-03A64DDA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3151-1DFF-486B-AEB6-9284079E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E8F7-7BCF-48BF-99D7-1B1071FF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939D-5565-4B43-BBC7-CC8426D8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B0A2-F8E4-4C8D-930C-8ECF47E5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360-2896-44D8-A170-DD0152AD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3ECE-6498-418C-807E-C754209E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451A-1784-4059-BAD9-953515BB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5A61-0FB0-412C-86A0-38A7559F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5892-E3C6-45F1-B3C8-DC570E51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815D-EE40-4D83-B420-ABA3E721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BD2-A230-4FF1-B100-ECDB8795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094-6182-4919-B0D9-631249A7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CDD79-2A3D-4B12-93CF-10137385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8F7-3333-4B2F-B8E6-18637138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D7CC0-D551-4EC3-98C5-14AB95C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7B212-9439-486C-B80B-6B7E5360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84387-9238-4012-9A2E-34C6E006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076AA-8EAF-4F3E-874F-ED578655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64CB5-607C-4640-8340-C523C4F2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E0B19-B66F-4132-8D9B-F75943D2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E7544-D48A-4964-9BB8-B0B6126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07F42-698F-4F2A-87D4-C147938D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A95AE-4425-4808-9977-57A32926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876E8B-0C02-4AF4-B4FE-ACEC240D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0F2-0562-42E3-9852-FBD89681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B675C-922F-4241-A829-9BF5735E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78AD5-DC85-403D-A053-B1AF1E4A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FF61F-54AE-4CC6-BA50-FEBFC698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C6C4E-D7F5-4B5D-85A0-BAEF3F0F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560C5-EA0C-4DED-8EB0-B03B703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9CAD3-5BEE-45E0-830C-54BC5CFA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D6A2B-4A4D-43EA-BFCD-639011B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370C1-2B5C-4D2A-8548-08B67BB2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5F421-2EC7-4412-A86F-E990A90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B9F23-A3E8-454A-8E8E-9A4205C7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D66-E85A-4DDD-B4AB-EFCE7DC0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C943C-6780-45B9-A207-E9F61BC5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D4078-AF5F-42C3-87A0-6B6582A0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08071-8A54-45EA-A964-6D1C3ACD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72016-BB23-43F7-9491-03E6BBB2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F2842-E68B-4AFE-9AF3-3B732376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3973B-175C-42CA-A425-49469384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8DACF-D788-41AE-B432-5D2F7621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1F095-BCA0-4D55-8801-FA23A020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FE364-1ED6-4B8A-AD02-512BBCF6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9B80B-5809-465E-A68A-A9134839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F8E-9437-4E28-8D71-AA778F92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CA895-9A0C-4170-ADA7-861CE5C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1F54E-DBA3-470D-9978-94C6738F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954CD-66C6-48D8-BF51-F64E1CBE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F72A3-6F4E-4351-B16A-5037274B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926FA-D815-4FCA-A20A-4D4249A6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3112B-B996-4F70-AC96-0AB489F5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1666C-EE17-4721-880E-0ED6D1C3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DDA35-F979-4D26-90D9-E4C387CA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AD6E3-2573-431A-8758-BC82B09A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D9038-9779-4953-BFC0-C21AE0AB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208-F84B-4631-AB5C-9E4D1674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871C2-DF3C-4117-887C-8288E9B2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C28A6-8D4B-46EB-B271-01CD04B6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71F18-B44B-49FE-975F-1B814341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5B95C-C37D-44F2-B91A-AC8C207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4407C-BC07-4C57-81F0-F35D4D00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16D3F-6D7E-4C68-9CC9-CAA84B17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65278-D2C0-4169-9BDA-29EFB748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F25C16-9BDE-479C-A585-A761B860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13E889-5AAC-4457-AD9D-A814FAC3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F103DC-7D32-449C-83A1-95686E4B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B11ED-00BB-4DCF-8FCA-07C0D88BB1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90A6F-014F-4555-B188-46FEECD67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42C70-9EEF-4CB2-A127-F8E615F2764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5D9B7-CEE5-4982-B284-9DF4717ADA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D268A-44FC-4E83-9D7E-D463D68D693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35C80-F800-4E1F-926E-A6E3B4497C2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4EA3F-89FF-469D-A543-30B8FDA98DF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76429-51A4-4CD6-B616-45B41E9EA66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D1A66-72A5-4649-A043-1879FE6A5E7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ABABE-2D1A-4A56-8A9F-F3FEBB8DBEA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066AC-2110-4B04-83EB-D508A4D73C3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95721-C12C-4656-9C05-708FE0CC1A5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903BE-C7D5-4F7E-AD9D-B4068EFA7D8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15DCF-ED59-49AC-A23C-C88A668044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006FA-1AA4-4C6F-9B0E-95C32C6B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D20A2-7373-4D88-98A2-A45E4121E4C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A1353-98DB-424B-8559-91BDD0FABE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56EC7-CE7F-4343-B7AE-AB699C10FD8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9D89C-6857-4403-9A80-2FDB58E5C1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11508-43A7-442F-BB35-57DD257CF13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1902E-9914-4461-B40B-09571BFF65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0896C-F665-41B6-94FF-38C62B59C49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AD89D-1911-465C-A052-8DA5ACB72D18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1BF23-7081-437D-BB88-8BFF1CFBE48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BD979-FB7D-406F-97CE-0E1B3FDDFF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64868-8222-44C5-B37C-B1077F35E9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ovember 2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cember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F0C11-729C-4CB5-A156-29B19FD923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-TAC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MOGRR018, EPS Metering for Three-Wire Wye Configuration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Approv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MOGRR019, Clarifications and Updates to Paralleling Current Transformers, Instrument Transfer Name Plate Photos and Loss Potential Event Logging Requirement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Approv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RR Activity Calenda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DAC6A-CE9E-4325-8E78-6EDF263529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MR Issue:  Long Term Solution – Alternatives to NPRR784, Mitigated Offer Cap for Reliability Must-Run (RMR) Uni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a methodology for establishing MOC for RMR units based on the last dispatchable non-RMR resour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has asked ERCOT to develop implementation options to be considered at a future me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ncillary Serv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assign QMWG to review and draft NPRR language for concepts of Responsive Reserve to include: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Remove 50% limit for LRS in RR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Change 20% limit on RRS for units to be based on performance/testing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Include a fast responding service as a subset of RRS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E1DC5-941F-4E11-8E50-A95365935C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arket Continuity – CMWG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C2E8E-5CBF-46FC-8E38-87595EF97C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822240" y="2327400"/>
          <a:ext cx="6602400" cy="419040"/>
        </p:xfrm>
        <a:graphic>
          <a:graphicData uri="http://schemas.openxmlformats.org/drawingml/2006/table">
            <a:tbl>
              <a:tblPr/>
              <a:tblGrid>
                <a:gridCol w="841320"/>
                <a:gridCol w="4556160"/>
                <a:gridCol w="1204920"/>
              </a:tblGrid>
              <a:tr h="2286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pen issues / questions to be addressed with the mark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o do with CRRs with no corresponding RT and DAM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arket Continuity – QMWG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7683E-10BF-42DB-946B-0F2F58727E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822240" y="2327400"/>
          <a:ext cx="6602400" cy="2406600"/>
        </p:xfrm>
        <a:graphic>
          <a:graphicData uri="http://schemas.openxmlformats.org/drawingml/2006/table">
            <a:tbl>
              <a:tblPr/>
              <a:tblGrid>
                <a:gridCol w="841320"/>
                <a:gridCol w="4556160"/>
                <a:gridCol w="1204920"/>
              </a:tblGrid>
              <a:tr h="2286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pen issues / questions to be addressed with the mark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uld DAM be successfully completed before restarting Real-Time Marke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not, should SCED be restarted using mitigated Offers for Operating Days for which DAM has not run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so, should the prices from those SCED runs be considered as valid prices for settlement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o do with the DAM results for the hours with no corresponding RTM run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DAM results are invalidated, what about corresponding CRR result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uld ERCOT plan to pay generators during the outage even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would be the methodology for uplif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address meter usage data availability / application of estimation and usage profiles (metered and non-metered accounts)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arket Continuity – RCWG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DD9FF-1084-4503-A6C8-BDC2D32265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822240" y="2360520"/>
          <a:ext cx="6602400" cy="1828800"/>
        </p:xfrm>
        <a:graphic>
          <a:graphicData uri="http://schemas.openxmlformats.org/drawingml/2006/table">
            <a:tbl>
              <a:tblPr/>
              <a:tblGrid>
                <a:gridCol w="841320"/>
                <a:gridCol w="4556160"/>
                <a:gridCol w="1204920"/>
              </a:tblGrid>
              <a:tr h="2286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pen issues / questions to be addressed with the mark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are verifiable costs for renewables addressed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 the emergency event, provide a mechanism for Resources to request emergency funds to cover fuel supplies and services, if needed to continue operating during the emergenc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the emergency, compensate Resources for their actual direct cost incurred during the emergency event (Resources would provide documentation of their costs to ERCOT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6-11-21T17:40:49Z</dcterms:modified>
  <cp:revision>89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