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1"/>
          </p:nvPr>
        </p:nvSpPr>
        <p:spPr>
          <a:xfrm>
            <a:off x="39366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2"/>
          </p:nvPr>
        </p:nvSpPr>
        <p:spPr>
          <a:xfrm>
            <a:off x="-36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 type="sldNum" idx="13"/>
          </p:nvPr>
        </p:nvSpPr>
        <p:spPr>
          <a:xfrm>
            <a:off x="393660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048A-7137-48DF-8C5F-D99DC3252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0FF5-8C90-451A-A598-7C77DB26B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2505-E3DF-40F5-B00E-D742CDBCD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5ECC-D0FE-4A06-92C2-50E548782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99A0-6B17-47CA-8220-D93F09FDF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C959D-CAB7-4D05-9E7E-5A4A5360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9F6D-F8DA-4877-966F-B22AABCA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A4E8-18F4-4E71-B2DB-5D8364D9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35FCD-2793-478D-BDEC-F3C95AB6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42BE-E082-4DE4-B91E-AF0B9BB7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326B-0717-4AEA-9AC3-3FEFED7E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2034-0C12-4310-8E69-05ABDA8B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7786-E76B-4CB5-8E99-091F54E5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9C91-58A3-47CC-A21C-47DB9A96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30E8-B0B4-4BD2-908C-E2655947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27D4-8E87-45D8-98CA-174BB87C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07D8B-9879-4C6A-849E-449D8113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E5E7-F5DC-4EE1-A99D-612F18A2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284C-C801-4E90-813F-BA4263A8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9E96-A490-48A2-BEA6-9CB94E77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C259-608B-422B-93DB-1DBA0BA3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D67C-547B-403E-9083-22F1860D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BCC2-272D-4DFF-87DD-D7A8C950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D4C29-6988-4895-8451-172A8517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C75B8-30E4-4A91-896E-BB381E0C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EB0F-73D2-437B-8478-52B9B4B5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C7212-7DDF-4C54-BE72-511F0F8F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9E24-17E6-4916-AE2A-ADE201D5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01E6-5D3E-4770-9316-3AE98557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7479-045A-4317-8D5A-3561405ED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4066-70FD-4B60-86AB-77A9D7C68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38286C-C110-4068-9101-54348D9D0C3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BDC878-A0DC-46EF-A1F7-5CBD7604E2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3230640" y="0"/>
            <a:ext cx="591336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19692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05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7E66DC-F0CD-496C-92B8-003334382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rcot.com/calendar/2016/11/9/78069-COPS" TargetMode="External"/><Relationship Id="rId2" Type="http://schemas.openxmlformats.org/officeDocument/2006/relationships/hyperlink" Target="http://ercot.com/calendar/2016/11/9/78069-COPS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ercial Operations Subcommittee </a:t>
            </a: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(COPS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to TA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ichelle Trena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2/1/20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COPS Voting Ite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6676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C Confirmation of 2016 COPS Vice-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Schatz (TXU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election required due to change in ERCOT Corporate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MGRR044, Alignment with NPRR794, Relocation of Unregistered Distributed Generation (DG) Reporting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cates Unregistered DG reporting requirements from the Commercial Operations Market Guide to the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to table pending consideration of NPRR7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Overview of Credit Repor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6676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thanks to Vanessa Spells for providing COPS an overview of the ERCOT Credit Repor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Credit Reports Overview” presentation may be found a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rcot.com/calendar/2016/11/9/78069-C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 Key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" descr=""/>
          <p:cNvPicPr/>
          <p:nvPr/>
        </p:nvPicPr>
        <p:blipFill>
          <a:blip r:embed="rId3"/>
          <a:stretch/>
        </p:blipFill>
        <p:spPr>
          <a:xfrm>
            <a:off x="1359000" y="2209680"/>
            <a:ext cx="6502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ERCOT Repor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66760" y="6854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e Pagliai presented the IT report for October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LA targets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Incidents and Maintenance items were repor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13/2016 – 10/14/2016 Reports posted intermitt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14/2016 Day-Ahead Forecast information was missing from the Load Forecast vs. Actual dash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18/2016 – 10/20/2016 Planned Maintenance (Including site failov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d Market Notice Enhancement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d Hailu presented an update on the scope and expected implementation of the Archived Market Notices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project completion Q1,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ebsite will include a page of archived Market Notices, subscription to an exploder list will not be required to see the No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feature for Notices dating back three years based on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PRS NPRR Referral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66760" y="6854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RR802, Settlements Clean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requests NPRR802 continue to be tabled at 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ed to the CSWG for furth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will submit comments at their December 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RR794, Relocation of Unregistered DG Reporting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by CSWG and C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submitted comments recommending approval of NPRR794 with ERCOT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3048120" y="3200400"/>
            <a:ext cx="2895480" cy="26877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533520" y="914400"/>
            <a:ext cx="80769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 next COPS meeting is scheduled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December 14, 20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Trenary, Michelle</cp:lastModifiedBy>
  <cp:lastPrinted>2016-10-21T15:37:14Z</cp:lastPrinted>
  <dcterms:modified xsi:type="dcterms:W3CDTF">2016-11-23T15:12:26Z</dcterms:modified>
  <cp:revision>1722</cp:revision>
  <dc:subject/>
  <dc:title>Instructions</dc:title>
</cp:coreProperties>
</file>