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</p:sldIdLst>
  <p:sldSz cx="9144000" cy="6858000"/>
  <p:notesSz cx="7027863" cy="9313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0"/>
            <a:ext cx="7027200" cy="931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dt" idx="35"/>
          </p:nvPr>
        </p:nvSpPr>
        <p:spPr>
          <a:xfrm>
            <a:off x="3979800" y="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sldImg"/>
          </p:nvPr>
        </p:nvSpPr>
        <p:spPr>
          <a:xfrm>
            <a:off x="118548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ftr" idx="36"/>
          </p:nvPr>
        </p:nvSpPr>
        <p:spPr>
          <a:xfrm>
            <a:off x="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 type="sldNum" idx="37"/>
          </p:nvPr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906BDF-B3C1-4929-A004-1D570846FC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E05FBE-ED4F-4BD3-A7EC-A114AF733B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FA541-7EC0-40CE-90B8-7A5FE6A82D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41CB73-669B-4ADB-9F8B-603FEF2346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CC46C3A-BED8-48DA-A414-3925F1B700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A323F4-3994-44CE-AC57-2C445425DF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3FF109-64EA-4D33-B6CA-B6C92B9815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858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703440" y="4424040"/>
            <a:ext cx="561960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lide Number Placeholder 3"/>
          <p:cNvSpPr/>
          <p:nvPr/>
        </p:nvSpPr>
        <p:spPr>
          <a:xfrm>
            <a:off x="3979800" y="8844120"/>
            <a:ext cx="30448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8FDB82-9A20-4B82-ABA5-CA8DA3863E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7906-86D7-444F-9268-D32847E4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F25B-9811-4D0F-A694-8F900305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28F50C-D466-44B4-BAB4-59221E8A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B61168-EEE9-4012-97BD-7318E44C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9A3A458-E136-445C-9597-519CB6A8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253F047-A8D3-4182-AB9B-BBCC6FFF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BD9E2F-F401-494F-8E53-E6BADB91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39A356-DF7B-49F4-8468-77A379DF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DB91D82-2845-467D-BD7E-910626999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9A7663-B5C7-4A77-B880-59929D780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154431-315D-42C5-9388-6524A69B9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7591CE-891B-4A7D-8D4C-A3F7A503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DE3-66BE-487A-8024-60A8215BB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50ED67-98A7-462B-BB32-B614E35CD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6BCA1B-1055-4D88-B934-332956AE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72AA5FD-93E8-43C4-9884-CABA002F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551C72F-DF09-42CE-8A0F-C11AB561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E6519B-04F7-4F06-97F7-506CACC2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4EE555F-80ED-4FC9-B1C7-BD8C673A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A182E43-AF43-4CAC-8C7E-3D9FAC793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99D0190-2AA1-4BE6-9F6D-DB5B2C8E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455532-FD43-4728-89E9-241C598E0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23F66C-5DB9-4BAD-BF23-ACC8371D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13A-5C5A-4399-8927-622F2D14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3EAB503-D301-4493-A82A-80BD7A703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E482C-AF89-4BC3-8056-8416013E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9E5F-9EFF-4543-9ED8-F39F19843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006F2-D711-4BB8-8F17-3F194D72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B647-F1D6-435D-954E-4F2D58CE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EFE4-D305-4DDA-BB47-453BF7DC6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71303-55F6-4587-BB0F-31EEDD49E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6ED20-C3F8-4D6D-9157-82D35D02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992-336A-445C-9F7A-A60A62C8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48331-C6C4-4EB0-8B5B-B384690BF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A06A6-3247-4C38-932D-8AD98315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26C4-0AE6-428F-9EEC-C4A553C9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5CA0-E6F8-4930-8CFE-619C9E6F5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FC26-10BE-4B77-8C08-161E2D8BA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0254-4BB3-4C61-9869-F7BD642D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0E2-C578-4DDD-98EA-CD3ADD54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E5C0A0-5D61-48E8-B665-D2327213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3E3-CE55-4420-92CF-D00275F5C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AA7D831-F444-4B4B-94AF-0B52E63E9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7913A4-6FC8-4AA4-A786-D59AABADD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2FB3E4-6494-42D6-9AB0-832DFE6A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B4FBDF-7561-418F-99E2-484649FB6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AC004E-FF4A-456E-8488-6D2C12E3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7C1AA62-65F8-4860-9933-65080E8FA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BF63A7-8862-4329-A85D-DE4F8DE1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03B442-B7D3-43F3-8A51-83EB867A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326A0F-3E7B-41A1-87B5-00A5E010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639644-E1B3-403F-A548-7F90E20A8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3E99-1C3F-42F4-97E4-BBBB199D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8D254A-A168-4330-8D5F-2CE6D3E51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C5D2E-0761-4C7B-ABC9-AD75252F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B76F0D-2D5A-4BCF-8F24-0F7E6168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BEEFA0-4E00-4873-8560-79181A72A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32ABB01-58C7-4393-8EEB-86970418D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A7D8BB-EFA9-44C3-B6DE-F835E38E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A029A-3EF1-4D06-9411-943590F5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826DB0-DB27-420C-B4D0-F003D03DC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F1769C-7210-4571-A989-BEED7C3C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6DB815-8554-4893-B3E8-D741E41C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24D1-0666-430C-B096-8CA2A735D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2D0618-D59D-4A23-86E6-1547C116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932A4E-7C7C-465A-8D0F-B0F75508E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0B1240-530B-40A7-9E6A-462316C4D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B3F73E-E48C-44EA-94DC-CBB5BC9F6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5BB210-98A3-42CB-BAD4-1DC32F78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9EDAF3-1D1A-4BB6-B71E-89350D66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FD2321-8481-4FBE-8027-059469EA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0074FF-5515-4F42-B9AA-4BAB857A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23D4B7-278C-4775-9BCB-DCBD6A26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E6E3BE-2A2C-4BA9-81CF-9734F83C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8E53-ED88-4F02-A9C0-67B61892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2C9EC0-595A-4728-BB7A-20EBE321D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7DDC71-DF3B-4301-9515-ACEB6181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01A3BC-73FF-4FEC-8E3B-BEC750E38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577D56-4BE5-4DD2-A5CD-37F7B88DF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325579-0B3D-4A6F-96EF-6F05BD33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18F2F2-904F-40A5-A280-697B12948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7BD304-0B4A-4B40-BF7D-D70081F6F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38C835-D3B0-4F60-8700-93D28D68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671CAD-D98B-4969-9F79-D841F3F4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76E260-A81E-4DCA-8730-BDD1335DF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27EF-A858-4199-971A-D0097973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E7FE99-D553-4331-827C-ECAA1A4E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16C042-5FAC-4903-953E-429CD6F41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635452-901C-4107-B130-08B82967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52FFF9-10FE-4ADC-B1E7-E774EA5D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B11EC6-B690-44F9-A226-064C6477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388D19-5C1F-42F9-9162-99375473E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F715DF-D308-438F-BB98-CA84126D3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B6F3FAB-3187-458F-9B1F-0F9D87FE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FB8A1A1-EE00-42BC-8C60-2A591ECF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50D92A-77FF-446C-9EBF-25A406BB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45684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1EE824-7BB2-4950-940D-077F19A6087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3124080" y="597528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6552720" y="59752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6C439A-9CC2-4A94-8475-5993881F9F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C75DE6-8468-4E5C-A665-C5622E8DD3EF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68B75D-D125-444F-9A70-6E1E85539D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EE4332-436E-4590-A402-E55D47C5B40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2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05B4D3-8FE2-4670-BC91-6440E23BE222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660719-E421-48B7-8937-5652F91508C3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29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0FD1F-5A25-48F8-8EA6-C74766CFE036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ftr" idx="30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33ED03-0252-4435-92C2-964A59618464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ftr" idx="31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137E59-0CFE-4373-BF10-AF1BB67F5A0D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ftr" idx="32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36A2C-E3DC-4FAB-8D02-4E455C38E51A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ftr" idx="33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0"/>
          <p:cNvSpPr/>
          <p:nvPr/>
        </p:nvSpPr>
        <p:spPr>
          <a:xfrm>
            <a:off x="247680" y="641520"/>
            <a:ext cx="8648640" cy="0"/>
          </a:xfrm>
          <a:prstGeom prst="line">
            <a:avLst/>
          </a:prstGeom>
          <a:ln w="15840">
            <a:solidFill>
              <a:srgbClr val="3440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lide Number Placeholder 6"/>
          <p:cNvSpPr/>
          <p:nvPr/>
        </p:nvSpPr>
        <p:spPr>
          <a:xfrm>
            <a:off x="6705720" y="6202440"/>
            <a:ext cx="2133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09F493-7E97-45F8-A789-C486AB7D7FE1}" type="slidenum">
              <a:rPr b="0" lang="en-US" sz="1200" spc="-1" strike="noStrike">
                <a:solidFill>
                  <a:srgbClr val="000000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ftr" idx="34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C80B96-66CB-46F8-B327-BA52A43ABE70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966D2E-A2A3-4136-ACFA-27A70801D3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ftr" idx="7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0" y="-168120"/>
            <a:ext cx="9144000" cy="7216560"/>
          </a:xfrm>
          <a:prstGeom prst="rect">
            <a:avLst/>
          </a:prstGeom>
          <a:solidFill>
            <a:srgbClr val="0038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212760" y="0"/>
            <a:ext cx="8718480" cy="13716000"/>
          </a:xfrm>
          <a:prstGeom prst="rect">
            <a:avLst/>
          </a:prstGeom>
          <a:ln w="0">
            <a:noFill/>
          </a:ln>
        </p:spPr>
      </p:pic>
      <p:sp>
        <p:nvSpPr>
          <p:cNvPr id="126" name="Slide Number Placeholder 6"/>
          <p:cNvSpPr/>
          <p:nvPr/>
        </p:nvSpPr>
        <p:spPr>
          <a:xfrm>
            <a:off x="6705720" y="606888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7D5635-A08C-4BD9-9241-795F171C8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ftr" idx="8"/>
          </p:nvPr>
        </p:nvSpPr>
        <p:spPr>
          <a:xfrm>
            <a:off x="3124080" y="6194160"/>
            <a:ext cx="2895840" cy="19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December 1st, 2016 TAC Mee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17367A-55C7-4B55-B2DF-CD50ECED4F93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19A6B6-44DF-4EA6-AC9B-51D3CCBBC6B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5484C3-6BD1-4AB6-ADB6-A3C0454C56DE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FC4B0B-3FDB-4072-BA0A-B295EA3BAE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5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1D76F-B5F3-4F7C-A98D-B3611BF362B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6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7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94ECB-1B2F-444D-8468-C6A377DE426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8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8D215F-38C7-4ABE-BA79-4A823499B667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19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344068"/>
                </a:solidFill>
                <a:latin typeface="Times New Roman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0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34406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66E34E-0359-4279-B150-651B419B4D4E}" type="slidenum">
              <a:rPr b="0" lang="en-US" sz="1000" spc="-1" strike="noStrike">
                <a:solidFill>
                  <a:srgbClr val="34406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2683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37C951-84C6-4678-8153-51AC1E9A4604}" type="datetime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712C7A-135E-4199-8A0D-E5C858B2C9E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3" name="Group 13"/>
          <p:cNvGrpSpPr/>
          <p:nvPr/>
        </p:nvGrpSpPr>
        <p:grpSpPr>
          <a:xfrm>
            <a:off x="787320" y="2804760"/>
            <a:ext cx="7543800" cy="2871720"/>
            <a:chOff x="787320" y="2804760"/>
            <a:chExt cx="7543800" cy="2871720"/>
          </a:xfrm>
        </p:grpSpPr>
        <p:sp>
          <p:nvSpPr>
            <p:cNvPr id="784" name="TextBox 9"/>
            <p:cNvSpPr/>
            <p:nvPr/>
          </p:nvSpPr>
          <p:spPr>
            <a:xfrm>
              <a:off x="787320" y="3082680"/>
              <a:ext cx="7543800" cy="25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Wholesale Market Subcommittee (WMS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Jeremy Carpe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016 WMS Ch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echnical Advisory Committee (TAC) Meeting Repor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RCOT Publ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Straight Connector 12"/>
            <p:cNvSpPr/>
            <p:nvPr/>
          </p:nvSpPr>
          <p:spPr>
            <a:xfrm flipV="1">
              <a:off x="787320" y="2804760"/>
              <a:ext cx="6286680" cy="12600"/>
            </a:xfrm>
            <a:prstGeom prst="line">
              <a:avLst/>
            </a:prstGeom>
            <a:ln w="15840">
              <a:solidFill>
                <a:srgbClr val="00385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6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D96D42-1198-457A-A02F-798E15DD8CC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eeting Schedule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s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November 2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n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Next WMS meet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December 3</a:t>
            </a:r>
            <a:r>
              <a:rPr b="0" lang="en-US" sz="1800" spc="-1" strike="noStrike" baseline="30000">
                <a:solidFill>
                  <a:srgbClr val="404040"/>
                </a:solidFill>
                <a:latin typeface="Calibri"/>
              </a:rPr>
              <a:t>rd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, 2016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0" name="Footer Placeholder 4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157BF-B377-41CD-A2A6-542BB1E086C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-TAC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MOGRR018, EPS Metering for Three-Wire Wye Configuration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Recommend Approva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MOGRR019, Clarifications and Updates to Paralleling Current Transformers, Instrument Transfer Name Plate Photos and Loss Potential Event Logging Requirements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Recommend Approval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CRR Activity Calendar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4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91237D-102F-4EF3-B2EB-5D3BB513C0C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WMS Voting Item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MR Issue:  Long Term Solution – Alternatives to NPRR784, Mitigated Offer Cap for Reliability Must-Run (RMR) Unit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endorse a methodology for establishing MOC for RMR units based on the last dispatchable non-RMR resourc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has asked ERCOT to develop implementation options to be considered at a future meeting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Ancillary Servic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WMS voted to assign QMWG to review and draft NPRR language for concepts of Responsive Reserve to include: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Remove 50% limit for LRS in RRS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Change 20% limit on RRS for units to be based on performance/testing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buClr>
                <a:srgbClr val="1cade4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Include a fast responding service as a subset of RRS </a:t>
            </a:r>
            <a:endParaRPr b="0" lang="en-US" sz="14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B6E2F6-B6F7-4FDA-9F27-700ACF4310E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arket Continuity – CMWG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234BE-2F98-4A2C-977A-600DB4DE9C8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822240" y="2327400"/>
          <a:ext cx="6602400" cy="419040"/>
        </p:xfrm>
        <a:graphic>
          <a:graphicData uri="http://schemas.openxmlformats.org/drawingml/2006/table">
            <a:tbl>
              <a:tblPr/>
              <a:tblGrid>
                <a:gridCol w="841320"/>
                <a:gridCol w="4556160"/>
                <a:gridCol w="1204920"/>
              </a:tblGrid>
              <a:tr h="2286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ateg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pen issues / questions to be addressed with the mark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ssign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R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o do with CRRs with no corresponding RT and DAM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arket Continuity – QMWG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7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3E0DDB-681D-4E90-9448-3D71A4765C3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9" name=""/>
          <p:cNvGraphicFramePr/>
          <p:nvPr/>
        </p:nvGraphicFramePr>
        <p:xfrm>
          <a:off x="822240" y="2327400"/>
          <a:ext cx="6602400" cy="2406600"/>
        </p:xfrm>
        <a:graphic>
          <a:graphicData uri="http://schemas.openxmlformats.org/drawingml/2006/table">
            <a:tbl>
              <a:tblPr/>
              <a:tblGrid>
                <a:gridCol w="841320"/>
                <a:gridCol w="4556160"/>
                <a:gridCol w="1204920"/>
              </a:tblGrid>
              <a:tr h="2286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ateg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pen issues / questions to be addressed with the mark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ssign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 / D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uld DAM be successfully completed before restarting Real-Time Market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 / D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not, should SCED be restarted using mitigated Offers for Operating Days for which DAM has not run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 / D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•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so, should the prices from those SCED runs be considered as valid prices for settlements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 / D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o do with the DAM results for the hours with no corresponding RTM runs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T / D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 DAM results are invalidated, what about corresponding CRR results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tl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ould ERCOT plan to pay generators during the outage event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tl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would be the methodology for uplift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tl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to address meter usage data availability / application of estimation and usage profiles (metered and non-metered accounts)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M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Calibri Light"/>
              </a:rPr>
              <a:t>Market Continuity – RCWG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200160">
              <a:lnSpc>
                <a:spcPct val="9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2" name="Footer Placeholder 2"/>
          <p:cNvSpPr/>
          <p:nvPr/>
        </p:nvSpPr>
        <p:spPr>
          <a:xfrm>
            <a:off x="276552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CEMBER 1ST, 2016 TAC MEET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Slide Number Placeholder 1"/>
          <p:cNvSpPr/>
          <p:nvPr/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A96B30-62B7-41DA-B83C-9CABB381B0E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4" name=""/>
          <p:cNvGraphicFramePr/>
          <p:nvPr/>
        </p:nvGraphicFramePr>
        <p:xfrm>
          <a:off x="822240" y="2360520"/>
          <a:ext cx="6602400" cy="1828800"/>
        </p:xfrm>
        <a:graphic>
          <a:graphicData uri="http://schemas.openxmlformats.org/drawingml/2006/table">
            <a:tbl>
              <a:tblPr/>
              <a:tblGrid>
                <a:gridCol w="841320"/>
                <a:gridCol w="4556160"/>
                <a:gridCol w="1204920"/>
              </a:tblGrid>
              <a:tr h="22860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Catego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Open issues / questions to be addressed with the mark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</a:rPr>
                        <a:t>Assign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ttlem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are verifiable costs for renewables addressed?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96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ring the emergency event, provide a mechanism for Resources to request emergency funds to cover fuel supplies and services, if needed to continue operating during the emergency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00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w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fter the emergency, compensate Resources for their actual direct cost incurred during the emergency event (Resources would provide documentation of their costs to ERCOT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CW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23:12:02Z</dcterms:created>
  <dc:creator>Diana</dc:creator>
  <dc:description/>
  <dc:language>en-US</dc:language>
  <cp:lastModifiedBy>Carpenter, Jeremy</cp:lastModifiedBy>
  <cp:lastPrinted>2016-09-28T13:51:23Z</cp:lastPrinted>
  <dcterms:modified xsi:type="dcterms:W3CDTF">2016-11-21T17:40:49Z</dcterms:modified>
  <cp:revision>892</cp:revision>
  <dc:subject/>
  <dc:title>FileNew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14C4FFC4A894504CB30DBFB7150C9A36</vt:lpwstr>
  </property>
  <property fmtid="{D5CDD505-2E9C-101B-9397-08002B2CF9AE}" pid="3" name="Information Classification">
    <vt:lpwstr/>
  </property>
  <property fmtid="{D5CDD505-2E9C-101B-9397-08002B2CF9AE}" pid="4" name="Vault">
    <vt:lpwstr>0</vt:lpwstr>
  </property>
</Properties>
</file>