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C87BBE-AC64-4536-B5F2-AFB46083EAE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230A9E-D804-43A3-A0DE-B5ADAD6FF0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89FADD-BB13-4766-9ACA-54D115C403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A9C95D-A149-4893-A847-A4A24CA0C8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B20D2-6BFC-4925-B23D-12432BDDB1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98B4D-5857-4FBD-BDA3-CC5745FD1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2E968A-4434-4226-8BE1-E6E6D379EE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FE99EF-1D7F-417D-B031-320A527172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CCC84-2DEB-47E7-BC58-261C2D230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D9A9E-954D-48B0-8CB8-A9DF5DFEE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55F78-7C12-4D4E-BFE2-E98E1DBE6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0FEC4-995A-4D34-814A-58C3BEB2F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A4E1E-36B7-4ECF-B019-1D585C7B9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9CE63-BFF6-4BE2-B016-58C4DF7FC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A21F6-5448-4ECD-84FA-C2F30FBD5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21A9D-56D7-4451-85DE-8295BE133E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 name="Picture 11" descr=""/>
          <p:cNvPicPr/>
          <p:nvPr/>
        </p:nvPicPr>
        <p:blipFill>
          <a:blip r:embed="rId2"/>
          <a:stretch/>
        </p:blipFill>
        <p:spPr>
          <a:xfrm>
            <a:off x="212760" y="0"/>
            <a:ext cx="8718480" cy="13716000"/>
          </a:xfrm>
          <a:prstGeom prst="rect">
            <a:avLst/>
          </a:prstGeom>
          <a:ln w="0">
            <a:noFill/>
          </a:ln>
        </p:spPr>
      </p:pic>
      <p:sp>
        <p:nvSpPr>
          <p:cNvPr id="2"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E70E5C-4B2C-4F06-8732-0C5FEFC5471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Picture 11" descr=""/>
          <p:cNvPicPr/>
          <p:nvPr/>
        </p:nvPicPr>
        <p:blipFill>
          <a:blip r:embed="rId2"/>
          <a:stretch/>
        </p:blipFill>
        <p:spPr>
          <a:xfrm>
            <a:off x="212760" y="0"/>
            <a:ext cx="8718480" cy="13716000"/>
          </a:xfrm>
          <a:prstGeom prst="rect">
            <a:avLst/>
          </a:prstGeom>
          <a:ln w="0">
            <a:noFill/>
          </a:ln>
        </p:spPr>
      </p:pic>
      <p:sp>
        <p:nvSpPr>
          <p:cNvPr id="43" name="PlaceHolder 1"/>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1" name="Picture 11" descr=""/>
          <p:cNvPicPr/>
          <p:nvPr/>
        </p:nvPicPr>
        <p:blipFill>
          <a:blip r:embed="rId2"/>
          <a:stretch/>
        </p:blipFill>
        <p:spPr>
          <a:xfrm>
            <a:off x="212760" y="0"/>
            <a:ext cx="8718480" cy="13716000"/>
          </a:xfrm>
          <a:prstGeom prst="rect">
            <a:avLst/>
          </a:prstGeom>
          <a:ln w="0">
            <a:noFill/>
          </a:ln>
        </p:spPr>
      </p:pic>
      <p:sp>
        <p:nvSpPr>
          <p:cNvPr id="82"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7B7A72-D7B6-404E-B6C7-E48A33E338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1" name="Picture 11" descr=""/>
          <p:cNvPicPr/>
          <p:nvPr/>
        </p:nvPicPr>
        <p:blipFill>
          <a:blip r:embed="rId2"/>
          <a:stretch/>
        </p:blipFill>
        <p:spPr>
          <a:xfrm>
            <a:off x="212760" y="0"/>
            <a:ext cx="8718480" cy="13716000"/>
          </a:xfrm>
          <a:prstGeom prst="rect">
            <a:avLst/>
          </a:prstGeom>
          <a:ln w="0">
            <a:noFill/>
          </a:ln>
        </p:spPr>
      </p:pic>
      <p:sp>
        <p:nvSpPr>
          <p:cNvPr id="122" name="Straight Connector 6"/>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BE6BCD-09AA-4B3D-88CD-5DD6F10128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12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3"/>
          <p:cNvGrpSpPr/>
          <p:nvPr/>
        </p:nvGrpSpPr>
        <p:grpSpPr>
          <a:xfrm>
            <a:off x="787320" y="2804760"/>
            <a:ext cx="7543800" cy="2840760"/>
            <a:chOff x="787320" y="2804760"/>
            <a:chExt cx="7543800" cy="2840760"/>
          </a:xfrm>
        </p:grpSpPr>
        <p:sp>
          <p:nvSpPr>
            <p:cNvPr id="171" name="TextBox 9"/>
            <p:cNvSpPr/>
            <p:nvPr/>
          </p:nvSpPr>
          <p:spPr>
            <a:xfrm>
              <a:off x="787320" y="3082680"/>
              <a:ext cx="754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Item 3: PRS Report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manda Frazie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S Chai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chnical Advisory Committee (TAC) Meet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cember 1, 2016</a:t>
              </a:r>
              <a:endParaRPr b="0" lang="en-US" sz="1800" spc="-1" strike="noStrike">
                <a:solidFill>
                  <a:srgbClr val="000000"/>
                </a:solidFill>
                <a:latin typeface="Arial"/>
              </a:endParaRPr>
            </a:p>
          </p:txBody>
        </p:sp>
        <p:sp>
          <p:nvSpPr>
            <p:cNvPr id="172" name="Straight Connector 12"/>
            <p:cNvSpPr/>
            <p:nvPr/>
          </p:nvSpPr>
          <p:spPr>
            <a:xfrm flipV="1">
              <a:off x="787320" y="2804760"/>
              <a:ext cx="628668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Unopposed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92, Changing Special Protection System (SPS) to Remedial Action Scheme (RA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03, Remove Grey-boxed Language from NPRR439, Updating a Counter-Party’s Available Credit Limit for Current Day DAM*</a:t>
            </a: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2016 PRS Leadership (Vote)</a:t>
            </a: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hair:  Amanda Frazier, Luminant Generation</a:t>
            </a: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Vice Chair: </a:t>
            </a:r>
            <a:r>
              <a:rPr b="0" lang="en-US" sz="2000" spc="-1" strike="noStrike">
                <a:solidFill>
                  <a:srgbClr val="000000"/>
                </a:solidFill>
                <a:latin typeface="Arial"/>
              </a:rPr>
              <a:t>	</a:t>
            </a:r>
            <a:r>
              <a:rPr b="0" lang="en-US" sz="2000" spc="-1" strike="noStrike">
                <a:solidFill>
                  <a:srgbClr val="000000"/>
                </a:solidFill>
                <a:latin typeface="Arial"/>
              </a:rPr>
              <a:t>Martha Henson, Oncor</a:t>
            </a: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moval of the PCRR Allocation Eligibility Form from the Other Binding Documents List (Vote)</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RCOT Staff reviewed the purpose and history of this Other Binding Document with PRS.  This form was used at Nodal Go-Live but has not been used since then, and there are no conditions under which it would be used in the future.</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PRS unanimously voted to recommend the removal of the PCRR Allocation Eligibility Form from the Other Binding Documents List</a:t>
            </a:r>
            <a:endParaRPr b="0" lang="en-US" sz="20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Other Binding Documents Li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ppendi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92, Changing Special Protection System (SPS) to Remedial Action Scheme (RAS) [ERCOT]</a:t>
            </a:r>
            <a:endParaRPr b="0" lang="en-US" sz="1800" spc="-1" strike="noStrike">
              <a:solidFill>
                <a:srgbClr val="000000"/>
              </a:solidFill>
              <a:latin typeface="Arial"/>
            </a:endParaRPr>
          </a:p>
        </p:txBody>
      </p:sp>
      <p:sp>
        <p:nvSpPr>
          <p:cNvPr id="179" name="Rectangle 2"/>
          <p:cNvSpPr/>
          <p:nvPr/>
        </p:nvSpPr>
        <p:spPr>
          <a:xfrm>
            <a:off x="487440" y="879480"/>
            <a:ext cx="81579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7; Rank 14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40k and $60k; no impacts to ERCOT staffing; impacts to Energy Management System (EMS), Market Information System (MIS), Network Model Management System (NMMS), and Enterprise Information Services (EIS); ERCOT business processes will be updated; ERCOT grid operations and practices will be update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aligns the Nodal Protocols with North American Electric Reliability Corporation (NERC) Reliability Standard definition for Special Protection System (SPS) and for consistency uses Remedial Action Scheme (RAS) and Automatic Mitigation Plan (AMP) where applicable in place of SP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10/13/16, PRS unanimously voted to recommend approval of NPRR792 as amended by the 10/6/16 ERCOT comments.  On 11/10/16, PRS unanimously voted to endorse and forward to TAC the 10/13/16 PRS Report and Impact Analysis for NPRR792 with a recommended priority of 2017 and a rank of 14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803,</a:t>
            </a:r>
            <a:r>
              <a:rPr b="1" lang="en-US" sz="1800" spc="-1" strike="noStrike">
                <a:solidFill>
                  <a:srgbClr val="000000"/>
                </a:solidFill>
                <a:latin typeface="Arial"/>
              </a:rPr>
              <a:t> </a:t>
            </a:r>
            <a:r>
              <a:rPr b="1" i="1" lang="en-US" sz="1800" spc="-1" strike="noStrike">
                <a:solidFill>
                  <a:srgbClr val="000000"/>
                </a:solidFill>
                <a:latin typeface="Arial"/>
              </a:rPr>
              <a:t>Remove Grey-boxed Language from NPRR439, Updating a Counter-Party’s Available Credit Limit for Current Day DAM [ERCOT]</a:t>
            </a:r>
            <a:endParaRPr b="0" lang="en-US" sz="1800" spc="-1" strike="noStrike">
              <a:solidFill>
                <a:srgbClr val="000000"/>
              </a:solidFill>
              <a:latin typeface="Arial"/>
            </a:endParaRPr>
          </a:p>
        </p:txBody>
      </p:sp>
      <p:sp>
        <p:nvSpPr>
          <p:cNvPr id="181" name="Rectangle 2"/>
          <p:cNvSpPr/>
          <p:nvPr/>
        </p:nvSpPr>
        <p:spPr>
          <a:xfrm>
            <a:off x="487440" y="879480"/>
            <a:ext cx="81579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January 1, 2017</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Removing the provisions of NPRR439 would result in a decreased project demand for the ERCOT portfolio of $125k - $135k (cost as estimated in the January 25, 2012 Impact Analysis); no impacts to ERCOT staffing; no impacts to ERCOT computer systems; no impacts to ERCOT business processe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removes provisions of NPRR439, Updating a Counter-Party’s Available Credit Limit for Current Day DAM, from the ERCOT Protocols.  All provisions of NPRR439 remaining in Protocols are currently grey-boxe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10/13/16, PRS unanimously voted to recommend approval of NPRR803 as submitted.  On 11/10/16, PRS unanimously voted to endorse and forward to TAC the 10/13/16 PRS Report and Impact Analysis for NPRR803.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C Phillips</cp:lastModifiedBy>
  <cp:lastPrinted>2013-01-30T23:16:36Z</cp:lastPrinted>
  <dcterms:modified xsi:type="dcterms:W3CDTF">2016-11-18T17:42:04Z</dcterms:modified>
  <cp:revision>331</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
  </property>
</Properties>
</file>