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73152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4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310760" y="692280"/>
            <a:ext cx="432756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5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6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43ED-88C7-464E-890B-0509E08FA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92EC-354F-4300-B843-5125E3F33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1BAF-7410-4A62-BC39-07AC38F2D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F00D-513E-40C1-A2AC-AC4E69C5E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B7D3D-438B-4353-815F-9BE99D49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F104-5049-407E-9C2B-7C41A1FBB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C87E-941D-499D-877F-EB1736C9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FC47-D010-47B3-9162-37A1A968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DC96DA-4538-4B02-91D2-252B79F2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54A7A-D976-4C6F-A980-8F101855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9DCA3-2F71-4EEB-A2D9-1537DAF8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9CF23-0883-4CAF-B071-646F0563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FB267F-B435-4F8F-A78C-0C9854E70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67D9-4D3E-46BC-971E-5493CC16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D9E9D-61A1-4D6D-ABB6-3F0717C4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B40EEB-9695-43AD-83C6-8A70B605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38BA6-FCAD-4E7E-9DFA-4B770460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DB619-22F7-4325-BED5-4E53D6C2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9EAB3-D3EA-44B3-B7DC-F6F018C8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7C67C-91B5-4B38-8C25-03971763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1FE996-BEC7-4A1A-9E4B-8CDD22580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8F6B58-995E-4EDF-ADFE-48717886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667622-D658-44DE-BE3A-8A49AEA9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0069B-FCE4-4AED-9A03-0AF32DC7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5673-DEDD-4DDE-8767-9F42F0D9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1091F6-74E9-413B-965F-C7E130AF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1B8482-3B10-4956-8F32-1430064C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17843-C8E7-4058-8077-02F28816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0A8CD-AC96-47D1-927A-9A13A55F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0D88E7-71A1-4A17-963A-0F8433B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8C2CA-BDEF-41E5-8E9D-AA72B267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F87047-601F-459A-9EBF-CD99CB79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6E815-4E22-4A5D-8765-8D6C51F8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BD1202-F5E4-4088-96A6-3B97EDE11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2D88F-EB89-497A-A4F9-E2A9795B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2C77-74F6-4431-9B62-75ED07AE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C59E-88C6-439F-BB0E-4CE636FB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986E-ED35-4C6A-89B4-5C6E1A7F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02C28-9CE6-48E2-93FD-45674564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2F7E-E7BD-41F6-938B-99488D803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98B1-79D5-4455-9713-A113FA8F8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890E-7CA3-41B7-94D1-36EDEC2EC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6A5E-C999-4984-8F6A-989299D45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8BEA-4D0A-4744-A416-57B5A8507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rcot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1e4649"/>
                </a:solidFill>
                <a:latin typeface="Arial Black"/>
              </a:rPr>
              <a:t>October 27, 2016</a:t>
            </a:r>
            <a:br>
              <a:rPr sz="2800"/>
            </a:br>
            <a:r>
              <a:rPr b="0" lang="en-US" sz="4400" spc="-1" strike="noStrike">
                <a:solidFill>
                  <a:srgbClr val="1e4649"/>
                </a:solidFill>
                <a:latin typeface="Arial Black"/>
              </a:rPr>
              <a:t>TAC</a:t>
            </a:r>
            <a:br>
              <a:rPr sz="3200"/>
            </a:br>
            <a:r>
              <a:rPr b="0" lang="en-US" sz="3200" spc="-1" strike="noStrike">
                <a:solidFill>
                  <a:srgbClr val="1e4649"/>
                </a:solidFill>
                <a:latin typeface="Arial Black"/>
              </a:rPr>
              <a:t>Update to COP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4582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vember 9, 201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Updat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0F0A-A3DD-4093-AFA2-1DE85579134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36240" y="1218960"/>
            <a:ext cx="8381880" cy="55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stered DG Data – Aggregated data for Registered DG (&gt; 1 MW and injects to the grid, Competitive and NO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 get header inf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rcot.co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Services – Market Data Transparency – DDLs – Extract Data Definitions – PRDE Extract_YYYYMMDD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 get dat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MIS – Public Reference Data Extract (csv or xml) – GENERATORH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Filt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NONMODELED = Y, STOPTIME is null, SEASONALMW is nu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lnSpc>
                <a:spcPct val="150000"/>
              </a:lnSpc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nly one TAC meeting left this year!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ember 1,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9160" indent="-209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" descr=""/>
          <p:cNvPicPr/>
          <p:nvPr/>
        </p:nvPicPr>
        <p:blipFill>
          <a:blip r:embed="rId2"/>
          <a:stretch/>
        </p:blipFill>
        <p:spPr>
          <a:xfrm>
            <a:off x="1523880" y="2057400"/>
            <a:ext cx="62485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Updat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0323-9478-4C01-B92B-CABC454C75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36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Energy Resource (DER) Matrix Update and Unregistered DG Reporting,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gress on the DREAM or DER Matri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’s Primary focus currently is 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ing an NPRR to map registered DG units (DER Issues Matrix Item 1) and completing a whitepaper on the reliability issues surrounding DERs; Both items are close to having drafts complet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Items from the Matri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PRR719 - Item 2 (removed provision that reset DG registration thresholds) has been approved by the ERCOT B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PRR757 - Item 3 (Excel format for PUCT DG reports withdrawn); This objective is being voluntarily complied wi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PRR777 - Item 13 (Voluntary SCED participation of DGs) is at W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C:\Users\iv3i\AppData\Local\Microsoft\Windows\Temporary Internet Files\Content.IE5\AAWN31BQ\question-mark[1].png"/>
          <p:cNvPicPr/>
          <p:nvPr/>
        </p:nvPicPr>
        <p:blipFill>
          <a:blip r:embed="rId1"/>
          <a:stretch/>
        </p:blipFill>
        <p:spPr>
          <a:xfrm>
            <a:off x="1828800" y="1987560"/>
            <a:ext cx="54864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PRS 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537C-46B0-4FD6-8410-1BFAC226E71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PRR783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Revision of Network Operations Model Consistency Audit Requirement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PRR790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ddition of Phase Angle Limits to the Network Operations Model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PRR79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Clarifications to IEL, MCE and Aggregate Amount Owned by Breaching Party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PRR797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Actual Load by Forecast Zone Report and Display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NPRR801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Non-Controllable Load Resource MW in PR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Associated Revisions to the Methodology for Implementing Operating Reserve Demand Curve (ORDC) to Calculate Real-Time Reserve Price Adder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Revision Requests Previously Tabled by TAC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28D4-4F54-4235-ACB2-BEC0E97EB4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218960"/>
            <a:ext cx="853416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LPGRR057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Alignment with NPRR781, Updates to Nodal Protocol Section 18, Load Profiling, to Align with Current Market Processes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OGRR154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Alignment with NPRR755 and Requirements for ERCOT WAN Installation and Exchange of Resource-Specific Extensible Markup Language (XML) Data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OGRR159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Alignment with NPRR779, Clarifies References to Texas Reliability Entity (Texas RE) and Independent Market Monitor (IMM)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NPRR77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Broadening Scope of Acceptable Letter of Credit (LOC) Issuers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Remains Tabl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RMGRR139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Alignment with NPRR778, Modifications to “Date Change” and “Cancellation” Evaluation Window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VCMRR01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Clarifications to Verifiable Cost Appeals Process </a:t>
            </a:r>
            <a:r>
              <a:rPr b="0" lang="en-US" sz="23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76092"/>
                </a:solidFill>
                <a:latin typeface="Calibri"/>
              </a:rPr>
              <a:t>ROS Upd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7FA78-52E8-4095-9F68-59ADA9C4F1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880" y="12193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RGRR0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easonal net Max Sustainable Rating Definitions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GRR16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ignment with NPRR792, Removing Special Protection System (SPS) and adding Remedial Action Scheme (RAS), URGEN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GRR05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ignment with NPRR792, Changing Special Protection System (SPS) to Remedial Action Scheme (RAS)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ab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Impact Transmission Elements (HITE) List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800" spc="-1" strike="noStrike">
                <a:solidFill>
                  <a:srgbClr val="376092"/>
                </a:solidFill>
                <a:latin typeface="Calibri"/>
              </a:rPr>
              <a:t>WMS Update</a:t>
            </a:r>
            <a:br>
              <a:rPr sz="29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FE8CB-9711-41B3-B94C-AC09B916D59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iability Must-Run (RMR) Efforts Contin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Greens Bayou Updated Study  – WMS has requested monthly status updates from ERCO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ng Term Solution – Alternatives to NPRR784, Mitigated Offer Cap for RMR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PRR768, Revisions to Real-Time On-Line Reliability Deployment Price Adder Categ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uidance from TA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cillary Service Design Enhanc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cted to vote on changes in Nov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able Generation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requested time to present alternative solu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pected to vote in Nov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Updat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2C0A-2EEF-4A4D-ACF3-26011EA3645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12189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7 Ancillary Service Methodology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Endor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change in methodology to determine RRS and NSRS quant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COT proposed two changes for Regulation Serv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exhaustion rate feedback from the regulation procuremen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5-minute net load variability by including solar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net load = load – wind generation – solar gener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 Tables for evaluating effect of incremental wind generation capacity will be upd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er Frequency Load Shedding (UFLS), Items to be Discussed at a Worksh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onsistency in UFLS Survey and Ops/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ress exemption of entire circuits equipped with Load Resources in surve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tentially out-of-date language in Protocols and Guides may be worth re-alig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istent handling of Load Resource and 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considerations for 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Updat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89E2-5CBB-4D29-9B2C-A68798E8DA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880" y="12189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ED Failure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 outage events and their causes were review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ons learned have been reviewed and remedial actions have been taken, including increasing visibility into the system when an issue ari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C asked WMS to look at the pricing from the most recent event to determine if the procedure worked as expec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pcoming Market Continuity Updates to T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Board asked for an up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is working to set the dir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committees asked to provide updates on assignments at the December 1, 2016 TAC mee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Updat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AC17-FB64-469D-B17E-6200134B50F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36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Energy Resource (DER) Matrix Update and Unregistered DG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96920">
              <a:spcBef>
                <a:spcPts val="64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RCOT compiles data from a variety of sour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788400" indent="-15768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resources &lt;= to 50 kW ERCOT gets data via two routes: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oad Profil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and annual PUCT Repor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88400" indent="-15768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resources &gt; 50 kW but less than or equal to 1 MW ERCOT gets data via three routes: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Load Profile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, PUCT Reports, and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Unregistered DG Repor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88400" indent="-15768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resources &gt; 1 MW that are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Calibri"/>
              </a:rPr>
              <a:t>not exporting to the grid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ERCOT gets data from the PUCT Report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88400" indent="-15768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r resources &gt; 1 MW that export to the grid: ERCOT gets RARF data for non-modeled generation, but only from resources that inject into the gri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88400" indent="-157680">
              <a:lnSpc>
                <a:spcPct val="150000"/>
              </a:lnSpc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Only one TAC meeting left this year!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ember 1, 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Updates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9CD9-03A4-4A27-9544-442FC8ACE51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36240" y="121896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Energy Resource (DER) Matrix Update and Unregistered DG Reporting, Contin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DG Reporting and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registered DG Installed Capacity Quarterly Report – Aggregate MW by Load Zone and Primary Fuel Type (This is the new report being presented to COPS every Quar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1" descr=""/>
          <p:cNvPicPr/>
          <p:nvPr/>
        </p:nvPicPr>
        <p:blipFill>
          <a:blip r:embed="rId1"/>
          <a:stretch/>
        </p:blipFill>
        <p:spPr>
          <a:xfrm>
            <a:off x="1897200" y="3675240"/>
            <a:ext cx="4960800" cy="31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 MAMA</dc:creator>
  <dc:description/>
  <dc:language>en-US</dc:language>
  <cp:lastModifiedBy>Trenary, Michelle</cp:lastModifiedBy>
  <cp:lastPrinted>2016-08-08T13:52:23Z</cp:lastPrinted>
  <dcterms:modified xsi:type="dcterms:W3CDTF">2016-11-03T18:21:47Z</dcterms:modified>
  <cp:revision>1115</cp:revision>
  <dc:subject/>
  <dc:title>Instructions</dc:title>
</cp:coreProperties>
</file>