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1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1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87D10-E114-4865-B913-8BFDF14E2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64D1D-A6E0-4901-949E-72CD7320D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FF9EE-4293-4073-92FF-85E6ECBDD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33E1B-DA56-461E-AB2B-DCABD442A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CB15B-0C90-460F-82D6-99BE74AB6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159-DA87-498B-B41A-95328E00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4AB-FA3C-42A3-B11D-4594B8A0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BE3-1A98-4693-BBAB-BC042367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D3B-8222-434D-9856-C50E0477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493-E80A-444D-A8AB-B3549D6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DE56-A074-4FBB-9BE0-3D9EF28723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A568E-3D7B-4584-827F-A21CEB56F5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B7A4-1E96-4D2B-90B3-210B16049B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973CD-6B5F-494C-B47F-DBACDE0922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D13C5-1A67-4EAF-9928-277E26B74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72E-B28F-4D24-86F5-D2F3B95C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8D6F6-E6FF-4C7C-92F7-5DACE72200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02C3D-97D4-4C68-87B1-D641EA28E6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2CA23-BA0B-4577-BDBD-A0A5DFDA8E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2472-D9D3-49B1-A772-825C3263F6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652D2-EBD1-40BF-8502-524F3508C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BB755-2C56-438D-90FA-26F98A8D5D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FE7F-1273-47CF-97DD-BBE29226F3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03D-98C5-4353-9146-F9F0AC3A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1DD-AA08-45EE-A7B1-707C729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D23-5EF0-4564-9EF5-C2D8DB36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599-DE5C-42F1-B1C2-58374B8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F9B8F-FFB8-4B9B-A76B-538C20B445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4617B-793E-482E-9E53-699172E135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C502A-D24C-4D77-886C-D4D3FB5230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4C3BB-4D78-42A0-B69C-0F2FC0B277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DA86A-9C87-4C79-A83A-88FD2974ED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9E5A1-472B-4B8A-8880-83C4878185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8CD77-70EE-4206-9A88-D2FA1B2E6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149-9AB3-4591-9D48-1743CB1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B3C03-BE73-4F8E-A895-B31F833789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DF309-E9C1-4F1C-946C-360E33625A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D0D27-5ABA-4062-AF96-DD875ED1B6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6B7B3-96C5-4461-9E11-1D4DC3960D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20C95-25BA-47E3-BA7E-F4DC116893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2A8786-8A6E-4AD1-A836-3954EB06492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F572A-22E7-41CA-9DF6-A8E241423D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71E62-7095-4BE6-90FB-D7F7EB6DFB7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E49329-CBC1-4E6B-B367-DE5092B2ED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DB49E-68D0-452E-869A-D684131F4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87E-0EBF-4298-A09E-DED01BB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6954CA-6454-4B0B-9737-B6BA153B490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918C9-2CE7-4E8D-8902-EA5C0DDEF02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67683-7890-4BEF-B925-E520C83762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E83FDB-6ACB-4747-A1C9-333B2198D4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575FC-1BE7-4CE7-868B-97E5E2B476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AAEED-2DBD-427A-BD71-7E993FB274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03C3F-F26A-4991-8F14-EC21E6391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AF805-5864-4F54-A1A4-22133D36B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ftr" idx="4"/>
          </p:nvPr>
        </p:nvSpPr>
        <p:spPr>
          <a:xfrm>
            <a:off x="2743200" y="62989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b677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6770"/>
                </a:solidFill>
                <a:latin typeface="Times New Roman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5"/>
          </p:nvPr>
        </p:nvSpPr>
        <p:spPr>
          <a:xfrm>
            <a:off x="8457840" y="6222600"/>
            <a:ext cx="6094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b677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E623-4E35-42BD-849C-6FED2B76DAE8}" type="slidenum">
              <a:rPr b="0" lang="en-US" sz="1200" spc="-1" strike="noStrike">
                <a:solidFill>
                  <a:srgbClr val="5b677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6"/>
          <p:cNvSpPr/>
          <p:nvPr/>
        </p:nvSpPr>
        <p:spPr>
          <a:xfrm>
            <a:off x="76320" y="622296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7"/>
          <p:cNvSpPr/>
          <p:nvPr/>
        </p:nvSpPr>
        <p:spPr>
          <a:xfrm>
            <a:off x="2193840" y="622296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tretch/>
        </p:blipFill>
        <p:spPr>
          <a:xfrm>
            <a:off x="838080" y="5994360"/>
            <a:ext cx="1181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F8567-AB66-4021-8FF2-ADAFA4C4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ter Working Group - Dec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traight Connector 6"/>
          <p:cNvSpPr/>
          <p:nvPr/>
        </p:nvSpPr>
        <p:spPr>
          <a:xfrm>
            <a:off x="76320" y="622296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7"/>
          <p:cNvSpPr/>
          <p:nvPr/>
        </p:nvSpPr>
        <p:spPr>
          <a:xfrm>
            <a:off x="2193840" y="622296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2"/>
          <a:stretch/>
        </p:blipFill>
        <p:spPr>
          <a:xfrm>
            <a:off x="838080" y="599436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8"/>
          </p:nvPr>
        </p:nvSpPr>
        <p:spPr>
          <a:xfrm>
            <a:off x="8457840" y="6171840"/>
            <a:ext cx="6094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27E47-B09C-4C6C-AA7C-EA834804B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9"/>
          </p:nvPr>
        </p:nvSpPr>
        <p:spPr>
          <a:xfrm>
            <a:off x="2743200" y="62989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traight Connector 6"/>
          <p:cNvSpPr/>
          <p:nvPr/>
        </p:nvSpPr>
        <p:spPr>
          <a:xfrm>
            <a:off x="76320" y="6222960"/>
            <a:ext cx="59364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7"/>
          <p:cNvSpPr/>
          <p:nvPr/>
        </p:nvSpPr>
        <p:spPr>
          <a:xfrm>
            <a:off x="2193840" y="6222960"/>
            <a:ext cx="685800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838080" y="599436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304920" y="244440"/>
            <a:ext cx="75960" cy="517680"/>
          </a:xfrm>
          <a:prstGeom prst="rect">
            <a:avLst/>
          </a:prstGeom>
          <a:solidFill>
            <a:srgbClr val="5b67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9"/>
          <p:cNvSpPr/>
          <p:nvPr/>
        </p:nvSpPr>
        <p:spPr>
          <a:xfrm>
            <a:off x="304920" y="244440"/>
            <a:ext cx="990360" cy="0"/>
          </a:xfrm>
          <a:prstGeom prst="line">
            <a:avLst/>
          </a:prstGeom>
          <a:ln w="9360">
            <a:solidFill>
              <a:srgbClr val="5b67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10"/>
          </p:nvPr>
        </p:nvSpPr>
        <p:spPr>
          <a:xfrm>
            <a:off x="8457840" y="6171840"/>
            <a:ext cx="60948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B70A3-C124-4E7C-96B5-2B781FEC1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11"/>
          </p:nvPr>
        </p:nvSpPr>
        <p:spPr>
          <a:xfrm>
            <a:off x="2743200" y="629892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ooter text go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6"/>
          <p:cNvSpPr/>
          <p:nvPr/>
        </p:nvSpPr>
        <p:spPr>
          <a:xfrm>
            <a:off x="3505320" y="1844640"/>
            <a:ext cx="5553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6770"/>
                </a:solidFill>
                <a:latin typeface="Arial"/>
              </a:rPr>
              <a:t>Metering Working Group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6770"/>
                </a:solidFill>
                <a:latin typeface="Arial"/>
              </a:rPr>
              <a:t>Darrell Sumbera – CenterPoin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6770"/>
                </a:solidFill>
                <a:latin typeface="Arial"/>
              </a:rPr>
              <a:t>Metering Working Group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6770"/>
                </a:solidFill>
                <a:latin typeface="Arial"/>
              </a:rPr>
              <a:t>WMS Meeting, November 2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6770"/>
                </a:solidFill>
                <a:latin typeface="Arial"/>
              </a:rPr>
              <a:t>November 2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c7"/>
                </a:solidFill>
                <a:latin typeface="Arial"/>
              </a:rPr>
              <a:t>SMOGRR 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066320"/>
            <a:ext cx="8534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Synop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This Settlement Metering Operating Guide Revision Request (SMOGRR) allows an ERCOT-Polled Settlement (EPS) Meter to be installed for a facility that is connected to a three-wire wye, high or low impedance grounded distribution system, if the high or low impedance ground is installed as part of a fault monitoring system for the facility and no phase to ground loads or phase to ground sources are connected behind the metering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8610480" y="62485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9A475-72EE-48C3-84E1-27342CAFFE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c7"/>
                </a:solidFill>
                <a:latin typeface="Arial"/>
              </a:rPr>
              <a:t>SMOGRR 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066320"/>
            <a:ext cx="8534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On 9/22/16, the Meter Working Group (MWG) was in consensus to recommend approval of SMOGRR018 as sub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On 10/20/16, MWG was in consensus to endorse and forward to WMS the 9/22/16 MWG Report and Impact Analysis for SMOGRR0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Requested action from W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Recommend approval of SMOGRR018 as sub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610480" y="62485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FA702-52CC-4B18-A50C-C53DD46F67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c7"/>
                </a:solidFill>
                <a:latin typeface="Arial"/>
              </a:rPr>
              <a:t>SMOGRR 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066320"/>
            <a:ext cx="8534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Synop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SMOGRR 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b677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6770"/>
                </a:solidFill>
                <a:latin typeface="Arial"/>
              </a:rPr>
              <a:t>Provides updates and clarifications for determining the connected burden on current transformers when used in a parallel configurat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b677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b677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6770"/>
                </a:solidFill>
                <a:latin typeface="Arial"/>
              </a:rPr>
              <a:t>Requires TDSP’s to provide nameplate photos of newly installed instrument transformers;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b677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b677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6770"/>
                </a:solidFill>
                <a:latin typeface="Arial"/>
              </a:rPr>
              <a:t>Provides increased clarity and consistency for the market on loss of potential alarms programed into EPS Me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610480" y="62485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F8543-4C8D-4A66-A937-BBB6392B41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c7"/>
                </a:solidFill>
                <a:latin typeface="Arial"/>
              </a:rPr>
              <a:t>SMOGRR 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066320"/>
            <a:ext cx="8534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On 9/22/16, the Meter Working Group (MWG) was in consensus to recommend approval of SMOGRR019 as revised by MW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On 10/20/16, MWG was in consensus to endorse and forward to WMS the 9/22/16 MWG Report and Impact Analysis for SMOGRR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6770"/>
                </a:solidFill>
                <a:latin typeface="Arial"/>
              </a:rPr>
              <a:t>Requested action from W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67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6770"/>
                </a:solidFill>
                <a:latin typeface="Arial"/>
              </a:rPr>
              <a:t>Recommend approval of SMOGRR019 as recommended by the MWG in the 10/20/16 MWG Report, with a recommendation that revisions to paragraph (k) of section 6.5.4(1) be implemented 1/1/2018, and for all other revisions to be implemented upon TAC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b67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610480" y="6248520"/>
            <a:ext cx="45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6366C-3E90-446D-8F21-DD6FD0AF7D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Tucker, Donald</cp:lastModifiedBy>
  <cp:lastPrinted>2013-01-30T23:16:36Z</cp:lastPrinted>
  <dcterms:modified xsi:type="dcterms:W3CDTF">2016-10-31T17:21:40Z</dcterms:modified>
  <cp:revision>29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