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97388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71B4-01FD-44D8-86E0-C9882A20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4B82-5FDA-4D16-AA3A-E8FC286C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507-428E-4973-A6A4-FF309764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C5D-E086-4328-9C92-2732A9EA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44D9-49B7-4A23-A6F7-FADED118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69AA-DC18-42C9-8325-1F7B0981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C82-AE45-4176-A6C8-E6BA0A00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D37B-3745-4DF9-9878-DAD4C618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E610-35BE-4D8E-9F84-72EF5248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2D8D-3AEE-46A4-95BB-72C94C70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620-5E8A-41BF-824C-83DC8154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C09-ABF4-4687-AFE6-0E5D770D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341D-7DAF-4E11-BA99-CC6FAF213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34308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75960" y="152280"/>
            <a:ext cx="88390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Resource Cost Working Gro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November 2, 20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mbria Math"/>
              </a:rPr>
              <a:t>WMS Up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General Up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1320" y="1417320"/>
            <a:ext cx="82674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gnificant Capital Costs for RMR Contra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CWG working on draft NPRR that requires ERCOT Board approval fo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MR Agreements, based on WMS direc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-hold pending direction of PUCT rulemaking relating to RM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tlement of Switchable Generation Resources (SWGR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CWG continued discussion of potential benefits and costs of (1)Optional Switch vs. (2)Required Swit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RCOT working on revised o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ket Continuity: Generation Resource Compensation During a Market Rest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fer to the “Market Continuity Guiding Principles” docu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MS Open Action Items for RCW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FD71-8B0F-439D-8525-5FC35F1EA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43080" y="1270080"/>
          <a:ext cx="8458200" cy="5187960"/>
        </p:xfrm>
        <a:graphic>
          <a:graphicData uri="http://schemas.openxmlformats.org/drawingml/2006/table">
            <a:tbl>
              <a:tblPr/>
              <a:tblGrid>
                <a:gridCol w="3047760"/>
                <a:gridCol w="1143000"/>
                <a:gridCol w="42674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removal of PPA applied in Verifiable Cost from Proto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ep existing PPA language until NPRR664 is final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8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on process for Fuel Index Vend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RR765 Remove Vendor Names for Fuel Indices from the Protocols approved 3/3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103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rnative to NPRR664 Fuel Index Price for Resource Definition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-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RR714 extended make-whole process for exceptional fuel events to 6/1/17.  Ideal solution would have exceptional fuel costs reflected in LMP’s. ERCOT working on propo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xed Cost Issues – Pipeline Capacity and Penal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-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ing guiding princi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al Index – Long Term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-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drafting NPRRs and VCMR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Continuity Workshop: How verifiable costs for renewables are addres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-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ing market continuity guiding princi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MR Issue: Contract length – “significant investment” langu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-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ed options and working on NPRR based on WMS guidance. Hold pending direction from PUCT RMR rulema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2:55:06Z</dcterms:created>
  <dc:creator>john</dc:creator>
  <dc:description/>
  <dc:language>en-US</dc:language>
  <cp:lastModifiedBy>Vinson, Paul T.</cp:lastModifiedBy>
  <cp:lastPrinted>2016-10-03T18:58:14Z</cp:lastPrinted>
  <dcterms:modified xsi:type="dcterms:W3CDTF">2016-10-27T17:04:16Z</dcterms:modified>
  <cp:revision>305</cp:revision>
  <dc:subject/>
  <dc:title>PowerPoint Presentation</dc:title>
</cp:coreProperties>
</file>