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2A95A1-02AE-4E79-85F0-71F571C666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18F3A2-74A5-49E4-B301-BF199D4DBF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8768CD-E39A-48CE-849A-0482A346FC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9D0822-DADC-4FF8-B5CD-E942C12448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009C-627A-429B-8303-A0003E070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58E0-D4C9-45F7-BCC1-FBA709D6A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60B4-4B60-4457-8F59-36A408C23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4BBC-5320-4AF0-A798-BC69EEB2A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F29E-3FA8-4114-9C80-37C842462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6A61-C0FE-4305-A677-E1BA37DA5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9FED-2472-4E8D-9BDD-0B4F08DA4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2641-B0FA-4CF5-806D-F50A8F901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D7A5-6C28-4C1E-B800-FC327EE43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DC4B-31CC-4C01-BB9A-12179943F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5D55-861F-4E9A-A72F-88E9F5683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C1FD-BBE7-4939-8625-588DDFCD3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456840" y="59752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124080" y="597528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Hello I'm a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6552720" y="59752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9F507C-ABA0-453B-BAD9-BD090C7333E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1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ftr" idx="4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Hello I'm a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1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82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D00399-2518-40B4-BC8C-933851A405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ftr" idx="5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Hello I'm a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11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122" name="Straight Connector 6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003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6"/>
          <p:cNvSpPr/>
          <p:nvPr/>
        </p:nvSpPr>
        <p:spPr>
          <a:xfrm>
            <a:off x="6705720" y="6202440"/>
            <a:ext cx="2133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D76472-79F2-41BD-8D54-AD20AE51A8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ftr" idx="6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Hello I'm a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Group 13"/>
          <p:cNvGrpSpPr/>
          <p:nvPr/>
        </p:nvGrpSpPr>
        <p:grpSpPr>
          <a:xfrm>
            <a:off x="787320" y="2804760"/>
            <a:ext cx="7543800" cy="2535840"/>
            <a:chOff x="787320" y="2804760"/>
            <a:chExt cx="7543800" cy="2535840"/>
          </a:xfrm>
        </p:grpSpPr>
        <p:sp>
          <p:nvSpPr>
            <p:cNvPr id="171" name="TextBox 9"/>
            <p:cNvSpPr/>
            <p:nvPr/>
          </p:nvSpPr>
          <p:spPr>
            <a:xfrm>
              <a:off x="787320" y="3082680"/>
              <a:ext cx="7543800" cy="225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Item 4: PRS Report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RCOT Staff on behalf of P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echnical Advisory Committee (TAC) Meet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RCOT Publ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ctober 27, 201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Straight Connector 12"/>
            <p:cNvSpPr/>
            <p:nvPr/>
          </p:nvSpPr>
          <p:spPr>
            <a:xfrm flipV="1">
              <a:off x="787320" y="2804760"/>
              <a:ext cx="6286680" cy="12600"/>
            </a:xfrm>
            <a:prstGeom prst="line">
              <a:avLst/>
            </a:prstGeom>
            <a:ln w="25560">
              <a:solidFill>
                <a:srgbClr val="0038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379440" y="714240"/>
            <a:ext cx="8458200" cy="55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vision Requests Recommended for Approval by PRS – Unopposed (Vote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PRR783, Revision of Network Operations Model Consistency Audit Requirement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PRR790, Addition of Phase Angle Limits to the Network Operations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PRR791, Clarifications to IEL, MCE and Aggregate Amount Owed by Breaching Party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PRR797, Actual Load by Forecast Zone Report and Disp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PRR801, Non-Controllable Load Resource MW in PR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ssociated revisions to the Methodology for Implementing Operating Reserve Demand Curve (ORDC) to Calculate Real-Time Reserve Price Ad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(* denotes no impac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79080" y="179280"/>
            <a:ext cx="8458200" cy="4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mmary of PRS Up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3"/>
          <p:cNvSpPr/>
          <p:nvPr/>
        </p:nvSpPr>
        <p:spPr>
          <a:xfrm>
            <a:off x="379440" y="716040"/>
            <a:ext cx="8493120" cy="55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vision Requests Withdraw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PRR759, Segmentation of the Total New Capacity Estimate in the ERCOT CD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PRR772, Clarification of Process for Transmission Outages Related to a Service Disconnection Request for a Generation Re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(* denotes no impac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79080" y="179280"/>
            <a:ext cx="8458200" cy="4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mmary of PRS Update (continu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79080" y="179280"/>
            <a:ext cx="8458200" cy="4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end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79080" y="125280"/>
            <a:ext cx="8458200" cy="4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PRR783, Revision of Network Operations Model Consistency Audit Requirement [ERCOT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2"/>
          <p:cNvSpPr/>
          <p:nvPr/>
        </p:nvSpPr>
        <p:spPr>
          <a:xfrm>
            <a:off x="487440" y="879480"/>
            <a:ext cx="81579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posed Effective Date: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nuary 1, 20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RCOT Impact Analysis: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dgetary impact; approximately 0.1 FTE savings ERCOT-wide spread across the Network Modeling, Congestion Revenue Rights (CRRs), and Internal Audit departments; no impacts to ERCOT computer systems; ERCOT business processes will be updated; ERCOT grid operations and practices will be upda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vision Description: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NPRR revises an outdated requirement for an independent audit to confirm consistency between ERCOT operations models, yet retains the underlying requirement of model consistenc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S Decision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On 9/15/16, PRS unanimously voted to recommend approval of NPRR783 as submitted.  On 10/13/16, PRS unanimously voted to endorse and forward to TAC the 9/15/16 PRS Report and Impact Analysis for NPRR78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79080" y="125280"/>
            <a:ext cx="8458200" cy="4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PRR790, Addition of Phase Angle Limits to the Network Operations Model [ERCOT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2"/>
          <p:cNvSpPr/>
          <p:nvPr/>
        </p:nvSpPr>
        <p:spPr>
          <a:xfrm>
            <a:off x="487440" y="879480"/>
            <a:ext cx="81579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posed Effective Date: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on system implementation - Priority 2017; Rank 18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RCOT Impact Analysis: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tween $25k and $35k; no impacts to ERCOT staffing; impacts to Energy Management System (EMS); ERCOT business processes will be updated; no impacts to ERCOT grid operations and practi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vision Description: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NPRR adds phase angle limitations to the ERCOT Network Operations Modeling proc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S Decision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On 9/15/16, PRS unanimously voted to recommend approval of NPRR790 as amended by the 9/6/16 CNP comments.  On 10/13/16, PRS unanimously voted to endorse and forward to TAC the 9/15/16 PRS Report and Impact Analysis for NPRR790 with a recommended priority of 2017 and a rank of 185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79080" y="125280"/>
            <a:ext cx="8458200" cy="4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PRR791, Clarifications to IEL, MCE and Aggregate Amount Owed by Breaching Party [ERCOT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2"/>
          <p:cNvSpPr/>
          <p:nvPr/>
        </p:nvSpPr>
        <p:spPr>
          <a:xfrm>
            <a:off x="487440" y="879480"/>
            <a:ext cx="81579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posed Effective Date: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nuary 1, 20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RCOT Impact Analysis: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dgetary impact; no impacts to ERCOT staffing; no impacts to ERCOT computer systems; no impacts to ERCOT business processes; no impacts to ERCOT grid operations and practi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vision Description: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NPRR revises the Initial Estimated Liability (IEL) description to clarify that for generation the IEL is based on estimated Qualified Scheduling Entity (QSE)-to-QSE energy sales; restores the IEL for traders, inadvertently omitted from NPRR741, Clarifications to TPE and EAL Credit Exposure Calculations, and originally defined in NPRR620, Collateral Requirements for Counter-Parties with No Load or Generation; corrects subscripts in the Minimum Current Exposure (MCE) formula that were inadvertently overwritten by NPRR743, Revision to MCE to Have a Floor For Load Exposure; modifies the RTQQNET and DARTNET in the grey boxed language for NPRR741 to match the current baseline Protocols; and simplifies the MCE formul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S Decision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On 9/15/16, PRS unanimously voted to recommend approval of NPRR791 as revised by PRS.  On 10/13/16, PRS unanimously voted to endorse and forward to TAC the 9/15/16 PRS Report and Impact Analysis for NPRR79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edit WG Revi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e 8/17/16 Credit WG comm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79080" y="125280"/>
            <a:ext cx="8458200" cy="4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PRR797, Actual Load by Forecast Zone Report and Display [Reliant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2"/>
          <p:cNvSpPr/>
          <p:nvPr/>
        </p:nvSpPr>
        <p:spPr>
          <a:xfrm>
            <a:off x="487440" y="879480"/>
            <a:ext cx="81579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posed Effective Date: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on system implementation - Priority 2017; Rank 18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RCOT Impact Analysis: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tween $30k and $40k; no impacts to ERCOT staffing; impacts to Current Day Reports (CDR), EMS, Market Information System (MIS), and ERCOT.com; no impacts to ERCOT business processes; no impacts to ERCOT grid operations and practi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vision Description: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NPRR creates a new report and display for actual system Load by Forecast Zone, similar to the existing report and display for actual system Load by Weather Zo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S Decision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On 9/15/16, PRS unanimously voted to recommend approval of NPRR797 as submitted.  On 10/13/16, PRS unanimously voted to endorse and forward to TAC the 9/15/16 PRS Report and Impact Analysis for NPRR797 with a recommended priority of 2017 and a rank of 186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79080" y="125280"/>
            <a:ext cx="8458200" cy="4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PRR801, Non-Controllable Load Resource MW in PRC [ERCOT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2"/>
          <p:cNvSpPr/>
          <p:nvPr/>
        </p:nvSpPr>
        <p:spPr>
          <a:xfrm>
            <a:off x="487440" y="879480"/>
            <a:ext cx="81579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posed Effective Date: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on system implementation - Priority 2017; Rank 18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RCOT Impact Analysis: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tween $35k and $45k; no impacts to ERCOT staffing; impacts to Commercial Systems Integration (CSI), EMS, and Settlements &amp; Billing (S&amp;B); no impacts to ERCOT business processes; no impacts to ERCOT grid operations and practi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vision Description: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NPRR revises the Physical Responsive Capability (PRC) calculation from including the Responsive Reserve (RRS) service MW responsibility from Load Resources controlled by high-set under frequency relays to include all MW from these Load Resources from their current output to their Low Power Consumption (LPC) capped at 150% of the QSE’s RRS responsibility from non-Controllable Load Resour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S Decision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On 9/15/16, PRS unanimously voted to recommend approval of NPRR801 as submitted.  On 10/13/16, PRS unanimously voted to endorse and forward to TAC the 9/15/16 PRS Report as revised by PRS and the Impact Analysis for NPRR801 with a recommended priority of 2017 and a rank of 187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2T23:12:02Z</dcterms:created>
  <dc:creator>Diana</dc:creator>
  <dc:description/>
  <dc:language>en-US</dc:language>
  <cp:lastModifiedBy>C Phillips</cp:lastModifiedBy>
  <cp:lastPrinted>2013-01-30T23:16:36Z</cp:lastPrinted>
  <dcterms:modified xsi:type="dcterms:W3CDTF">2016-10-19T20:28:47Z</dcterms:modified>
  <cp:revision>326</cp:revision>
  <dc:subject/>
  <dc:title>FileNew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0EB6C32BA7893B4D8D08DA703C6B8599</vt:lpwstr>
  </property>
  <property fmtid="{D5CDD505-2E9C-101B-9397-08002B2CF9AE}" pid="3" name="Information Classification">
    <vt:lpwstr/>
  </property>
</Properties>
</file>