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97388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0A8B5-EF15-4F67-A535-B5DA93492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7772-3B6A-4AB7-B9FB-17C7C0F56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141A5-9A0C-459A-8BAE-6EB205A76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7E10-5F56-4D35-97D2-B22EFC1A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2100-B1D0-4007-B2E4-F8132AD0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9A25-51C3-4F63-A036-F63C6C739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B716-60CE-475A-9E92-2E72B83B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E1C4D-EE78-405E-8F47-B169944E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C586-0125-407C-99F8-C0A5D682C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FF36-12EB-4D0E-A183-287105439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CB2A-2365-4593-B1BE-F6C005C2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4B5F-A5CC-422C-AD0A-DE47EB5B5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0154-D78A-4A44-BA54-2F8D2389FA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3505320" y="0"/>
            <a:ext cx="563868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7" descr=""/>
          <p:cNvPicPr/>
          <p:nvPr/>
        </p:nvPicPr>
        <p:blipFill>
          <a:blip r:embed="rId2"/>
          <a:stretch/>
        </p:blipFill>
        <p:spPr>
          <a:xfrm>
            <a:off x="34308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75960" y="152280"/>
            <a:ext cx="8839080" cy="64771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Resource Cost Working Group</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October 17, 2016</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WMS Update</a:t>
            </a:r>
            <a:endParaRPr b="0" lang="en-US" sz="40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gnificant Capital Costs for RMR Contracts</a:t>
            </a:r>
            <a:endParaRPr b="0" lang="en-US" sz="4000" spc="-1" strike="noStrike">
              <a:solidFill>
                <a:srgbClr val="000000"/>
              </a:solidFill>
              <a:latin typeface="Calibri"/>
            </a:endParaRPr>
          </a:p>
        </p:txBody>
      </p:sp>
      <p:sp>
        <p:nvSpPr>
          <p:cNvPr id="119" name=""/>
          <p:cNvSpPr txBox="1"/>
          <p:nvPr/>
        </p:nvSpPr>
        <p:spPr>
          <a:xfrm>
            <a:off x="228240" y="1600200"/>
            <a:ext cx="8534520" cy="50292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3.14.1</a:t>
            </a:r>
            <a:r>
              <a:rPr b="1" i="1" lang="en-US" sz="1600" spc="-1" strike="noStrike">
                <a:solidFill>
                  <a:srgbClr val="000000"/>
                </a:solidFill>
                <a:latin typeface="Calibri"/>
              </a:rPr>
              <a:t>	</a:t>
            </a:r>
            <a:r>
              <a:rPr b="1" i="1" lang="en-US" sz="1600" spc="-1" strike="noStrike">
                <a:solidFill>
                  <a:srgbClr val="000000"/>
                </a:solidFill>
                <a:latin typeface="Calibri"/>
              </a:rPr>
              <a:t>Reliability Must Run</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may execute RMR Agreements for no less than one month and no more than one year, with one exception.  </a:t>
            </a:r>
            <a:r>
              <a:rPr b="0" lang="en-US" sz="1600" spc="-1" strike="noStrike">
                <a:solidFill>
                  <a:srgbClr val="0000ff"/>
                </a:solidFill>
                <a:latin typeface="Calibri"/>
              </a:rPr>
              <a:t>ERCOT may execute an RMR Agreement for a term longer than 12 months if the Resource Entity must make a significant capital expenditure to meet environmental regulations or to ensure availability to continue operating the RMR Unit </a:t>
            </a:r>
            <a:r>
              <a:rPr b="0" lang="en-US" sz="1600" spc="-1" strike="noStrike">
                <a:solidFill>
                  <a:srgbClr val="ff0000"/>
                </a:solidFill>
                <a:latin typeface="Calibri"/>
              </a:rPr>
              <a:t>so as to make an RMR Agreement in excess of 12 months appropriate, in ERCOT’s opinion</a:t>
            </a:r>
            <a:r>
              <a:rPr b="0" lang="en-US" sz="1600" spc="-1" strike="noStrike">
                <a:solidFill>
                  <a:srgbClr val="000000"/>
                </a:solidFill>
                <a:latin typeface="Calibri"/>
              </a:rPr>
              <a:t>.  The term of a multi-year RMR Agreement must take into account the appropriate RMR exit strategy discussed in Section 3.14.1.4, Exit Strategy from an RMR Agreement.  In the event ERCOT chooses to contract for an RMR Unit for longer than one year, ERCOT shall annually re-evaluate the need for the RMR Unit under the criteria set forth in paragraph (b) above.  If ERCOT determines the RMR Unit is no longer needed, ERCOT shall enter into exit negotiations with the contract signatories to attempt to exit the contract early.  However, ERCOT shall not enter into such negotiations until a Market Notice is issued providing the anticipated RMR exit time frame.  The RMR standard Agreement is included in Section 22, Attachment B, Standard Form Reliability Must-Run Agreement.  ERCOT shall post each RMR Agreement in its entirety, including amendments or modifications thereto, within five Business Days of execution on the MIS Secure Area.</a:t>
            </a:r>
            <a:endParaRPr b="0" lang="en-US" sz="16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Options for WMS Consideration</a:t>
            </a:r>
            <a:endParaRPr b="0" lang="en-US" sz="24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ERCOT Board approval for any RMR Agreement with a term longer than 12 months or capital expenditures greater than $3M</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ERCOT Board approval for </a:t>
            </a:r>
            <a:r>
              <a:rPr b="0" lang="en-US" sz="2000" spc="-1" strike="noStrike" u="sng">
                <a:solidFill>
                  <a:srgbClr val="000000"/>
                </a:solidFill>
                <a:uFillTx/>
                <a:latin typeface="Calibri"/>
              </a:rPr>
              <a:t>all </a:t>
            </a:r>
            <a:r>
              <a:rPr b="0" lang="en-US" sz="2000" spc="-1" strike="noStrike">
                <a:solidFill>
                  <a:srgbClr val="000000"/>
                </a:solidFill>
                <a:latin typeface="Calibri"/>
              </a:rPr>
              <a:t>RMR Agreement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ve a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lement of Switchable Generation Resources (SWGRs)</a:t>
            </a:r>
            <a:endParaRPr b="0" lang="en-US" sz="4000" spc="-1" strike="noStrike">
              <a:solidFill>
                <a:srgbClr val="000000"/>
              </a:solidFill>
              <a:latin typeface="Calibri"/>
            </a:endParaRPr>
          </a:p>
        </p:txBody>
      </p:sp>
      <p:sp>
        <p:nvSpPr>
          <p:cNvPr id="121" name=""/>
          <p:cNvSpPr txBox="1"/>
          <p:nvPr/>
        </p:nvSpPr>
        <p:spPr>
          <a:xfrm>
            <a:off x="457200" y="190476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discussion of potential benefits and costs of the settlement options for switchable generation resou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working to develop revised options based on these discussions for review at the next RCWG me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04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g-Term Solution to </a:t>
            </a:r>
            <a:br>
              <a:rPr sz="4000"/>
            </a:br>
            <a:r>
              <a:rPr b="0" lang="en-US" sz="4000" spc="-1" strike="noStrike">
                <a:solidFill>
                  <a:srgbClr val="000000"/>
                </a:solidFill>
                <a:latin typeface="Calibri"/>
              </a:rPr>
              <a:t>Coal Index Price </a:t>
            </a:r>
            <a:endParaRPr b="0" lang="en-US" sz="4000" spc="-1" strike="noStrike">
              <a:solidFill>
                <a:srgbClr val="000000"/>
              </a:solidFill>
              <a:latin typeface="Calibri"/>
            </a:endParaRPr>
          </a:p>
        </p:txBody>
      </p:sp>
      <p:sp>
        <p:nvSpPr>
          <p:cNvPr id="123" name=""/>
          <p:cNvSpPr txBox="1"/>
          <p:nvPr/>
        </p:nvSpPr>
        <p:spPr>
          <a:xfrm>
            <a:off x="533160" y="1828440"/>
            <a:ext cx="80010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CMRR014 provided an interim solu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0 fuel adder for coal and lignite resources that is added to the $1.50 Solid Fuel Pri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nsets 6/1/18</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provided separate draft NPRR/VCMRR’s for Coal Fuel Index Price and for Emission Cos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l Fuel Index Price NPRR/VCMRR</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CFIP”  Coal Fuel Index Price: “Delivered to ERCOT” index price based on PRB 8400 coal plus rail transportation</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MMBtu fuel adder for coal and lignit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ission Cost NPRR/VCMRR</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es for more timely calculation of Emission Costs </a:t>
            </a: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CWG to have a detailed review at the next RCWG meet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tion Resource Compensation during a Market Restart</a:t>
            </a:r>
            <a:endParaRPr b="0" lang="en-US" sz="4000" spc="-1" strike="noStrike">
              <a:solidFill>
                <a:srgbClr val="000000"/>
              </a:solidFill>
              <a:latin typeface="Calibri"/>
            </a:endParaRPr>
          </a:p>
        </p:txBody>
      </p:sp>
      <p:sp>
        <p:nvSpPr>
          <p:cNvPr id="125" name=""/>
          <p:cNvSpPr txBox="1"/>
          <p:nvPr/>
        </p:nvSpPr>
        <p:spPr>
          <a:xfrm>
            <a:off x="457200" y="190476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discussion of guiding principles for Resource compensation during a market restar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 to the attached document “Market Continuity Guiding Princip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87440" y="1515960"/>
            <a:ext cx="8153280" cy="4732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Background:</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el Adder is used in calculation of Offer Caps and Make-whole pay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ault is $0.50/MMBtu, but a Resource can elect to submit an “actual” fuel adder, subject to verification by ERCO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el costs can include a number of components, such as commodity and capacity costs for transportation, storage, etc.</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Issue: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fixed-cost components be included in establishing an actual Fuel Adder for a Resource?</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Statu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CWG has developed and discussed a list of gas cost compon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ded to take a step back and establish guiding principles</a:t>
            </a:r>
            <a:endParaRPr b="0" lang="en-US" sz="2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8D7A-91E0-4D38-BC49-23195CDD6C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Title 1"/>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el Cost Components in the Fuel Add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MS Open Action Items for RCWG</a:t>
            </a:r>
            <a:endParaRPr b="0" lang="en-US" sz="44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0B11-6A98-4061-8AEA-D1C9C20C5A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1" name=""/>
          <p:cNvGraphicFramePr/>
          <p:nvPr/>
        </p:nvGraphicFramePr>
        <p:xfrm>
          <a:off x="380880" y="1333440"/>
          <a:ext cx="8458200" cy="4944960"/>
        </p:xfrm>
        <a:graphic>
          <a:graphicData uri="http://schemas.openxmlformats.org/drawingml/2006/table">
            <a:tbl>
              <a:tblPr/>
              <a:tblGrid>
                <a:gridCol w="3048120"/>
                <a:gridCol w="1143000"/>
                <a:gridCol w="4267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 ite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tu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view removal of PPA applied in Verifiable Cost from Protoco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nd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ep existing PPA language until NPRR664 is finaliz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ion process for Fuel Index Vendor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let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PRR765 Remove Vendor Names for Fuel Indices from the Protocols approved 3/31/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104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ve to NPRR664 Fuel Index Price for Resource Definition…</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PRR714 extended make-whole process for exceptional fuel events to 6/1/17.  Ideal solution would have exceptional fuel costs reflected in LMP’s. ERCOT working on proposa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xed Cost Issues – Pipeline Capacity and Penalti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guiding principl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al Index – Long Term Solution</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drafting NPRRs and VCMRR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ket Continuity Workshop: How verifiable costs for renewables are addressed</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market continuity guiding principl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7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MR Issue: Contract length – “significant investment” languag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ed options and will prepare NPRR based on WMS guidanc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132" name="TextBox 1"/>
          <p:cNvSpPr/>
          <p:nvPr/>
        </p:nvSpPr>
        <p:spPr>
          <a:xfrm>
            <a:off x="876240" y="6356520"/>
            <a:ext cx="7391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t;&gt;&gt; Next RCWG Meeting on Wednesday, October 26, 2016 &lt;&lt;&l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4T02:55:06Z</dcterms:created>
  <dc:creator>john</dc:creator>
  <dc:description/>
  <dc:language>en-US</dc:language>
  <cp:lastModifiedBy>Vinson, Paul T.</cp:lastModifiedBy>
  <cp:lastPrinted>2016-10-03T18:58:14Z</cp:lastPrinted>
  <dcterms:modified xsi:type="dcterms:W3CDTF">2016-10-13T18:56:32Z</dcterms:modified>
  <cp:revision>294</cp:revision>
  <dc:subject/>
  <dc:title>PowerPoint Presentation</dc:title>
</cp:coreProperties>
</file>