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35A-81CA-44B8-9364-29CD7514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441-A102-46A0-9F36-DB5288F9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F55-C8AF-4786-90A7-6CB7A322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A07-4EE2-463E-AEDF-055A8396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688-687C-4058-81AE-2D060CA7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420-2646-4D1C-9638-54C0ABD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767-7BD2-4D78-9A22-0B93410F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390-70CF-4038-A77C-EFD37F7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454-3D5C-4F67-9CA1-68B712F0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CDF-A50C-4826-AB7E-47AEEA10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70D-473A-4340-8132-7614BCD9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9A1-220B-49D5-AA60-422944D2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31E6-2CE6-4F66-9B7E-72411C832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SWG Update to W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/17/201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SWG Leadership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id Goza of NRG has received unanimous consent to succeed as Vice-Chair of DSW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Vice-Chair, Peter Dotson-Westphalen of CPower, has changed roles and is no longer able to continue as Vice-Ch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d has been a participant at DSWG for years and will make a fine repla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SWG seeks WMS approval for this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SWG Procedures Document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DSWG Procedures document is dated 1/27/20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d version removes old acronyms and references to programs that are no longer in existence and updates URLs, formatting and ERCOT lo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nges to the document were unanimously consented to at the June DSWG mee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SWG seeks WMS approval for the changes to the DSWG Procedures docu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4:24:30Z</dcterms:created>
  <dc:creator>Tim Carter</dc:creator>
  <dc:description/>
  <dc:language>en-US</dc:language>
  <cp:lastModifiedBy>Tim Carter</cp:lastModifiedBy>
  <dcterms:modified xsi:type="dcterms:W3CDTF">2016-10-12T15:33:27Z</dcterms:modified>
  <cp:revision>138</cp:revision>
  <dc:subject/>
  <dc:title>Slide 1</dc:title>
</cp:coreProperties>
</file>