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C655-AD0F-474E-81A8-4EBB3470A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06CC-84DF-4571-A341-FBD81B369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CC0C-9B18-4FDB-A4FC-825C8B506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20F7-209B-476A-A39E-E1EDAAC4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583A-2BAD-4786-8F7A-449CA6B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BF3A-5A28-4FB4-B689-85D99867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F09C-F0F2-4E11-8D3A-858E0A89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1B87-45F6-4102-A3C5-C575CE5A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5F71-89DD-434F-8C99-2D79D7D2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6E2C-1B11-424B-A821-7D2BF051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904B-1349-438A-9253-518CD33B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5894-D37D-4764-9131-4763F1FE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3897-9348-474E-8891-BCB64E18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0A53-BA7A-46DD-BA5B-726C509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6170-449E-408E-937D-90896BBD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C413-13B7-4C5A-BDA2-776D2A9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FF66-51DA-49D6-AC3C-605367B6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F152-48B8-4758-9FC9-DF88C3B7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25FE-B5D7-4924-8E03-E2323EF8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DC25-D352-4185-80D5-79857653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421D-7330-4056-AA9A-F191F105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958B-D915-4A79-A91A-A722D240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A59C-269B-4BAB-9D57-3B43661B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C9B7-3E0B-48A9-903C-8E602059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10BA-7C91-48BD-9A70-1BA72FE0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D247-C6F3-4C2D-A719-F8CA4E25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A062-7CCF-4441-8D96-578E5966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0504-547C-4331-AEBE-E45723505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16AF-74D9-473A-AE56-90A4AECF9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6407B-FE2E-4460-8464-9D95D893955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3B6FB-D079-4F38-A4D6-F813CFDF7B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EFC2C-E45C-4D68-B37E-D524D78E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/29/20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880" y="7621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PGRR05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lignment with NPRR781, Updates to Nodal Protocol Section 18, Load Profiling, to Align with Current Market Proces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 the proliferation of Advanced Metering Systems (AMS) in the ERCOT market, this LPGRR provides a comprehensive review of the Load Profiling Guide (LPG) and makes the following changes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dates language to clarify purpose and definition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dates current processes and methodologies; 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ves outdated processes and practic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Request to table LPGRR057, pending Board consideration of NPRR781, Updates to Nodal Protocol Section 18, Load Profiling, to Align with Current Market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FC74-D0FB-4265-91D5-245463B78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T Repor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6676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Availability – August 20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ket Data Transparency IT systems met all SLA targe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idents &amp; Maintenance – August 20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8/16/16 – Planned Maintenance (Site Failover – MPIM, Retail API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8/17/16 – Planned Maintenance (Site Failover – External Web Service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8/18/16 – Planned Maintenance (Site Failover – MI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8/24/16 – Unplanned Maintenance (MIS, MPIM, Retail API) due to an authentication iss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8/25/16, 08/29/16 – Unplanned and Planned Maintenance (Site Failover – Publishing and downloading of reports and extracts through the MIS, External Web Services) due to an EMMS network iss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8/25/16, 08/29/16 – The following reports posted with duplicate and inaccurate data sets for a brief period of time; The postings were remov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AE21-5144-4077-A9C3-CCF96DA6B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676520" y="4876920"/>
          <a:ext cx="5387760" cy="1190520"/>
        </p:xfrm>
        <a:graphic>
          <a:graphicData uri="http://schemas.openxmlformats.org/drawingml/2006/table">
            <a:tbl>
              <a:tblPr/>
              <a:tblGrid>
                <a:gridCol w="3444840"/>
                <a:gridCol w="1942920"/>
              </a:tblGrid>
              <a:tr h="209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por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MIL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99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TD Indicative Base Points by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P6-971-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TD Indicative LMPs by Resource Nodes, Load Zones and Hu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P6-970-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TD Indicative ORDC and Reliability Deployment Price Adders and Reser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P6-325-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 Change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WG continues work with ERCOT Data Strategy Leadership to improve MIS change 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2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MIS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4 (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Implemented September 20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ction for zeroes instead of null values in 60-day SCED GRD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in several link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to disclaimer language on Indicative LMP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5 (November 20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 Link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 GINR Screening, Steady-State, Short-Circuit and Facilitie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 GINR Stability and SSO Re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7 Regional Transmission Plan Posting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age Scheduler Equipment List 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6 (December 20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orecast Distribution Factor Report – Change to event-driven schedule, rather than hou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560" y="762120"/>
            <a:ext cx="845820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registered DG Report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rsed LPGRR057 with PWG edits to remove the two proposed Storage related columns from the Unregistered DG Report in Appendix D, Profile Decision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ort will continue to be used by ERCOT Load Profiling Department only;  If ERCOT System Planning &amp; Reliability Departments need additional DG/DER/Storage reporting, a separate effort will be required to ensure data submittal is not duplicated and to evaluate ways to consolidate DG repor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rcRect l="1923" t="38294" r="14103" b="24013"/>
          <a:stretch/>
        </p:blipFill>
        <p:spPr>
          <a:xfrm>
            <a:off x="762120" y="3809880"/>
            <a:ext cx="7696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2017 Meeting Schedu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560" y="762120"/>
            <a:ext cx="845820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accepts the 2017 Draft Block Meeting Schedule (Generally the second Wednesday of the month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will hold their first WebEx Only meeting next month, on October 12, 2017, as a t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may target alternating face-to-face and WebEx meetings in 20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32004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33520" y="9144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ctober 12, 2016 (WebEx Onl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05-12T17:27:11Z</cp:lastPrinted>
  <dcterms:modified xsi:type="dcterms:W3CDTF">2016-09-22T21:25:13Z</dcterms:modified>
  <cp:revision>1630</cp:revision>
  <dc:subject/>
  <dc:title>Instructions</dc:title>
</cp:coreProperties>
</file>