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079DA-305B-47C6-A69D-A8FE52180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B6823-1FD9-46E8-BF42-09B0B3B2C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4535F-526F-4D5C-B644-E114CC131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304DF-E62C-4544-97F5-83FC461DB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5F29C-AAF8-4DB9-839D-86F3948E6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80D99-3495-4C6F-BD1D-786BD5285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750F1-6C4F-4855-BADF-17F8B6837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DE0A7-F2AF-4BC4-937C-6A4B25D2B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8BF-A189-4582-AF2C-79CB231B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994-86E8-46C1-8AF5-95351499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AB51F-764E-4D43-8D3D-B3F5CDBA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7A2730-8A9A-4895-97CE-1B83752F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D00122-E3C1-4547-8C4E-890093BE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F48C0F-E1F3-46EB-AECC-70EDCF8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64AE2-437C-443A-960E-CDB8767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70752-0FCE-4442-AA95-C223D13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05635-4DDA-4242-AFB1-F9CAA5C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EAE33-362B-4577-8AF7-E55910C0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D1B33-2517-4BB7-888B-98E0A12F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CC2A1-3CED-48AB-B0C7-864ADCD0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42A-A851-4692-A501-5AE4B574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0EE245-5314-47CF-BF2D-3F507A9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C8070-B0D8-42AF-9BDF-619FA78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024B8-5F13-40DE-A463-E74BE48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76FC1-F650-49AD-88F5-1B927D8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B562B0-76C1-49F7-A56E-F0E46B1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7F839-6C86-4610-AC3E-4DC848D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EB89D-6850-49BB-8BE2-0E45584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B1EED-6F20-423D-B319-5DD38B7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EB5415-BA80-48B2-9B20-98A9E22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25247-A3C2-42BB-A27A-0AD8BCC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C5F-6AF6-434D-A028-B6208BAD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3A99E-D2D3-444D-BA16-965A3406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FE05-1A95-4E0C-A9B6-557C2247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E7B-4CEF-4714-85A3-0FC8E9C3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396-1738-425E-A94F-E0948D9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2510-0C96-4749-A5A4-8B63F4BD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D86F-7565-424F-89C6-C4806B86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CA14-5EE1-40A8-8090-68F4730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51A-7ADB-48AB-87BF-6DB3570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6C5-6742-4E51-BDCC-7EF590C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55A-174D-4244-B332-CADB024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1CE-8CA1-4EBA-BD1E-1C3540B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E2F-FCEB-43CC-B6CB-2554B41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3B84-3199-4177-ACD2-5B6C2437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203-C966-4406-82AB-E4A95A33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E0C-CBC1-4D31-B5F7-F56A280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41B-6D50-41C3-8AD8-2DB739C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F36A9-2FB8-4B37-8251-9E032035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9A5-954C-4B42-8E71-CD50251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3A3EB-A529-4547-965D-2B0788A5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68F3D-3D04-496C-85B3-E8F835FD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62B62-EB53-472F-887B-F3BB16D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BAAA1-5C19-4204-B67A-D435183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93718-6DD7-45DA-B81E-EC3706E4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06617-C4AF-4ECE-8ABB-F726EC0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DC42C-6E68-4272-9821-6AC5E2A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289BC-1018-43A6-8121-C039E9D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9E262-3DD2-4870-A167-9893576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27729-2F69-4236-AEEC-332BB97A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D30-441E-447A-B2EB-F5F30BB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27B31-B319-4880-9230-7D70876D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2E01D-C068-47E0-AA72-6473BFC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23267-78D5-4888-A815-E37C859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53F2A-F4DB-45C4-B6A9-F7EE3347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F87C9-1301-42AD-A4B3-749A0DA4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E3570-29F8-49C6-B821-264B5C79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77B5E-D328-4812-85A6-FC2EDFF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19ACB-5989-436C-B91D-54C9BFC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A2D4D-5245-45B3-AE86-EB03A5C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1E353-0732-44A4-81DA-C227642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8D9-746C-4973-BA1E-3C3AF0D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9CC08-26BD-4566-AA40-17439C8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09697-51C9-48BF-9D0B-1F012A46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935D4-D923-41FB-A59D-FB118C52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3ABA4-FD7A-4FEA-8939-5D322D7D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7491A-BEFE-4F99-B80A-5D26094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469D4-EBC3-4EE6-9C2B-472E9AFE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D2D75-45EC-42A0-806D-812FAEED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E42E1-DFD7-4CB2-BD6D-AF566084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E676C-D758-4A40-8D29-38AEDBCE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C8B06-5BE8-4F3F-9AD8-3E61145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AEB-D723-4BD3-A37D-5476FEA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F31E2-D071-43D8-B3AB-4A50E35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FAD0D-C8B3-424A-AF77-5687AE0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9BF22-9176-4E05-95F0-BD7DC3A9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66567-F1F7-400F-B770-F74A942A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6EAAC-0CAD-4463-A674-D48C3990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88DBC-F2C4-41A1-B691-3BD0B07A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31ADD-AD02-481D-B8B8-5BAD9D6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534B4-64E5-408B-A861-31B70C5C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67646-29D1-49F6-B0D9-4F5B6697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E19A0-CA7E-46DA-B48C-0D51FD4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43C-D264-4203-9D57-6432F42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F907A-0B53-4BE3-8D83-02F36EF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BE59D-476A-484E-8388-191C42F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40DAE-F3B1-4DF6-9974-9711E431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4E753-ECB0-4438-82C0-83A3CD8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44ACB-957F-42A6-8738-DE488BB5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FB2A8-E6A1-4B21-B411-70155E7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027C1-AA6B-4102-90AD-05AF986B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1412B-F4E8-4171-A8D0-2ACECD56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86F514-5A84-46CC-BBC0-B7AEF838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B2723-56E1-4426-AD0B-7E709EF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D4D23-0A1E-4DF8-B016-19CAA57D49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31B9A-4175-446F-980E-E1C76D63D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78F2-7D39-4B88-A00E-50D6AB35DAF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F0547-CC9F-4A2C-9030-37C9C79A78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1D0BA-4A09-4D36-9924-D76F2092BEC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58ED4-372C-49C0-BDBB-904B45CD386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DBC4C-733F-4156-9398-3EA6DEFB23D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1C369-BDCC-4F0D-A6D7-AC19442E579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96A76-B54C-4985-8C12-4746874CC27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C13A3-30A8-470B-B1E7-5992E9DAF17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C41D4-53DA-4976-97D1-0D2AE5ECA86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F28CC-C4C0-41B9-9EE4-89F41231FA8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AB88C-D523-4FCC-8F44-5C47A12BDFE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9AFC9-0757-4F45-8D44-D4ABE8B7C7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549C3-2E14-44DE-AB45-7174570C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C781A-7CC7-4B30-A668-EC656A6A192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7C9C7-574E-4FC0-8B01-BFA6A08EE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6036A-3247-4342-8429-DB842A8FB5E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862F9-3C5B-4AC5-953D-7507009343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A09B9-D39B-402A-A709-AAC99DB9A75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6A37D-4A94-4ECB-B97F-F2DDB9819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DADE4-EC05-4B01-B319-2A41A9276BF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B60A7-A043-4487-81D8-1C9A0E761959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29E06-1A8F-4FD8-9410-1F70334153C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65E13-C439-4592-8B57-EF4CF4F74E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C6317-7784-447F-A7F7-C388185AAA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ctober 1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 *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91D23-1EB7-4747-872E-D98128C5A0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59 – Segmentation of the Total New Capacity Estimate in the ERCOT CDR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commended withdraw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in points addressed with recommended modifications to CD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DR Mod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recommendation 1 with regards to timefram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egment first 5 years on main page and next 5 years on supplemental pag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recommendation 2 with regards to including supplemental table with additional data surrounding Planned Resour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Eliminates need for NPRR 759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PGRR 042 – Regional Transmission Plan Model Reserve Requirement and Load-Generation Imbalance Methodolog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ROS table for one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A7D9E-827F-4CE2-872A-177ACE2C4D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- RMR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3 – Clarifications to RMR RUC Commitment and Other RMR Clean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ERCOT comments (8/25/16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5 – Provisions for Refunds of Capital Contributions Made in Connection with an RMR Agre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WMS revis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PGRR 042 – Regional Transmission Plan Model Reserve Requirement and Load-Generation Imbalance Methodolog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ROS table for one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26634-0C39-48F4-90B5-A0BD5D68B2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Next Step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88 – RMR Study Modif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scussed, but no action tak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Long Term Solution – Alternatives to NPRR784 – Mitigated Offer Cap for Reliability Must-Run (RMR) Uni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Began discussion at September W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ll continue in Octob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MR Data Considered Protected In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Joint ROS/WMS meeting as necess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E814D-CB5C-44BF-8E8E-5B24EFA322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pen Act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Evaluate concerns with bringing RUC units earlier than required because of start-up failures (4/24/14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ocedures were changed and NPRR was comple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oltage Reduction – assess cost issues and applicability to loads as well as market impacts (9/25/14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nsure of what action item reques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sider alternative implementation options for automation of NPRR664 (12/18/14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s 664 and 714 passed, but not implemen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307D1-A8C9-43D8-A1E1-493CCA46B0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pen Act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view of determination of RRS Under 2015 Ancillary Service Methodology and NERC BAL-003 (12/18/14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gularly reporting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view ways to improve SASM (ERCOT to support with analysis) (5/28/15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ultiple enhancements have been implemen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onal Haze Discussion – Joint ROS/WMS Worksho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riginal workshop hel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igrated to RMR discu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12AC7-9E14-43D7-8591-732B474478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5-25T12:38:50Z</cp:lastPrinted>
  <dcterms:modified xsi:type="dcterms:W3CDTF">2016-09-16T17:59:11Z</dcterms:modified>
  <cp:revision>88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