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4"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5" name="PlaceHolder 2"/>
          <p:cNvSpPr>
            <a:spLocks noGrp="1"/>
          </p:cNvSpPr>
          <p:nvPr>
            <p:ph type="dt" idx="7"/>
          </p:nvPr>
        </p:nvSpPr>
        <p:spPr>
          <a:xfrm>
            <a:off x="3970440" y="0"/>
            <a:ext cx="303840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66"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67" name="PlaceHolder 4"/>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68" name="PlaceHolder 5"/>
          <p:cNvSpPr>
            <a:spLocks noGrp="1"/>
          </p:cNvSpPr>
          <p:nvPr>
            <p:ph type="ftr" idx="8"/>
          </p:nvPr>
        </p:nvSpPr>
        <p:spPr>
          <a:xfrm>
            <a:off x="0" y="8829720"/>
            <a:ext cx="30384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69" name="PlaceHolder 6"/>
          <p:cNvSpPr>
            <a:spLocks noGrp="1"/>
          </p:cNvSpPr>
          <p:nvPr>
            <p:ph type="sldNum" idx="9"/>
          </p:nvPr>
        </p:nvSpPr>
        <p:spPr>
          <a:xfrm>
            <a:off x="3970440" y="8829720"/>
            <a:ext cx="30384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7D879D-D754-46A2-B14B-0A382527F177}"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81160" y="696960"/>
            <a:ext cx="4648320" cy="3486240"/>
          </a:xfrm>
          <a:prstGeom prst="rect">
            <a:avLst/>
          </a:prstGeom>
          <a:ln w="0">
            <a:noFill/>
          </a:ln>
        </p:spPr>
      </p:sp>
      <p:sp>
        <p:nvSpPr>
          <p:cNvPr id="19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CF3ACDB-A731-4092-A9C9-B88ABC7B6A5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81160" y="696960"/>
            <a:ext cx="4648320" cy="3486240"/>
          </a:xfrm>
          <a:prstGeom prst="rect">
            <a:avLst/>
          </a:prstGeom>
          <a:ln w="0">
            <a:noFill/>
          </a:ln>
        </p:spPr>
      </p:sp>
      <p:sp>
        <p:nvSpPr>
          <p:cNvPr id="20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761D53-545E-4BC4-86D4-C2A0C27F138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81160" y="696960"/>
            <a:ext cx="4648320" cy="3486240"/>
          </a:xfrm>
          <a:prstGeom prst="rect">
            <a:avLst/>
          </a:prstGeom>
          <a:ln w="0">
            <a:noFill/>
          </a:ln>
        </p:spPr>
      </p:sp>
      <p:sp>
        <p:nvSpPr>
          <p:cNvPr id="20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60F3AB-6502-4289-925B-02C41252E56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CFA535-B33B-4B90-8CB8-25F6C15E31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4E2DB2-9FBB-4790-AEAC-067486F100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30C18E-B609-403A-B65C-7CCDEC1646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700C76-8373-4AA1-88C6-5993E48088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783912-D2BB-4810-8AA1-33316C1CCB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4F720B-05C5-480C-A3B9-AA614A76C4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E1FFEB-5F5E-48C4-9B1C-8995D6C233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5BEB24-B5D3-4C72-A134-755BE001C0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7F5D2C-17D5-46F5-87DA-CDBDC45C19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6C7C69-3C21-46CD-8974-C506846D3C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86B8B1-F12C-4EE4-8B1D-04DAE36D81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381F8E-6ED0-4238-B0A6-FC2D231FF1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168120"/>
            <a:ext cx="9144000" cy="721656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 name="Picture 11" descr=""/>
          <p:cNvPicPr/>
          <p:nvPr/>
        </p:nvPicPr>
        <p:blipFill>
          <a:blip r:embed="rId2"/>
          <a:stretch/>
        </p:blipFill>
        <p:spPr>
          <a:xfrm>
            <a:off x="212760" y="0"/>
            <a:ext cx="8718480" cy="13716000"/>
          </a:xfrm>
          <a:prstGeom prst="rect">
            <a:avLst/>
          </a:prstGeom>
          <a:ln w="0">
            <a:noFill/>
          </a:ln>
        </p:spPr>
      </p:pic>
      <p:sp>
        <p:nvSpPr>
          <p:cNvPr id="2" name="PlaceHolder 1"/>
          <p:cNvSpPr>
            <a:spLocks noGrp="1"/>
          </p:cNvSpPr>
          <p:nvPr>
            <p:ph type="dt" idx="1"/>
          </p:nvPr>
        </p:nvSpPr>
        <p:spPr>
          <a:xfrm>
            <a:off x="456840" y="5975280"/>
            <a:ext cx="21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2"/>
          <p:cNvSpPr>
            <a:spLocks noGrp="1"/>
          </p:cNvSpPr>
          <p:nvPr>
            <p:ph type="ftr" idx="2"/>
          </p:nvPr>
        </p:nvSpPr>
        <p:spPr>
          <a:xfrm>
            <a:off x="3124080" y="5975280"/>
            <a:ext cx="289584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Hello I'm a slide</a:t>
            </a:r>
            <a:endParaRPr b="0" lang="en-US" sz="1200" spc="-1" strike="noStrike">
              <a:solidFill>
                <a:srgbClr val="000000"/>
              </a:solidFill>
              <a:latin typeface="Times New Roman"/>
            </a:endParaRPr>
          </a:p>
        </p:txBody>
      </p:sp>
      <p:sp>
        <p:nvSpPr>
          <p:cNvPr id="4" name="PlaceHolder 3"/>
          <p:cNvSpPr>
            <a:spLocks noGrp="1"/>
          </p:cNvSpPr>
          <p:nvPr>
            <p:ph type="sldNum" idx="3"/>
          </p:nvPr>
        </p:nvSpPr>
        <p:spPr>
          <a:xfrm>
            <a:off x="6552720" y="597528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58214A1-3040-4D00-9906-80C5C0D3423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8"/>
          <p:cNvSpPr/>
          <p:nvPr/>
        </p:nvSpPr>
        <p:spPr>
          <a:xfrm>
            <a:off x="0" y="-168120"/>
            <a:ext cx="9144000" cy="721656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42" name="Picture 11" descr=""/>
          <p:cNvPicPr/>
          <p:nvPr/>
        </p:nvPicPr>
        <p:blipFill>
          <a:blip r:embed="rId2"/>
          <a:stretch/>
        </p:blipFill>
        <p:spPr>
          <a:xfrm>
            <a:off x="212760" y="0"/>
            <a:ext cx="8718480" cy="13716000"/>
          </a:xfrm>
          <a:prstGeom prst="rect">
            <a:avLst/>
          </a:prstGeom>
          <a:ln w="0">
            <a:noFill/>
          </a:ln>
        </p:spPr>
      </p:pic>
      <p:sp>
        <p:nvSpPr>
          <p:cNvPr id="43" name="PlaceHolder 1"/>
          <p:cNvSpPr>
            <a:spLocks noGrp="1"/>
          </p:cNvSpPr>
          <p:nvPr>
            <p:ph type="ftr" idx="4"/>
          </p:nvPr>
        </p:nvSpPr>
        <p:spPr>
          <a:xfrm>
            <a:off x="3124080" y="6194160"/>
            <a:ext cx="2895840" cy="19980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Hello I'm a slide</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Rectangle 8"/>
          <p:cNvSpPr/>
          <p:nvPr/>
        </p:nvSpPr>
        <p:spPr>
          <a:xfrm>
            <a:off x="0" y="-168120"/>
            <a:ext cx="9144000" cy="721656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81" name="Picture 11" descr=""/>
          <p:cNvPicPr/>
          <p:nvPr/>
        </p:nvPicPr>
        <p:blipFill>
          <a:blip r:embed="rId2"/>
          <a:stretch/>
        </p:blipFill>
        <p:spPr>
          <a:xfrm>
            <a:off x="212760" y="0"/>
            <a:ext cx="8718480" cy="13716000"/>
          </a:xfrm>
          <a:prstGeom prst="rect">
            <a:avLst/>
          </a:prstGeom>
          <a:ln w="0">
            <a:noFill/>
          </a:ln>
        </p:spPr>
      </p:pic>
      <p:sp>
        <p:nvSpPr>
          <p:cNvPr id="82" name="Slide Number Placeholder 6"/>
          <p:cNvSpPr/>
          <p:nvPr/>
        </p:nvSpPr>
        <p:spPr>
          <a:xfrm>
            <a:off x="6705720" y="6068880"/>
            <a:ext cx="2133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BF6FF3-3A23-4208-BD3C-7254AB2D3E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 name="PlaceHolder 1"/>
          <p:cNvSpPr>
            <a:spLocks noGrp="1"/>
          </p:cNvSpPr>
          <p:nvPr>
            <p:ph type="ftr" idx="5"/>
          </p:nvPr>
        </p:nvSpPr>
        <p:spPr>
          <a:xfrm>
            <a:off x="3124080" y="6194160"/>
            <a:ext cx="2895840" cy="19980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Hello I'm a slide</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Rectangle 8"/>
          <p:cNvSpPr/>
          <p:nvPr/>
        </p:nvSpPr>
        <p:spPr>
          <a:xfrm>
            <a:off x="0" y="-168120"/>
            <a:ext cx="9144000" cy="721656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21" name="Picture 11" descr=""/>
          <p:cNvPicPr/>
          <p:nvPr/>
        </p:nvPicPr>
        <p:blipFill>
          <a:blip r:embed="rId2"/>
          <a:stretch/>
        </p:blipFill>
        <p:spPr>
          <a:xfrm>
            <a:off x="212760" y="0"/>
            <a:ext cx="8718480" cy="13716000"/>
          </a:xfrm>
          <a:prstGeom prst="rect">
            <a:avLst/>
          </a:prstGeom>
          <a:ln w="0">
            <a:noFill/>
          </a:ln>
        </p:spPr>
      </p:pic>
      <p:sp>
        <p:nvSpPr>
          <p:cNvPr id="122" name="Straight Connector 6"/>
          <p:cNvSpPr/>
          <p:nvPr/>
        </p:nvSpPr>
        <p:spPr>
          <a:xfrm>
            <a:off x="247680" y="641520"/>
            <a:ext cx="8648640" cy="0"/>
          </a:xfrm>
          <a:prstGeom prst="line">
            <a:avLst/>
          </a:prstGeom>
          <a:ln w="15840">
            <a:solidFill>
              <a:srgbClr val="0038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Slide Number Placeholder 6"/>
          <p:cNvSpPr/>
          <p:nvPr/>
        </p:nvSpPr>
        <p:spPr>
          <a:xfrm>
            <a:off x="6705720" y="6202440"/>
            <a:ext cx="2133360" cy="1825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6DBDAC-66AE-4A1A-A1A8-FBB6F450BB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4" name="PlaceHolder 1"/>
          <p:cNvSpPr>
            <a:spLocks noGrp="1"/>
          </p:cNvSpPr>
          <p:nvPr>
            <p:ph type="ftr" idx="6"/>
          </p:nvPr>
        </p:nvSpPr>
        <p:spPr>
          <a:xfrm>
            <a:off x="3124080" y="6194160"/>
            <a:ext cx="2895840" cy="19980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Hello I'm a slide</a:t>
            </a:r>
            <a:endParaRPr b="0" lang="en-US" sz="1200" spc="-1" strike="noStrike">
              <a:solidFill>
                <a:srgbClr val="000000"/>
              </a:solidFill>
              <a:latin typeface="Times New Roman"/>
            </a:endParaRPr>
          </a:p>
        </p:txBody>
      </p:sp>
      <p:sp>
        <p:nvSpPr>
          <p:cNvPr id="125"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0" name="Group 13"/>
          <p:cNvGrpSpPr/>
          <p:nvPr/>
        </p:nvGrpSpPr>
        <p:grpSpPr>
          <a:xfrm>
            <a:off x="787320" y="2804760"/>
            <a:ext cx="7543800" cy="2840760"/>
            <a:chOff x="787320" y="2804760"/>
            <a:chExt cx="7543800" cy="2840760"/>
          </a:xfrm>
        </p:grpSpPr>
        <p:sp>
          <p:nvSpPr>
            <p:cNvPr id="171" name="TextBox 9"/>
            <p:cNvSpPr/>
            <p:nvPr/>
          </p:nvSpPr>
          <p:spPr>
            <a:xfrm>
              <a:off x="787320" y="3082680"/>
              <a:ext cx="754380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rPr>
                <a:t>Item 4: PRS Report </a:t>
              </a:r>
              <a:endParaRPr b="0" lang="en-US" sz="3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manda Frazier</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2016 PRS Chair</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echnical Advisory Committee (TAC) Meeting</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ERCOT Public</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ptember 29, 2016</a:t>
              </a:r>
              <a:endParaRPr b="0" lang="en-US" sz="1800" spc="-1" strike="noStrike">
                <a:solidFill>
                  <a:srgbClr val="000000"/>
                </a:solidFill>
                <a:latin typeface="Arial"/>
              </a:endParaRPr>
            </a:p>
          </p:txBody>
        </p:sp>
        <p:sp>
          <p:nvSpPr>
            <p:cNvPr id="172" name="Straight Connector 12"/>
            <p:cNvSpPr/>
            <p:nvPr/>
          </p:nvSpPr>
          <p:spPr>
            <a:xfrm flipV="1">
              <a:off x="787320" y="2804760"/>
              <a:ext cx="6286680" cy="12600"/>
            </a:xfrm>
            <a:prstGeom prst="line">
              <a:avLst/>
            </a:prstGeom>
            <a:ln w="25560">
              <a:solidFill>
                <a:srgbClr val="00385e"/>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379080" y="125280"/>
            <a:ext cx="84582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000000"/>
                </a:solidFill>
                <a:latin typeface="Arial"/>
              </a:rPr>
              <a:t>NPRR775, Enhanced Implementation of Limits for Fast Responding Regulation Service [ERCOT]</a:t>
            </a:r>
            <a:endParaRPr b="0" lang="en-US" sz="1800" spc="-1" strike="noStrike">
              <a:solidFill>
                <a:srgbClr val="000000"/>
              </a:solidFill>
              <a:latin typeface="Arial"/>
            </a:endParaRPr>
          </a:p>
        </p:txBody>
      </p:sp>
      <p:sp>
        <p:nvSpPr>
          <p:cNvPr id="193" name="Rectangle 2"/>
          <p:cNvSpPr/>
          <p:nvPr/>
        </p:nvSpPr>
        <p:spPr>
          <a:xfrm>
            <a:off x="487440" y="879480"/>
            <a:ext cx="815796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roposed Effective Date:  </a:t>
            </a:r>
            <a:r>
              <a:rPr b="0" lang="en-US" sz="1800" spc="-1" strike="noStrike">
                <a:solidFill>
                  <a:srgbClr val="000000"/>
                </a:solidFill>
                <a:latin typeface="Arial"/>
              </a:rPr>
              <a:t>Upon system implementation - Priority 2017; Rank 1830</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ERCOT Impact Analysis:  </a:t>
            </a:r>
            <a:r>
              <a:rPr b="0" lang="en-US" sz="1800" spc="-1" strike="noStrike">
                <a:solidFill>
                  <a:srgbClr val="000000"/>
                </a:solidFill>
                <a:latin typeface="Arial"/>
              </a:rPr>
              <a:t>Between $30k and $40k; no impacts to ERCOT staffing; impacts to MMS and EIS; no impacts to ERCOT business functions; no impacts to ERCOT grid operations and practices.</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Revision Description:  </a:t>
            </a:r>
            <a:r>
              <a:rPr b="0" lang="en-US" sz="1800" spc="-1" strike="noStrike">
                <a:solidFill>
                  <a:srgbClr val="000000"/>
                </a:solidFill>
                <a:latin typeface="Arial"/>
              </a:rPr>
              <a:t>This NPRR more thoroughly implements the limits on Fast Responding Regulation Service (FRRS) that can be awarded or provided by restricting self-arrangement from Resources providing FRRS as well as providing rules concerning Real-Time scheduling.</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RS Decision:</a:t>
            </a:r>
            <a:r>
              <a:rPr b="0" lang="en-US" sz="1800" spc="-1" strike="noStrike">
                <a:solidFill>
                  <a:srgbClr val="000000"/>
                </a:solidFill>
                <a:latin typeface="Arial"/>
              </a:rPr>
              <a:t>  On 8/11/16, PRS voted to recommend approval of NPRR775 as submitted.  There was one abstention from the Independent Retail Electric Provider (IREP) Market Segment.  On 9/15/16, PRS unanimously voted to endorse and forward to TAC the 8/11/16 PRS Report and Impact Analysis for NPRR775 with a recommended priority of 2017 and rank of 183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379080" y="125280"/>
            <a:ext cx="84582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000000"/>
                </a:solidFill>
                <a:latin typeface="Arial"/>
              </a:rPr>
              <a:t>NPRR789, Publish All Mid-Term Load Forecast Results [ERCOT]</a:t>
            </a:r>
            <a:endParaRPr b="0" lang="en-US" sz="1800" spc="-1" strike="noStrike">
              <a:solidFill>
                <a:srgbClr val="000000"/>
              </a:solidFill>
              <a:latin typeface="Arial"/>
            </a:endParaRPr>
          </a:p>
        </p:txBody>
      </p:sp>
      <p:sp>
        <p:nvSpPr>
          <p:cNvPr id="195" name="Rectangle 2"/>
          <p:cNvSpPr/>
          <p:nvPr/>
        </p:nvSpPr>
        <p:spPr>
          <a:xfrm>
            <a:off x="487440" y="879480"/>
            <a:ext cx="815796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roposed Effective Date:  </a:t>
            </a:r>
            <a:r>
              <a:rPr b="0" lang="en-US" sz="1800" spc="-1" strike="noStrike">
                <a:solidFill>
                  <a:srgbClr val="000000"/>
                </a:solidFill>
                <a:latin typeface="Arial"/>
              </a:rPr>
              <a:t>Upon system implementation - Priority 2017; Rank 1840</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ERCOT Impact Analysis:  </a:t>
            </a:r>
            <a:r>
              <a:rPr b="0" lang="en-US" sz="1800" spc="-1" strike="noStrike">
                <a:solidFill>
                  <a:srgbClr val="000000"/>
                </a:solidFill>
                <a:latin typeface="Arial"/>
              </a:rPr>
              <a:t>Between $30k and $40k; no impacts to ERCOT staffing; impacts to Energy Management System (EMS), Market Information System (MIS), Current Day Reports (CDR), and ERCOT.com; no impacts to ERCOT business functions; no impacts to ERCOT grid operations and practices.</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Revision Description:  </a:t>
            </a:r>
            <a:r>
              <a:rPr b="0" lang="en-US" sz="1800" spc="-1" strike="noStrike">
                <a:solidFill>
                  <a:srgbClr val="000000"/>
                </a:solidFill>
                <a:latin typeface="Arial"/>
              </a:rPr>
              <a:t>This NPRR publishes the results of all of ERCOT’s Mid-Term Load Forecasts (MTLFs), as well as indicating which forecast is currently in use by ERCOT Operations.</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RS Decision:</a:t>
            </a:r>
            <a:r>
              <a:rPr b="0" lang="en-US" sz="1800" spc="-1" strike="noStrike">
                <a:solidFill>
                  <a:srgbClr val="000000"/>
                </a:solidFill>
                <a:latin typeface="Arial"/>
              </a:rPr>
              <a:t>  On 8/11/16, PRS unanimously voted to recommend approval of NPRR789 as amended by the 7/26/16 ERCOT comments.  On 9/15/16, PRS unanimously voted to endorse and forward to TAC the 8/11/16 PRS Report and Impact Analysis for NPRR789 with a recommended priority of 2017 and rank of 184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3"/>
          <p:cNvSpPr/>
          <p:nvPr/>
        </p:nvSpPr>
        <p:spPr>
          <a:xfrm>
            <a:off x="379440" y="714240"/>
            <a:ext cx="8458200" cy="5543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Revision Requests Recommended for Approval by PRS – Unopposed (Vote):</a:t>
            </a:r>
            <a:endParaRPr b="0" lang="en-US" sz="2000" spc="-1" strike="noStrike">
              <a:solidFill>
                <a:srgbClr val="000000"/>
              </a:solidFill>
              <a:latin typeface="Arial"/>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PRR769, Alignment with VCMRR013, Clarifications to Verifiable Cost Appeals Process*</a:t>
            </a:r>
            <a:endParaRPr b="0" lang="en-US" sz="2000" spc="-1" strike="noStrike">
              <a:solidFill>
                <a:srgbClr val="000000"/>
              </a:solidFill>
              <a:latin typeface="Arial"/>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PRR775, Enhanced Implementation of Limits for Fast Responding Regulation Service</a:t>
            </a:r>
            <a:endParaRPr b="0" lang="en-US" sz="2000" spc="-1" strike="noStrike">
              <a:solidFill>
                <a:srgbClr val="000000"/>
              </a:solidFill>
              <a:latin typeface="Arial"/>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PRR789, Publish All Mid-Term Load Forecast Results</a:t>
            </a:r>
            <a:endParaRPr b="0" lang="en-US" sz="2000" spc="-1" strike="noStrike">
              <a:solidFill>
                <a:srgbClr val="000000"/>
              </a:solidFill>
              <a:latin typeface="Arial"/>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600" spc="-1" strike="noStrike">
                <a:solidFill>
                  <a:srgbClr val="000000"/>
                </a:solidFill>
                <a:latin typeface="Arial"/>
              </a:rPr>
              <a:t>(* denotes no impact)</a:t>
            </a:r>
            <a:endParaRPr b="0" lang="en-US" sz="1600" spc="-1" strike="noStrike">
              <a:solidFill>
                <a:srgbClr val="000000"/>
              </a:solidFill>
              <a:latin typeface="Arial"/>
            </a:endParaRPr>
          </a:p>
          <a:p>
            <a:pPr>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4" name="PlaceHolder 1"/>
          <p:cNvSpPr>
            <a:spLocks noGrp="1"/>
          </p:cNvSpPr>
          <p:nvPr>
            <p:ph type="title"/>
          </p:nvPr>
        </p:nvSpPr>
        <p:spPr>
          <a:xfrm>
            <a:off x="379080" y="179280"/>
            <a:ext cx="84582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ummary of PRS Upda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3"/>
          <p:cNvSpPr/>
          <p:nvPr/>
        </p:nvSpPr>
        <p:spPr>
          <a:xfrm>
            <a:off x="379440" y="716040"/>
            <a:ext cx="8493120" cy="554364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Revision Requests Recommended for Approval by PRS – With Opposing Votes (Vote):</a:t>
            </a:r>
            <a:endParaRPr b="0" lang="en-US" sz="2000" spc="-1" strike="noStrike">
              <a:solidFill>
                <a:srgbClr val="000000"/>
              </a:solidFill>
              <a:latin typeface="Arial"/>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PRR755, Data Agent-Only QSE Registration</a:t>
            </a:r>
            <a:endParaRPr b="0" lang="en-US" sz="2000" spc="-1" strike="noStrike">
              <a:solidFill>
                <a:srgbClr val="000000"/>
              </a:solidFill>
              <a:latin typeface="Arial"/>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PRR788, RMR Study Modifications –  URGEN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Other Urgent RMR Revision Requests – Unopposed (Vote):</a:t>
            </a:r>
            <a:endParaRPr b="0" lang="en-US" sz="2000" spc="-1" strike="noStrike">
              <a:solidFill>
                <a:srgbClr val="000000"/>
              </a:solidFill>
              <a:latin typeface="Arial"/>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PRR793, Clarifications to RMR RUC Commitment and Other RMR Cleanup* – URGENT </a:t>
            </a:r>
            <a:endParaRPr b="0" lang="en-US" sz="2000" spc="-1" strike="noStrike">
              <a:solidFill>
                <a:srgbClr val="000000"/>
              </a:solidFill>
              <a:latin typeface="Arial"/>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PRR795, Provisions for Refunds of Capital Contributions Made in Connection with an RMR Agreement* – URGENT</a:t>
            </a:r>
            <a:endParaRPr b="0" lang="en-US" sz="2000" spc="-1" strike="noStrike">
              <a:solidFill>
                <a:srgbClr val="000000"/>
              </a:solidFill>
              <a:latin typeface="Arial"/>
            </a:endParaRPr>
          </a:p>
          <a:p>
            <a:pPr>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600" spc="-1" strike="noStrike">
                <a:solidFill>
                  <a:srgbClr val="000000"/>
                </a:solidFill>
                <a:latin typeface="Arial"/>
              </a:rPr>
              <a:t>(* denotes no impact)</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6" name="PlaceHolder 1"/>
          <p:cNvSpPr>
            <a:spLocks noGrp="1"/>
          </p:cNvSpPr>
          <p:nvPr>
            <p:ph type="title"/>
          </p:nvPr>
        </p:nvSpPr>
        <p:spPr>
          <a:xfrm>
            <a:off x="379080" y="179280"/>
            <a:ext cx="84582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ummary of PRS Update (continu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3"/>
          <p:cNvSpPr/>
          <p:nvPr/>
        </p:nvSpPr>
        <p:spPr>
          <a:xfrm>
            <a:off x="403200" y="714240"/>
            <a:ext cx="849312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PlaceHolder 1"/>
          <p:cNvSpPr>
            <a:spLocks noGrp="1"/>
          </p:cNvSpPr>
          <p:nvPr>
            <p:ph type="title"/>
          </p:nvPr>
        </p:nvSpPr>
        <p:spPr>
          <a:xfrm>
            <a:off x="379440" y="98280"/>
            <a:ext cx="84456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000" spc="-1" strike="noStrike">
                <a:solidFill>
                  <a:srgbClr val="000000"/>
                </a:solidFill>
                <a:latin typeface="Arial"/>
              </a:rPr>
              <a:t>NPRR755, Data Agent-Only QSE Registration</a:t>
            </a:r>
            <a:endParaRPr b="0" lang="en-US" sz="2000" spc="-1" strike="noStrike">
              <a:solidFill>
                <a:srgbClr val="000000"/>
              </a:solidFill>
              <a:latin typeface="Arial"/>
            </a:endParaRPr>
          </a:p>
        </p:txBody>
      </p:sp>
      <p:graphicFrame>
        <p:nvGraphicFramePr>
          <p:cNvPr id="179" name=""/>
          <p:cNvGraphicFramePr/>
          <p:nvPr/>
        </p:nvGraphicFramePr>
        <p:xfrm>
          <a:off x="285840" y="669960"/>
          <a:ext cx="8585280" cy="6005520"/>
        </p:xfrm>
        <a:graphic>
          <a:graphicData uri="http://schemas.openxmlformats.org/drawingml/2006/table">
            <a:tbl>
              <a:tblPr/>
              <a:tblGrid>
                <a:gridCol w="1245960"/>
                <a:gridCol w="7339320"/>
              </a:tblGrid>
              <a:tr h="94464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Purpose</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ERCOT)</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This NPRR allows an Entity to register as a Data Agent-Only Qualified Scheduling Entity (QSE) for the purpose of connecting to the ERCOT Wide Area Network (WAN) as an agent for another QSE, without meeting collateral and capitalization requirements otherwise applicable to a QSE.</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r>
              <a:tr h="179856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PRS Vote</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f5f4"/>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On 4/14/16, PRS voted to recommend approval of NPRR755 as amended by the 3/14/16 ERCOT comments.  There was one opposing vote from the Independent Generator Market Segment and two abstentions from the Investor Owned Utility (IOU) and Independent Power Marketer (IPM) Market Segments.  On 9/15/16, PRS voted to endorse and forward to TAC the 5/12/16 PRS Report as amended by the 5/10/16 ERCOT comments and the Impact Analysis for NPRR755 with a recommended priority of 2016 and rank of 1559.  There was one opposing vote from the Independent Generator Market Segment and one abstention from the IPM Market Segment.</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f5f4"/>
                    </a:solidFill>
                  </a:tcPr>
                </a:tc>
              </a:tr>
              <a:tr h="51912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Effective Date/Priority</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Upon system implementation - Priority 2016; Rank 1559</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r>
              <a:tr h="94464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ERCOT Impact</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f5f4"/>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Between $60k and $90k; no impacts to ERCOT staffing; impacts to Credit Monitoring and Management (CMM), Registration System (REG), Enterprise Integration (EI), Market Management System (MMS), Enterprise Information Services (EIS); ERCOT business processes will be updated; no impacts to ERCOT grid operations and practices.</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f5f4"/>
                    </a:solidFill>
                  </a:tcPr>
                </a:tc>
              </a:tr>
              <a:tr h="179856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Business Case Highlights</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This NPRR (together with NOGRR154) provides clarity of compliance requirements for resource-specific data exchange on the WAN as well as providing an additional registration option for currently registered and future Entities that provide QSE services limited only to QSE data exchange for operations involving dispatchable Resources, not the principle to market/financial settlements.  These changes and greater flexibility for QSE services contemplated under this NPRR may potentially provide for cost savings regarding WAN connection obligations and/or eliminate a barrier to entry for data service providers and smaller Market Participants.</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3"/>
          <p:cNvSpPr/>
          <p:nvPr/>
        </p:nvSpPr>
        <p:spPr>
          <a:xfrm>
            <a:off x="403200" y="714240"/>
            <a:ext cx="849312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1" name="PlaceHolder 1"/>
          <p:cNvSpPr>
            <a:spLocks noGrp="1"/>
          </p:cNvSpPr>
          <p:nvPr>
            <p:ph type="title"/>
          </p:nvPr>
        </p:nvSpPr>
        <p:spPr>
          <a:xfrm>
            <a:off x="379440" y="98280"/>
            <a:ext cx="84456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000" spc="-1" strike="noStrike">
                <a:solidFill>
                  <a:srgbClr val="000000"/>
                </a:solidFill>
                <a:latin typeface="Arial"/>
              </a:rPr>
              <a:t>NPRR788, RMR Study Modifications –  URGENT</a:t>
            </a:r>
            <a:endParaRPr b="0" lang="en-US" sz="2000" spc="-1" strike="noStrike">
              <a:solidFill>
                <a:srgbClr val="000000"/>
              </a:solidFill>
              <a:latin typeface="Arial"/>
            </a:endParaRPr>
          </a:p>
        </p:txBody>
      </p:sp>
      <p:graphicFrame>
        <p:nvGraphicFramePr>
          <p:cNvPr id="182" name=""/>
          <p:cNvGraphicFramePr/>
          <p:nvPr/>
        </p:nvGraphicFramePr>
        <p:xfrm>
          <a:off x="285840" y="669960"/>
          <a:ext cx="8585280" cy="4727520"/>
        </p:xfrm>
        <a:graphic>
          <a:graphicData uri="http://schemas.openxmlformats.org/drawingml/2006/table">
            <a:tbl>
              <a:tblPr/>
              <a:tblGrid>
                <a:gridCol w="1245960"/>
                <a:gridCol w="7339320"/>
              </a:tblGrid>
              <a:tr h="94464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Purpose</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LCRA)</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This NPRR modifies the requirement for Reliability Must-Run (RMR) studies to use processes consistent with ERCOT planning studies.  In addition, this NPRR introduces a new requirement that a potential RMR Unit must have a meaningful impact on the expected transmission overload to be considered for an RMR Agreement.</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r>
              <a:tr h="158580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PRS Vote</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f5f4"/>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On 8/11/16, PRS voted to grant NPRR788 Urgent status.  There was one opposing vote from the Municipal Market Segment.  PRS then unanimously voted to table NPRR788 and refer the issue to ROS and WMS.  On 9/15/16, PRS voted via roll call vote to recommend approval of NPRR788 as amended by the 9/14/16 Luminant comments as revised by PRS; and to forward to TAC.  There were five opposing votes from the Consumer, Independent Generator, and IOU (3) Market Segments and one abstention from the IOU Market Segment.</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f5f4"/>
                    </a:solidFill>
                  </a:tcPr>
                </a:tc>
              </a:tr>
              <a:tr h="5176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Effective Date/Priority</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To be determined</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r>
              <a:tr h="51912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ERCOT Impact</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f5f4"/>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To be determined</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f5f4"/>
                    </a:solidFill>
                  </a:tcPr>
                </a:tc>
              </a:tr>
              <a:tr h="11602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Business Case Highlights</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The current Protocol language requires use of a Load forecast which is inconsistent with ERCOT planning studies.  Additionally, this NPRR limits entry into RMR Agreements for Resources that have a low impact on identified reliability deficiencies, a feature missing from current Protocol language, but important when considering the benefits of entering an RMR Agreement.</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3"/>
          <p:cNvSpPr/>
          <p:nvPr/>
        </p:nvSpPr>
        <p:spPr>
          <a:xfrm>
            <a:off x="403200" y="714240"/>
            <a:ext cx="849312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PlaceHolder 1"/>
          <p:cNvSpPr>
            <a:spLocks noGrp="1"/>
          </p:cNvSpPr>
          <p:nvPr>
            <p:ph type="title"/>
          </p:nvPr>
        </p:nvSpPr>
        <p:spPr>
          <a:xfrm>
            <a:off x="379440" y="98280"/>
            <a:ext cx="84456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000" spc="-1" strike="noStrike">
                <a:solidFill>
                  <a:srgbClr val="000000"/>
                </a:solidFill>
                <a:latin typeface="Arial"/>
              </a:rPr>
              <a:t>NPRR793, Clarifications to RMR RUC Commitment and Other RMR Cleanups – URGENT</a:t>
            </a:r>
            <a:endParaRPr b="0" lang="en-US" sz="2000" spc="-1" strike="noStrike">
              <a:solidFill>
                <a:srgbClr val="000000"/>
              </a:solidFill>
              <a:latin typeface="Arial"/>
            </a:endParaRPr>
          </a:p>
        </p:txBody>
      </p:sp>
      <p:graphicFrame>
        <p:nvGraphicFramePr>
          <p:cNvPr id="185" name=""/>
          <p:cNvGraphicFramePr/>
          <p:nvPr/>
        </p:nvGraphicFramePr>
        <p:xfrm>
          <a:off x="285840" y="669960"/>
          <a:ext cx="8585280" cy="4506840"/>
        </p:xfrm>
        <a:graphic>
          <a:graphicData uri="http://schemas.openxmlformats.org/drawingml/2006/table">
            <a:tbl>
              <a:tblPr/>
              <a:tblGrid>
                <a:gridCol w="1245960"/>
                <a:gridCol w="7339320"/>
              </a:tblGrid>
              <a:tr h="128412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Purpose</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ERCOT)</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This NPRR provides clarification and alignment with current operational and financial practices as well as NPRR442, Energy Offer Curve Requirement for Generation Resources Providing Reliability Must-Run Service.  This NPRR also provides a means of operating an RMR Resource to ensure the RMR Resource is not unintentionally Reliability Unit Commitment (RUC)-committed before other Resources.</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r>
              <a:tr h="81144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PRS Vote</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f5f4"/>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On 9/15/16, PRS unanimously voted to grant NPRR793 urgent status.  PRS then unanimously voted to recommend approval of NPRR793 as amended by the 8/25/16 ERCOT comments; and to forward the Impact Analysis to TAC.</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f5f4"/>
                    </a:solidFill>
                  </a:tcPr>
                </a:tc>
              </a:tr>
              <a:tr h="51804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Effective Date/Priority</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November 1, 2016</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r>
              <a:tr h="7318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ERCOT Impact</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f5f4"/>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No budgetary impact; no impacts to ERCOT staffing; no impacts to ERCOT computer systems; ERCOT business processes will be updated; ERCOT grid operations and practices will be updated.</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f5f4"/>
                    </a:solidFill>
                  </a:tcPr>
                </a:tc>
              </a:tr>
              <a:tr h="116136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Business Case Highlights</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This NPRR provides clarification and alignment with current operational and financial practices as well as NPRR442.  This NPRR also provides a means of operating an RMR Resource to ensure the RMR Resource is not unintentionally RUC-committed before other Resources.</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3"/>
          <p:cNvSpPr/>
          <p:nvPr/>
        </p:nvSpPr>
        <p:spPr>
          <a:xfrm>
            <a:off x="403200" y="714240"/>
            <a:ext cx="849312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7" name="PlaceHolder 1"/>
          <p:cNvSpPr>
            <a:spLocks noGrp="1"/>
          </p:cNvSpPr>
          <p:nvPr>
            <p:ph type="title"/>
          </p:nvPr>
        </p:nvSpPr>
        <p:spPr>
          <a:xfrm>
            <a:off x="379440" y="98280"/>
            <a:ext cx="84456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000" spc="-1" strike="noStrike">
                <a:solidFill>
                  <a:srgbClr val="000000"/>
                </a:solidFill>
                <a:latin typeface="Arial"/>
              </a:rPr>
              <a:t>NPRR795, Provisions for Refunds of Capital Contributions Made in Connection with an RMR Agreement – URGENT</a:t>
            </a:r>
            <a:endParaRPr b="0" lang="en-US" sz="2000" spc="-1" strike="noStrike">
              <a:solidFill>
                <a:srgbClr val="000000"/>
              </a:solidFill>
              <a:latin typeface="Arial"/>
            </a:endParaRPr>
          </a:p>
        </p:txBody>
      </p:sp>
      <p:graphicFrame>
        <p:nvGraphicFramePr>
          <p:cNvPr id="188" name=""/>
          <p:cNvGraphicFramePr/>
          <p:nvPr/>
        </p:nvGraphicFramePr>
        <p:xfrm>
          <a:off x="285840" y="669960"/>
          <a:ext cx="8585280" cy="4233960"/>
        </p:xfrm>
        <a:graphic>
          <a:graphicData uri="http://schemas.openxmlformats.org/drawingml/2006/table">
            <a:tbl>
              <a:tblPr/>
              <a:tblGrid>
                <a:gridCol w="1245960"/>
                <a:gridCol w="7339320"/>
              </a:tblGrid>
              <a:tr h="81900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Purpose</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ERCOT)</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This NPRR creates a mechanism by which capital expenditures funded by ERCOT under an RMR Agreement may be refunded subsequent to the termination of the RMR Agreement.</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r>
              <a:tr h="100332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PRS Vote</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f5f4"/>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On 8/11/16, PRS unanimously voted to grant NPRR795 Urgent status.  On 9/15/16, PRS unanimously voted to recommend approval of NPRR795 as amended by the 9/12/16 Reliant comments with a recommended effective date of October 12, 2016; and to forward the Impact Analysis to TAC.</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f5f4"/>
                    </a:solidFill>
                  </a:tcPr>
                </a:tc>
              </a:tr>
              <a:tr h="5176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Effective Date/Priority</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October 12, 2016</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r>
              <a:tr h="7318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ERCOT Impact</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f5f4"/>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No budgetary impact; no impacts to ERCOT staffing; no impacts to ERCOT computer systems; ERCOT business processes will be updated; no impacts to ERCOT grid operations and practices.</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f5f4"/>
                    </a:solidFill>
                  </a:tcPr>
                </a:tc>
              </a:tr>
              <a:tr h="1162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Business Case Highlights</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This NPRR ensures that the capital value provided by ERCOT as part of an RMR Agreement accrues to the market.  This NPRR is intended to minimize undue subsidization of potentially uneconomic Generation Resources that have been contracted under RMR Agreements.</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379080" y="179280"/>
            <a:ext cx="84582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Appendix</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379080" y="125280"/>
            <a:ext cx="84582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000000"/>
                </a:solidFill>
                <a:latin typeface="Arial"/>
              </a:rPr>
              <a:t>NPRR769, Alignment with VCMRR013, Clarifications to Verifiable Cost Appeals Process [ERCOT]</a:t>
            </a:r>
            <a:endParaRPr b="0" lang="en-US" sz="1800" spc="-1" strike="noStrike">
              <a:solidFill>
                <a:srgbClr val="000000"/>
              </a:solidFill>
              <a:latin typeface="Arial"/>
            </a:endParaRPr>
          </a:p>
        </p:txBody>
      </p:sp>
      <p:sp>
        <p:nvSpPr>
          <p:cNvPr id="191" name="Rectangle 2"/>
          <p:cNvSpPr/>
          <p:nvPr/>
        </p:nvSpPr>
        <p:spPr>
          <a:xfrm>
            <a:off x="487440" y="879480"/>
            <a:ext cx="815796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roposed Effective Date:  </a:t>
            </a:r>
            <a:r>
              <a:rPr b="0" lang="en-US" sz="1800" spc="-1" strike="noStrike">
                <a:solidFill>
                  <a:srgbClr val="000000"/>
                </a:solidFill>
                <a:latin typeface="Arial"/>
              </a:rPr>
              <a:t>Upon system implementation of Verifiable Cost Manual Revision Request (VCMRR) 013, Clarifications to Verifiable Cost Appeals Process</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ERCOT Impact Analysis:  </a:t>
            </a:r>
            <a:r>
              <a:rPr b="0" lang="en-US" sz="1800" spc="-1" strike="noStrike">
                <a:solidFill>
                  <a:srgbClr val="000000"/>
                </a:solidFill>
                <a:latin typeface="Arial"/>
              </a:rPr>
              <a:t>No budgetary impact; no impacts to ERCOT staffing; no impacts to ERCOT computer systems; no impacts to ERCOT business functions; no impacts to ERCOT grid operations and practices.</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Revision Description:  </a:t>
            </a:r>
            <a:r>
              <a:rPr b="0" lang="en-US" sz="1800" spc="-1" strike="noStrike">
                <a:solidFill>
                  <a:srgbClr val="000000"/>
                </a:solidFill>
                <a:latin typeface="Arial"/>
              </a:rPr>
              <a:t>This NPRR clarifies Alternative Dispute Resolution (ADR) language to clarify the use of the ADR process subsequent to an appeal of ERCOT denial of verifiable costs in accordance with Verifiable Cost Manual Section 12, Appealing Rejected Verifiable Costs.  In addition, revisions are proposed to Section 1, Overview, to clarify the confidentiality of data submitted in connection with a verifiable cost appeal. </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RS Decision:  </a:t>
            </a:r>
            <a:r>
              <a:rPr b="0" lang="en-US" sz="1800" spc="-1" strike="noStrike">
                <a:solidFill>
                  <a:srgbClr val="000000"/>
                </a:solidFill>
                <a:latin typeface="Arial"/>
              </a:rPr>
              <a:t>On 8/11/16, PRS unanimously voted to recommend approval of NPRR769 as amended by the 6/7/16 Luminant comments.  On 9/15/16, PRS unanimously voted to endorse and forward to TAC the 8/11/16 PRS Report as amended by the 9/6/16 Luminant comments as revised by PRS and the Impact Analysis for NPRR76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2T23:12:02Z</dcterms:created>
  <dc:creator>Diana</dc:creator>
  <dc:description/>
  <dc:language>en-US</dc:language>
  <cp:lastModifiedBy>ERCOT 09XX16</cp:lastModifiedBy>
  <cp:lastPrinted>2013-01-30T23:16:36Z</cp:lastPrinted>
  <dcterms:modified xsi:type="dcterms:W3CDTF">2016-09-19T19:30:40Z</dcterms:modified>
  <cp:revision>322</cp:revision>
  <dc:subject/>
  <dc:title>FileNewTemplat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0EB6C32BA7893B4D8D08DA703C6B8599</vt:lpwstr>
  </property>
  <property fmtid="{D5CDD505-2E9C-101B-9397-08002B2CF9AE}" pid="3" name="Information Classification">
    <vt:lpwstr/>
  </property>
</Properties>
</file>