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BCE6C-0E63-48FA-83CC-8AA696A20E7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ADEE71-75D4-4E03-B92F-63FE17690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06BA8-1753-491D-AC94-BCAD60542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BC6D5-2B20-44C3-A509-3BB268495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834A5-115A-4AA0-BA46-B3E08E40C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953AA-3421-487E-949C-34F461BC0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3FFFD-C48B-4598-91B8-CF9F8A0DB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9B856-AB90-47A3-B052-BB433E6A0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CAE40-2FC7-40DA-81D5-FCD6B8CEC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51DFF-DD79-468A-AA4D-CF0C45882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51AB0-C127-4E75-B776-A8FACFF26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49483-ECEF-49F7-B01C-9A7371103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B97D7-144C-425A-859C-04C15FA31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FDC33-0572-4EF4-B58A-BCE1202E9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4E084-05BC-4DDE-B307-D0787BD74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A58FA-77E1-411B-89BB-DD1720322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5514F-6C25-4B30-9626-3307178D32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D7308-27A2-45DB-A088-5D9383F17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0AEDE-B529-4E5D-A75E-6E141A57F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6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ptember 29,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75, Enhanced Implementation of Limits for Fast Responding Regulation Service [ERCOT]</a:t>
            </a:r>
            <a:endParaRPr b="0" lang="en-US" sz="1800" spc="-1" strike="noStrike">
              <a:solidFill>
                <a:srgbClr val="000000"/>
              </a:solidFill>
              <a:latin typeface="Arial"/>
            </a:endParaRPr>
          </a:p>
        </p:txBody>
      </p:sp>
      <p:sp>
        <p:nvSpPr>
          <p:cNvPr id="193" name="Rectangle 2"/>
          <p:cNvSpPr/>
          <p:nvPr/>
        </p:nvSpPr>
        <p:spPr>
          <a:xfrm>
            <a:off x="487440" y="879480"/>
            <a:ext cx="8157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83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30k and $40k; no impacts to ERCOT staffing; impacts to MMS and EI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more thoroughly implements the limits on Fast Responding Regulation Service (FRRS) that can be awarded or provided by restricting self-arrangement from Resources providing FRRS as well as providing rules concerning Real-Time schedul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8/11/16, PRS voted to recommend approval of NPRR775 as submitted.  There was one abstention from the Independent Retail Electric Provider (IREP) Market Segment.  On 9/15/16, PRS unanimously voted to endorse and forward to TAC the 8/11/16 PRS Report and Impact Analysis for NPRR775 with a recommended priority of 2017 and rank of 18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89, Publish All Mid-Term Load Forecast Results [ERCOT]</a:t>
            </a:r>
            <a:endParaRPr b="0" lang="en-US" sz="1800" spc="-1" strike="noStrike">
              <a:solidFill>
                <a:srgbClr val="000000"/>
              </a:solidFill>
              <a:latin typeface="Arial"/>
            </a:endParaRPr>
          </a:p>
        </p:txBody>
      </p:sp>
      <p:sp>
        <p:nvSpPr>
          <p:cNvPr id="195"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84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30k and $40k; no impacts to ERCOT staffing; impacts to Energy Management System (EMS), Market Information System (MIS), Current Day Reports (CDR), and ERCOT.com;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publishes the results of all of ERCOT’s Mid-Term Load Forecasts (MTLFs), as well as indicating which forecast is currently in use by ERCOT Opera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8/11/16, PRS unanimously voted to recommend approval of NPRR789 as amended by the 7/26/16 ERCOT comments.  On 9/15/16, PRS unanimously voted to endorse and forward to TAC the 8/11/16 PRS Report and Impact Analysis for NPRR789 with a recommended priority of 2017 and rank of 18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69, Alignment with VCMRR013, Clarifications to Verifiable Cost Appeals Proces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75, Enhanced Implementation of Limits for Fast Responding Regulation Servic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89, Publish All Mid-Term Load Forecast Result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16040"/>
            <a:ext cx="849312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55, Data Agent-Only QSE Registra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88, RMR Study Modifications –  URGEN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ther Urgent RMR Revision Requests – Unopposed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93, Clarifications to RMR RUC Commitment and Other RMR Cleanup* – URGENT </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95, Provisions for Refunds of Capital Contributions Made in Connection with an RMR Agreement* – URGENT</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55, Data Agent-Only QSE Registration</a:t>
            </a:r>
            <a:endParaRPr b="0" lang="en-US" sz="2000" spc="-1" strike="noStrike">
              <a:solidFill>
                <a:srgbClr val="000000"/>
              </a:solidFill>
              <a:latin typeface="Arial"/>
            </a:endParaRPr>
          </a:p>
        </p:txBody>
      </p:sp>
      <p:graphicFrame>
        <p:nvGraphicFramePr>
          <p:cNvPr id="179" name=""/>
          <p:cNvGraphicFramePr/>
          <p:nvPr/>
        </p:nvGraphicFramePr>
        <p:xfrm>
          <a:off x="285840" y="669960"/>
          <a:ext cx="8585280" cy="6005520"/>
        </p:xfrm>
        <a:graphic>
          <a:graphicData uri="http://schemas.openxmlformats.org/drawingml/2006/table">
            <a:tbl>
              <a:tblPr/>
              <a:tblGrid>
                <a:gridCol w="1245960"/>
                <a:gridCol w="7339320"/>
              </a:tblGrid>
              <a:tr h="944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allows an Entity to register as a Data Agent-Only Qualified Scheduling Entity (QSE) for the purpose of connecting to the ERCOT Wide Area Network (WAN) as an agent for another QSE, without meeting collateral and capitalization requirements otherwise applicable to a QS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798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4/14/16, PRS voted to recommend approval of NPRR755 as amended by the 3/14/16 ERCOT comments.  There was one opposing vote from the Independent Generator Market Segment and two abstentions from the Investor Owned Utility (IOU) and Independent Power Marketer (IPM) Market Segments.  On 9/15/16, PRS voted to endorse and forward to TAC the 5/12/16 PRS Report as amended by the 5/10/16 ERCOT comments and the Impact Analysis for NPRR755 with a recommended priority of 2016 and rank of 1559.  There was one opposing vote from the Independent Generator Market Segment and one abstention from the IPM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6; Rank 1559</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944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60k and $90k; no impacts to ERCOT staffing; impacts to Credit Monitoring and Management (CMM), Registration System (REG), Enterprise Integration (EI), Market Management System (MMS), Enterprise Information Services (EIS); ERCOT business processes will be updated; no impacts to ERCOT grid operations and practic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798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together with NOGRR154) provides clarity of compliance requirements for resource-specific data exchange on the WAN as well as providing an additional registration option for currently registered and future Entities that provide QSE services limited only to QSE data exchange for operations involving dispatchable Resources, not the principle to market/financial settlements.  These changes and greater flexibility for QSE services contemplated under this NPRR may potentially provide for cost savings regarding WAN connection obligations and/or eliminate a barrier to entry for data service providers and smaller Market Participan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88, RMR Study Modifications –  URGENT</a:t>
            </a:r>
            <a:endParaRPr b="0" lang="en-US" sz="2000" spc="-1" strike="noStrike">
              <a:solidFill>
                <a:srgbClr val="000000"/>
              </a:solidFill>
              <a:latin typeface="Arial"/>
            </a:endParaRPr>
          </a:p>
        </p:txBody>
      </p:sp>
      <p:graphicFrame>
        <p:nvGraphicFramePr>
          <p:cNvPr id="182" name=""/>
          <p:cNvGraphicFramePr/>
          <p:nvPr/>
        </p:nvGraphicFramePr>
        <p:xfrm>
          <a:off x="285840" y="669960"/>
          <a:ext cx="8585280" cy="4727520"/>
        </p:xfrm>
        <a:graphic>
          <a:graphicData uri="http://schemas.openxmlformats.org/drawingml/2006/table">
            <a:tbl>
              <a:tblPr/>
              <a:tblGrid>
                <a:gridCol w="1245960"/>
                <a:gridCol w="7339320"/>
              </a:tblGrid>
              <a:tr h="944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CRA)</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modifies the requirement for Reliability Must-Run (RMR) studies to use processes consistent with ERCOT planning studies.  In addition, this NPRR introduces a new requirement that a potential RMR Unit must have a meaningful impact on the expected transmission overload to be considered for an RMR Agree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858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8/11/16, PRS voted to grant NPRR788 Urgent status.  There was one opposing vote from the Municipal Market Segment.  PRS then unanimously voted to table NPRR788 and refer the issue to ROS and WMS.  On 9/15/16, PRS voted via roll call vote to recommend approval of NPRR788 as amended by the 9/14/16 Luminant comments as revised by PRS; and to forward to TAC.  There were five opposing votes from the Consumer, Independent Generator, and IOU (3) Market Segments and one abstention from the IOU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o be determin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o be determin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1602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e current Protocol language requires use of a Load forecast which is inconsistent with ERCOT planning studies.  Additionally, this NPRR limits entry into RMR Agreements for Resources that have a low impact on identified reliability deficiencies, a feature missing from current Protocol language, but important when considering the benefits of entering an RMR Agree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93, Clarifications to RMR RUC Commitment and Other RMR Cleanups – URGENT</a:t>
            </a:r>
            <a:endParaRPr b="0" lang="en-US" sz="2000" spc="-1" strike="noStrike">
              <a:solidFill>
                <a:srgbClr val="000000"/>
              </a:solidFill>
              <a:latin typeface="Arial"/>
            </a:endParaRPr>
          </a:p>
        </p:txBody>
      </p:sp>
      <p:graphicFrame>
        <p:nvGraphicFramePr>
          <p:cNvPr id="185" name=""/>
          <p:cNvGraphicFramePr/>
          <p:nvPr/>
        </p:nvGraphicFramePr>
        <p:xfrm>
          <a:off x="285840" y="669960"/>
          <a:ext cx="8585280" cy="4506840"/>
        </p:xfrm>
        <a:graphic>
          <a:graphicData uri="http://schemas.openxmlformats.org/drawingml/2006/table">
            <a:tbl>
              <a:tblPr/>
              <a:tblGrid>
                <a:gridCol w="1245960"/>
                <a:gridCol w="7339320"/>
              </a:tblGrid>
              <a:tr h="1284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provides clarification and alignment with current operational and financial practices as well as NPRR442, Energy Offer Curve Requirement for Generation Resources Providing Reliability Must-Run Service.  This NPRR also provides a means of operating an RMR Resource to ensure the RMR Resource is not unintentionally Reliability Unit Commitment (RUC)-committed before other Resourc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811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9/15/16, PRS unanimously voted to grant NPRR793 urgent status.  PRS then unanimously voted to recommend approval of NPRR793 as amended by the 8/25/16 ERCOT comments; and to forward the Impact Analysis to TA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vember 1, 2016</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31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 budgetary impact; no impacts to ERCOT staffing; no impacts to ERCOT computer systems; ERCOT business processes will be updated; ERCOT grid operations and practices will be updat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161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provides clarification and alignment with current operational and financial practices as well as NPRR442.  This NPRR also provides a means of operating an RMR Resource to ensure the RMR Resource is not unintentionally RUC-committed before other Resourc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95, Provisions for Refunds of Capital Contributions Made in Connection with an RMR Agreement – URGENT</a:t>
            </a:r>
            <a:endParaRPr b="0" lang="en-US" sz="2000" spc="-1" strike="noStrike">
              <a:solidFill>
                <a:srgbClr val="000000"/>
              </a:solidFill>
              <a:latin typeface="Arial"/>
            </a:endParaRPr>
          </a:p>
        </p:txBody>
      </p:sp>
      <p:graphicFrame>
        <p:nvGraphicFramePr>
          <p:cNvPr id="188" name=""/>
          <p:cNvGraphicFramePr/>
          <p:nvPr/>
        </p:nvGraphicFramePr>
        <p:xfrm>
          <a:off x="285840" y="669960"/>
          <a:ext cx="8585280" cy="4233960"/>
        </p:xfrm>
        <a:graphic>
          <a:graphicData uri="http://schemas.openxmlformats.org/drawingml/2006/table">
            <a:tbl>
              <a:tblPr/>
              <a:tblGrid>
                <a:gridCol w="1245960"/>
                <a:gridCol w="7339320"/>
              </a:tblGrid>
              <a:tr h="819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creates a mechanism by which capital expenditures funded by ERCOT under an RMR Agreement may be refunded subsequent to the termination of the RMR Agree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003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8/11/16, PRS unanimously voted to grant NPRR795 Urgent status.  On 9/15/16, PRS unanimously voted to recommend approval of NPRR795 as amended by the 9/12/16 Reliant comments with a recommended effective date of October 12, 2016; and to forward the Impact Analysis to TA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ctober 12, 2016</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31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 budgetary impact; no impacts to ERCOT staffing; no impacts to ERCOT computer systems; ERCOT business processes will be updated; no impacts to ERCOT grid operations and practic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162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ensures that the capital value provided by ERCOT as part of an RMR Agreement accrues to the market.  This NPRR is intended to minimize undue subsidization of potentially uneconomic Generation Resources that have been contracted under RMR Agreemen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69, Alignment with VCMRR013, Clarifications to Verifiable Cost Appeals Process [ERCOT]</a:t>
            </a:r>
            <a:endParaRPr b="0" lang="en-US" sz="1800" spc="-1" strike="noStrike">
              <a:solidFill>
                <a:srgbClr val="000000"/>
              </a:solidFill>
              <a:latin typeface="Arial"/>
            </a:endParaRPr>
          </a:p>
        </p:txBody>
      </p:sp>
      <p:sp>
        <p:nvSpPr>
          <p:cNvPr id="191" name="Rectangle 2"/>
          <p:cNvSpPr/>
          <p:nvPr/>
        </p:nvSpPr>
        <p:spPr>
          <a:xfrm>
            <a:off x="487440" y="879480"/>
            <a:ext cx="81579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of Verifiable Cost Manual Revision Request (VCMRR) 013, Clarifications to Verifiable Cost Appeals Proces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Alternative Dispute Resolution (ADR) language to clarify the use of the ADR process subsequent to an appeal of ERCOT denial of verifiable costs in accordance with Verifiable Cost Manual Section 12, Appealing Rejected Verifiable Costs.  In addition, revisions are proposed to Section 1, Overview, to clarify the confidentiality of data submitted in connection with a verifiable cost appeal.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8/11/16, PRS unanimously voted to recommend approval of NPRR769 as amended by the 6/7/16 Luminant comments.  On 9/15/16, PRS unanimously voted to endorse and forward to TAC the 8/11/16 PRS Report as amended by the 9/6/16 Luminant comments as revised by PRS and the Impact Analysis for NPRR7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ERCOT 09XX16</cp:lastModifiedBy>
  <cp:lastPrinted>2013-01-30T23:16:36Z</cp:lastPrinted>
  <dcterms:modified xsi:type="dcterms:W3CDTF">2016-09-19T19:30:40Z</dcterms:modified>
  <cp:revision>322</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