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117-BDB7-474B-900A-F8538F2C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124-554B-493E-B5E4-5852C7F2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4BD-3159-480E-8F75-0E6A6882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125-32FD-4E1F-A0CA-CF66A36CB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641F-193D-43C5-8EC4-8BB9CC33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6E57-248B-4C98-9DF3-C0CF3C07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C09D9-A5A0-48F4-B4D3-E4A6865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5E814-BBAE-4F46-8E76-55AEB38E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22931-50D8-4BB7-BEFB-7274BC8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07830-9C6E-444F-9022-7D00F18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97D21-506A-4884-AF3E-F3F37BD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C0A6B-54A9-4D80-9B2A-8973271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DCB792-CF84-452C-B066-CA7E49F0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0F346-A9E8-45D5-9ED8-7DB043C8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5416B-904C-4E3A-9D44-53662621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490E-9778-4556-BB13-726C08E8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83C5-D76F-416D-A6A1-182D6A8A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A22-DCB3-4B6A-B374-F74C1E89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6AA3-843D-4AA7-8B09-8AA8B82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B533-C31C-4FDC-83C3-A7251502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8B5-B40D-4116-A010-F46B313A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3CF3-8E82-46BA-BC1A-842A0F6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B15-5766-41E5-B1C9-772890C9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786C-E75A-43A7-81E5-BB846AB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CDB9-BCDE-4BC1-8466-DAE96C5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63F-5051-4BA3-8651-85C4561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A3E-EE59-43ED-9796-9233A5C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F678-8BCE-40C5-8BC1-98C23426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B1F-5632-4BE9-A8FF-63A0FF5B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51FD-7889-4964-B71D-8993017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7B5D-E76C-439A-8187-DE815907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9323D-21EC-4D91-8E39-86BC485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C3BAD-D32E-43A3-BE4E-D24ACCA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63892-0526-4BC6-BF2C-30061FB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07CD-51F1-43A1-B4F4-9DFA130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BC0F2-DCCA-4DCD-B636-925E12A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57567-349C-4466-8F26-CBA3F1E8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F7E54-4084-4BA9-A346-FA02F07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1B863-CF8B-4A0E-A559-0DC2D55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3DD6B-CAE3-4800-85DB-C9E47D2A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F31B8-5463-464C-A8BB-ADF4BFD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41042-AC96-4491-B742-D6AB130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86741-7749-4C6F-9B89-D813E75E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5456C-FFC6-45EC-BBB6-B013D731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E32C5-32D4-475D-8389-E8DF5DD2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90F5-1A24-4F5E-BE0C-E9740661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2E8D2-E6E3-4D45-A5A0-C1BEFC6D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21887-1E21-476D-AD74-B6308256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1380F-636F-4358-8565-747D5A1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BA414-9082-482A-8F19-504CF1AA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3E47D-AA26-4F91-9592-3DA0DF5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04F7F-E6C4-45A8-A5EC-90558F0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9D441-B621-48A3-B523-7EE66D6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E6560-039E-4844-9AA3-6A62BA2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34DA8-A265-4288-AB0C-59D71C5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3FEA8-7B02-4C9E-A752-4359D294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39F0-00BE-4BEE-A881-74E566D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ECC30-88B5-47F1-B3E7-A23997C0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3F5DB-FCB9-4136-A43E-FBC8228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8AC3C-9922-4974-B422-7C738B32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8C5BE-45CA-4A23-AA64-EC9D30A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594A5-3C37-47B3-A325-B7D066B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7690E-FF03-4176-BF60-94B2D426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22442-241B-4E98-8BC1-B6661B55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46D10-CCB7-4B23-BE1D-A2A7399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9FD6D-6A43-4A06-A93B-D55AFBB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2B56F-5F4F-4663-9824-B636B6E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0641-960E-4307-A5BA-457470E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A7400-F65F-4C52-A610-B2204B0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6C18B-1BEC-4C2D-BA91-55855C90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085EB-CE9D-42CA-8349-A882E28B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0215B-6A38-4C93-84EF-F7B763C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CA992-A5EE-462A-8047-0D0E2F6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66AD3-DBB0-4E45-A0FE-CD25AD41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7A68B-A93E-4511-877A-3E44A49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34939-8005-4AAF-BAFA-96F4FFF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9D697-78DC-4D0A-A4CB-F2C912DB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194F7-B9A3-4071-B993-306FA7F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0317-022F-4758-8430-10734E0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6D343-9520-4988-912A-2C18FBA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B6EEA-C729-4E78-9175-FFC897C2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ED265-A435-4868-AA50-E8BD6DEE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C47B1-1233-4CA0-B3AB-085474CB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4E444-0F01-4E5E-89F9-41F70211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01BFF-7FD6-4C46-8366-8E39F6A6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DE670E-6557-42EC-BDB2-164634C5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2E035D-BF39-4C4A-8B35-2DBEF7E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B67AD-961F-426D-B3A4-9CCF0EAA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EB06A-D154-44E1-AC94-CCF3E92C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0B19-EAD7-45F1-8CAC-706D025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D800C-9D8D-4B60-873A-5695FAD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D1303-EECC-4CE9-A3A3-E94E386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CEC53-2D03-46D0-A64E-C016C71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D8878-ECAF-4C9B-A755-79E7C28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C47483-FAC1-4FC7-A166-A4C731F5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79913-0AEF-4048-8D16-0F18F8E3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651F3-E521-4D6F-8287-5D2A1D8D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BF3AF-2572-4083-A08F-F079AAFC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FE11E-7A8A-4716-B08D-3F164FE6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A015FF-DEEC-4585-BED3-F381783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9D9-A886-4AC6-9882-B90FD5F6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054-EC32-468C-A764-8C430B2B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6B0-554E-4471-B1C5-1503E8C0DC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162-63BB-4405-BA78-4860B8B5C5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CC3D-BA8B-432C-B9AB-97C6F65C3A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1A5-F737-4962-81BA-54DCE4CD09C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927-DC65-49F8-BD34-85D789BBD2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C49-8F97-42D6-8323-5B315D2A37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9AA-CB14-47EC-A34C-97E6C09400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6845/05._PRS_Report.zip" TargetMode="External"/><Relationship Id="rId2" Type="http://schemas.openxmlformats.org/officeDocument/2006/relationships/hyperlink" Target="http://ercot.com/content/wcm/key_documents_lists/76845/05._PRS_Report.zip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6845/05._PRS_Report.zip" TargetMode="External"/><Relationship Id="rId2" Type="http://schemas.openxmlformats.org/officeDocument/2006/relationships/hyperlink" Target="http://ercot.com/content/wcm/key_documents_lists/76845/05._PRS_Report.zip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6845/06._Tabled_RRs.zip" TargetMode="External"/><Relationship Id="rId2" Type="http://schemas.openxmlformats.org/officeDocument/2006/relationships/hyperlink" Target="http://ercot.com/content/wcm/key_documents_lists/76845/06._Tabled_RRs.zip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August 25, 2016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Technical Advisory Committee (TAC) Update to RM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F36-76FE-4BFB-8450-E5725B8CA2C9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. Election of New TAC Leadership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990360"/>
            <a:ext cx="770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C Leadership Vot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 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ainder of 2016 TAC Chair and Vice Chair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drianne Brandt (CPS Energy)-   Chair 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b Helton  (GDF Suez)           -   Vice Chair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C gave their “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anks”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Randa Stephenson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her years of dedication and leadership that she provided to TAC and the ERCOT Market!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3DB-ACBE-4C7D-AF1D-91E5B2B1D1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C:\Users\00015621\AppData\Local\Microsoft\Windows\Temporary Internet Files\Content.IE5\M2YDF2H6\thank_you[1].gif"/>
          <p:cNvPicPr/>
          <p:nvPr/>
        </p:nvPicPr>
        <p:blipFill>
          <a:blip r:embed="rId1"/>
          <a:stretch/>
        </p:blipFill>
        <p:spPr>
          <a:xfrm>
            <a:off x="6477120" y="4834080"/>
            <a:ext cx="21571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5. 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odal Protocol Revision Requests (NPR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6845/05._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PRS_Report.zi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5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llow AMS Data Submittal Process for TDSP-Read Non-Modeled Generators –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6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alculation of Exposure Variables For Days With No Activity 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with 2 No Votes and 2 Absten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7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Broadening Scope of Acceptable Letter of Credit Issuers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“Table “NPRR773 was Unanim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7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Modifications to Date Change and Cancellation Evaluation Window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FF6F-F11D-4AB1-8514-00CDCC38529D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5. 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odal Protocol Revision Requests (NPR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6845/05._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PRS_Report.zi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8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Settlement of Infeasible Ancillary Services Due to Transmission Constraints–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8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Synchronizing WGR and PVGR COPs with the Short Term Wind and PhotoVoltaic Forecasts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“Approve” NPRR785 with Luminant comments was Unanimous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8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onsumption Data Adjustments for Negative Load–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8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Removal of Recipient Name Requirement for VDI Confirmations-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9F5E-92C3-4297-99BA-8B8B802F758B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6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. 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vision Request Previously Tabled by TA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vision Request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6845/06._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Tabled_RRs.zi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GRR150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Alignment with NPRR747, Revision of Voltage Control Requirements - </a:t>
            </a: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PRR779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Clarifies References to Texas Reliability Entity and Independent Market Monitor - </a:t>
            </a: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PRR781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Updates to Nodal Protocol Section 18, Load Profiling, to Align with Current Market Processes - </a:t>
            </a: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Will Continue to stay Tabled at TAC awaiting LPGRR05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988-8153-4321-9A17-C86E33BD88A8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ercot.com/content/wcm/key_documents_lists/76845/07._ROS_Report.zip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GRR158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lignment with Protocol Limits on RRS Provided by Hydro Resource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GRR15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lignment with NPRR779, Clarifies References to Texas Reliability Entity and Independent Market Monitor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Motion to ‘Table’ was  Unanimous awaiting Board’s approval of NPRR77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GRR04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FIS Department of Defense Declaration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GRR048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lignment with NPRR779, Clarifies References to Texas Reliability Entity and Independent Market Monitor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Motion to “Approve “ with  “IMM” desktop edits was Unanimous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GRR04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GINR Application and Fee Submittal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874-CDB9-48AE-9304-54FFF69FF1CB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7.   RO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holesale Market Subcommittee (WMS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ercot.com/content/wcm/key_documents_lists/76845/08._WMS_Report.zi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CMRR0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larifications to Verifiable Cost Appeals Proces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“Table” was Unanimous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waiting the Board’s approval of  NPRR769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mmercial Operations Subcommittee (COPS) Update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ercot.com/content/wcm/key_documents_lists/76845/09._COPS_UPDATE_TO_TAC_082516.ppt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945-E922-4BF4-ACA2-DD7678D8EB8B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8 &amp; 9. WMS and COPS Upda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1"/>
          <p:cNvGraphicFramePr/>
          <p:nvPr/>
        </p:nvGraphicFramePr>
        <p:xfrm>
          <a:off x="4267080" y="472428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724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91440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96920" indent="-152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Market Subcommittee (RMS) Updat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ercot.com/content/wcm/key_documents_lists/76845/10._RMS_Report.zip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MGRR13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llow AMS Data Submittal Process for TDSP-Read Non-Modeled Generators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MGRR139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lignment with NPRR778, Modifications to Date Change and Cancellation Evaluation Window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Motion to “Table” was Unanimous awaiting Board’s approval of NPRR77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MGRR14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Efficiencies for Acquisition Transfer Process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MGRR14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larifying Procedures for Market Participants During an Extended Unplanned System Outage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 effective 9/6/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-152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592200" indent="-9324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-12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478080" indent="-1231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148-893C-40FD-8EB5-D706C3169920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itle 1"/>
          <p:cNvSpPr/>
          <p:nvPr/>
        </p:nvSpPr>
        <p:spPr>
          <a:xfrm>
            <a:off x="1143000" y="-2570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  <a:ea typeface="Arial"/>
              </a:rPr>
              <a:t>10.   RMS Initiatives and Updat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C55-2F47-4625-9E82-41DB90234340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September 1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Content Placeholder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705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9-07T03:40:15Z</dcterms:modified>
  <cp:revision>1184</cp:revision>
  <dc:subject/>
  <dc:title>Instructions</dc:title>
</cp:coreProperties>
</file>