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C093F-0020-4C19-B358-EB257FA11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97FF9-C354-45EE-AEB5-1AF74DBC0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2DEF1-2291-442E-B942-4698457AD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0FA6B-96DF-4D1E-83A2-2367394FA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D3EE7-76EE-4D4B-9B0E-F3CA03686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8E4B5-7D64-4C13-961D-4EF5BE83A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F18-B728-4AE4-8ED2-A7BC0D4B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7FB-8223-4DF9-8194-D57DAFD8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8BEA1D-28F3-441C-9C60-6FDD4C68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F51175-F1B4-48AB-A68D-58A4B0B2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A11806-0AFC-4979-86ED-EE22F70D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ADE8E-60CC-4478-9395-8007BAF4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113CFA-7C05-4D55-B861-FD2955D8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B2D13-4525-4F63-91D5-FA599499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209F5-A605-486B-AC92-388B5494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EECFC8-81F5-40F5-A9C3-3F5A496C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F371B7-DBD4-4A46-AB87-F9B71E66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22DD80-162E-457B-A648-6BA010F8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C6E-56D3-4426-A7C7-E6EA91F8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4733E-4212-4D7F-908A-01A56EF0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478B1-D584-45A8-BA68-11419FF7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178F5C-DD02-4563-8983-533023A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10F96-2B25-4160-9A36-89979644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F39130-F54E-462A-BBD4-CF88F618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B742F7-A120-49BD-8080-DF1301A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500719-73B6-4614-BAD0-717A9AC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356D9-CEDA-425F-88CE-AA3B808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7BD43-5C59-4648-9430-8466870B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56DA92-6F42-40CA-B8CC-55CE0AF3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743-B7AB-4D6B-B1F4-BF93140F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FCABAC-C0DA-44C3-9F51-F971BF23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70EA-F362-472C-90D3-9B01454D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6C5C-7FF1-4B9E-8F57-FFB6E741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E7F4-7152-4ACE-95CC-343C627C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52DA-0ED5-499A-A50C-53510F48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81DD-609A-47E3-B65B-734E4F1B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F55F-1D69-4D68-9967-6810E6E9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57CB-6A07-4808-BF12-DB7BEFD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6AB-E71E-4ABE-8FDC-CAC982A1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E145-DADF-4AE5-917A-28EB843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72F5-E715-437E-8AFD-99788452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A2BF-85B1-4DEA-B7C5-09A882FA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9AAB-B729-4F03-A09A-4D57CBE8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8F88-F426-42E3-BEF2-F191CD6E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F4C-FC24-4577-8DE5-F5825F6B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76F-D348-4478-BBA6-78480973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ED5DF-96A6-4F09-AD88-DA31B1DB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B73-6765-4793-8837-291AB37F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9E0C3-BCAE-4C4F-BFC8-2137D13D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5E63A-385C-4FCD-9882-B240D15A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40FBF-F9AC-43E7-BF5F-CF208C49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406A5-FBE9-4CFF-AD02-EF12ABB0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A40B9-9F5C-4ADD-83D0-13428F8B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A71C9-3D7E-426F-A8D7-222CDFE8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71464-F694-4306-8E79-4A9D759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49691-82D9-4235-9EBD-F38E2E4E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43D1B-AED0-468B-B1D7-AE229C2C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523C1-DEF7-44FB-896B-84D49F1F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C0A-8401-4F36-94B2-27CF3645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B952C-550E-4189-9550-0673074A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EE935-D79C-4772-BD8C-7A56ACB9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FF7EA-EED6-4644-984D-F2E15723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C014B-C95F-470D-88AA-C0EFCF46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D4AEF-682D-4769-8D23-6A95966D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A45A2-AE05-4196-A985-6FB6F9EB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9153D-BB7B-4189-AE47-BC7F8174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5520B-EB86-4E7D-A4E3-C1B69117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3872F-1EF6-41E9-8DD3-0C3C16E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41697-81C8-493F-B0DE-FCA5002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055-A0D9-44DF-8034-DF7E72BD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D2406-2226-4680-A906-8D91D05A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42399-FA71-417E-B5B2-911ED231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83F61-F786-4D0E-8BE0-C1A980D9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3A5FD-A64F-4B5B-99EF-C08B3019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808E0-F45D-4A4A-BE1E-92E7F8C8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E9FD7-F5F9-48AB-88F5-87784D98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90CA3-CD67-4BE0-AEDE-8191F10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FCB9C-048B-4CE6-95F1-7BCCCB0A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92AEA-89ED-491A-B73C-0AA3D271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F9FC2-9BC4-4684-95E0-4386508A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339-857F-47DD-84C6-6D4CFF6F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9432A-970E-4062-A7A0-F7F1844D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CAD27-B3C3-400B-B326-2433BE5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139DC-1221-4E1E-9038-1F9CD5DF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2C484-A3B1-4F79-BD0E-FD5D3463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C4FD0-3EA3-4817-97BF-E9A76C43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22E9F-4830-444C-8886-4F07C138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8B8F8-B1CF-4A7E-A5F6-3AC81479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0323E-E007-48DA-BB17-F57A284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876BC-7687-491F-8EBE-75050408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4AF3E-F0CB-485F-9ACA-B94C97A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FCD-89A0-42A9-9D84-29E7E32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25566-7057-4DA6-9777-95A4AC2F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A9189-8501-432B-A689-D65DFF6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85E31-94B0-4190-A349-74177AA4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0E6DB-76FA-436C-A161-B49CBEC8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C9876-CE6D-45EA-967A-D9F72C5A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43FF9-2E21-4060-9D6B-894BA1CB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DF340-C25B-464F-9167-C660C42D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8ACBD-5EC5-429A-8E5B-9EC23E9F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0E7DE5-8386-42A6-8456-AA34FB0B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1535E4-303C-4523-8C13-D7FAF992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56680-CAFC-4042-B15B-18C14CA015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1ECD2-A2D2-4F11-AA6C-D185822FE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D2B6A-0B28-43E3-B46D-F1B102C7433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53800-166C-4168-93B7-D7B4BDDCA4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13BBD-38B7-4E14-8704-23156B72310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86C63-F582-4C28-9B0C-E6BDAAFBA3E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39818-2CA4-4E27-A933-534EB468D27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20BDD-4632-469A-B211-2C778A55FF8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44536-46D3-492A-B632-282E0D9C8D6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E31A2-511A-46AC-BCC3-BDA8DC35BE7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32596-6443-47E2-B065-C193860DAB9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277A4-44F3-4295-8AC3-54E52DDC12A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F2818-DB7E-4D5C-8B04-2E09B5C540E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5583F-E80A-4839-A5FC-89DF69A6F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235B9-076A-41BD-BAF0-45317AE2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5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C6154-7F9C-4DB4-BC29-9750B13784C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A78C8-B92B-4DDB-9AB8-2A4888B6DB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DEF78-EDBF-4F37-BE2A-5AB4C104511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FB34F-704F-48A4-9A1A-2B7117F515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CB101-C7D1-44EE-A4C1-DCE0D4E15D6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29B3D-DDF6-4E59-A2FB-21C1FE89C6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48397-F524-4364-A0A0-402CCE75842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0E512-1064-4808-920E-E5D042580426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8D6D2-452E-4188-BA81-1CD559BCEA1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DECFD-296C-4977-8033-DA67D2735E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vid K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ugust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ptember 7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69 – Alignment with VCMRR013, Clarifications to Verifiable Cost Appeals Proces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with 6/7/16 Luminant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2 – Clarification of Process for Transmission Outages Related to a Service Disconnection Request for a Generation Resourc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as submit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5 – Enhanced Implementation of Limits for Fast Responding Regulation Servic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as submit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7 – ERCOT-directed Dispatch of Price-Responsive Distributed Generation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mains tabl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the concept of “load zone payment for DR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VCMRR013 - Clarifications to Verifiable Cost Appeals Proces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proved as amended by 7/22/16 Luminant comments and as revised by WMS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040"/>
                </a:solidFill>
                <a:uFillTx/>
                <a:latin typeface="Calibri"/>
              </a:rPr>
              <a:t>Looking to table VCMRR013 until NPRR769 is approved by the Boar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RMR NPRR Language Review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5 – Provisions for Refunds of Capital Contributions Made in Connection with an RMR Agre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3 - Clarifications to RMR RUC Commitment and Other RMR Clean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88 - RMR Study Modif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oncept – RMR Pro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RMR – Next Step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ontinue to work on issues in WMS, Working Groups, and other Subcommittees (RO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fternoons of WMS meetings as schedule allow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eeking guidance on any other specific action ite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Other Busines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Joint Market Continuity Workshop (WMS, COPS, RM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ssignments made to various working gro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ext meeting pushed to at least September or Octob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25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Kee, David  E .</cp:lastModifiedBy>
  <cp:lastPrinted>2016-05-25T12:38:50Z</cp:lastPrinted>
  <dcterms:modified xsi:type="dcterms:W3CDTF">2016-08-16T21:01:55Z</dcterms:modified>
  <cp:revision>89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