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EDDB0-D2E3-4422-8208-D28CCCC57E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64587-4B92-44D5-A58D-41530AF16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B9FDE-93EC-49AD-BFAC-9CD8B547F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F850C-EBA0-45C5-9E34-09F58081F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E90E5-BC30-4BCF-B4EC-A0D6B1528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2765F-679C-4849-A169-920403F9F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4CB0A-EF83-4DDE-9888-B142D8CC2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03A1D-041D-481D-97CC-8E1332C92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DEA6-1665-4D06-9BD5-FC67B432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308CB-8FCA-4283-8F7B-293195B2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7DF6B-5CC2-4860-A0FC-BA3984B90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CB4A-B9D4-4630-BB6D-0358C398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7BC8B-C4E6-461F-AB29-746A47D5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3C9A8-1C01-4B3D-8CB5-7BF64CC2E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447CA-C26A-4C9D-84DE-194661693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30DA-ED61-415D-9D22-66AFE6FC1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CC46B-5973-444E-A188-C2B85896A7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10A4D-6E37-4717-ADEE-B2DE47587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BC552-B607-4988-A56C-E99A7478A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5: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5,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5, Synchronizing WGR and PVGR COPs with the Short Term Wind and PhotoVoltaic Forecasts [ERCOT]</a:t>
            </a:r>
            <a:endParaRPr b="0" lang="en-US" sz="1800" spc="-1" strike="noStrike">
              <a:solidFill>
                <a:srgbClr val="000000"/>
              </a:solidFill>
              <a:latin typeface="Arial"/>
            </a:endParaRPr>
          </a:p>
        </p:txBody>
      </p:sp>
      <p:sp>
        <p:nvSpPr>
          <p:cNvPr id="190"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7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5k and $45k; no impacts to ERCOT staffing; impacts to M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enables ERCOT to automatically prepopulate Current Operating Plans (COPs) for Wind-powered Generation Resources (WGRs) and PhotoVoltaic Generation Resources (PVGRs) with most recent forecast for the next 168 hou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85 as submitted.  On 8/11/16, PRS voted to endorse and forward to TAC the 7/14/16 PRS Report and Impact Analysis for NPRR785 with a recommended priority of 2016 and rank of 1740.  There was one abstention from the IOU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6, Consumption Data Adjustments for Negative Load [ERCOT]</a:t>
            </a:r>
            <a:endParaRPr b="0" lang="en-US" sz="1800" spc="-1" strike="noStrike">
              <a:solidFill>
                <a:srgbClr val="000000"/>
              </a:solidFill>
              <a:latin typeface="Arial"/>
            </a:endParaRPr>
          </a:p>
        </p:txBody>
      </p:sp>
      <p:sp>
        <p:nvSpPr>
          <p:cNvPr id="192"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PRR746, Adjustments Due to Negative 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Less than $10k (O&amp;M); no impacts to ERCOT staffing; impacts to S&amp;B;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orrects the allocation of Transmission Losses, Distribution Losses and Unaccounted for Energy (UFE) so that instances of negative Load do not result in loss or UFE alloca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7/14/16, PRS unanimously voted to recommend approval of NPRR786 as submitted.  On 8/11/16, PRS unanimously voted to endorse and forward to TAC the 7/14/16 PRS Report and Impact Analysis for NPRR7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7, Removal of Recipient Name Requirement for VDI Confirmations [ERCOT]</a:t>
            </a:r>
            <a:endParaRPr b="0" lang="en-US" sz="1800" spc="-1" strike="noStrike">
              <a:solidFill>
                <a:srgbClr val="000000"/>
              </a:solidFill>
              <a:latin typeface="Arial"/>
            </a:endParaRPr>
          </a:p>
        </p:txBody>
      </p:sp>
      <p:sp>
        <p:nvSpPr>
          <p:cNvPr id="194"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Nov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the requirement for the Qualified Scheduling Entity (QSE) recipient of a Verbal Dispatch Instruction (VDI) confirmation to include the name of the individual that received the VDI confirmation within the electronic acknowledg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87 as submitted.  On 8/11/16, PRS unanimously voted to endorse and forward to TAC the 7/14/16 PRS Report and Impact Analysis for NPRR7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3, Allow AMS Data Submittal Process for TDSP-Read Non-Modeled Generato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3, Broadening Scope of Acceptable Letter of Credit Issue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8, Modifications to Date Change and Cancellation Evaluation Window</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2, Settlement of Infeasible Ancillary Services Due to Transmission Constrai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5, Synchronizing WGR and PVGR COPs with the Short Term Wind and PhotoVoltaic Forecas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6, Consumption Data Adjustments for Negative Load</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7, Removal of Recipient Name Requirement for VDI Confirmation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60, Calculation of Exposure Variables For Days With No Activit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38, Revisions to Certain Price Components of EAL</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60, Calculation of Exposure Variables For Days With No Activity</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captures Operating Days with zero activity in the denominator of the RTLE, URTA, and DALE calculations.  Operating Days with zero activity are not currently captured in the above calculations since Real-Time Market (RTM) Initial Statements are not generated for those Operating Day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14/16, PRS voted to recommend approval of NPRR760 as amended by the 5/10/16 DC Energy Comments.  There were two opposing votes from the IOU and Independent Generator Market Segments, and two abstentions from the IOU and Consumer Market Segments.  On 8/11/16, PRS voted to endorse and forward to TAC the 7/14/16 PRS Report and Impact Analysis for NPRR760 with a recommended priority of 2016 and rank of 1558.  There was one opposing vote from the IOU Market Segment, and one abstention from the Consumer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6; Rank 155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30k and $40k; no impacts to ERCOT staffing; impacts to Credit Monitoring and Management (CMM) and Reports; ERCOT business process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helps to rationalize the RTLE, URTA, and DALE credit variables, as today minimal activity approaching zero is accounted for in the exposure variables, but zero activity is no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3, Allow AMS Data Submittal Process for TDSP-Read Non-Modeled Generators [ERCOT]</a:t>
            </a:r>
            <a:endParaRPr b="0" lang="en-US" sz="1800" spc="-1" strike="noStrike">
              <a:solidFill>
                <a:srgbClr val="000000"/>
              </a:solidFill>
              <a:latin typeface="Arial"/>
            </a:endParaRPr>
          </a:p>
        </p:txBody>
      </p:sp>
      <p:sp>
        <p:nvSpPr>
          <p:cNvPr id="182" name="Rectangle 2"/>
          <p:cNvSpPr/>
          <p:nvPr/>
        </p:nvSpPr>
        <p:spPr>
          <a:xfrm>
            <a:off x="487440" y="879480"/>
            <a:ext cx="8157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implementation of Retail Market Guide Revision Request (RMGRR) 134, Allow AMS Data Submittal Process for TDSP-Read Non-Modeled Generator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no additional impacts to implement this NPRR beyond what is captured in the Impact Analysis for RMGRR13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lows the option of using the Advanced Metering System (AMS) data submittal process for all Transmission and/or Distribution Provider (TDSP)-read Non-Modeled Generators; and requires an Interval Data Recorder (IDR) Meter for Block Load Transfer (BLT) metering points registered for Settlements in accordance with Section 6.5.9.5.1, Registration and Posting of BLT Po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5/12/16, PRS voted to recommend approval of NPRR753 as amended by the 2/29/16 ERCOT comments.  There was one abstention from the Investor Owner Utility (IOU) Market Segment.  On 8/11/16, PRS unanimously voted to endorse and forward to TAC the 7/14/16 PRS Report and Impact Analysis for NPRR7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3, Broadening Scope of Acceptable Letter of Credit Issuers [GSEC]</a:t>
            </a:r>
            <a:endParaRPr b="0" lang="en-US" sz="1800" spc="-1" strike="noStrike">
              <a:solidFill>
                <a:srgbClr val="000000"/>
              </a:solidFill>
              <a:latin typeface="Arial"/>
            </a:endParaRPr>
          </a:p>
        </p:txBody>
      </p:sp>
      <p:sp>
        <p:nvSpPr>
          <p:cNvPr id="184"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broadens the scope of acceptable letter of credit issuers to include other financial instit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73 as amended by the 6/22/16 Credit WG comments.  On 8/11/16, PRS unanimously voted to endorse and forward to TAC the 7/14/16 PRS Report and Impact Analysis for NPRR77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6/22/16 Credit WG com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8, Modifications to Date Change and Cancellation Evaluation Window [TX SET WG]</a:t>
            </a:r>
            <a:endParaRPr b="0" lang="en-US" sz="1800" spc="-1" strike="noStrike">
              <a:solidFill>
                <a:srgbClr val="000000"/>
              </a:solidFill>
              <a:latin typeface="Arial"/>
            </a:endParaRPr>
          </a:p>
        </p:txBody>
      </p:sp>
      <p:sp>
        <p:nvSpPr>
          <p:cNvPr id="186"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7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50k and $75k; no impacts to ERCOT staffing; impacts to MarkeTrak (MT), Registration System (REG), Market Information System (MIS), and Enterprise Integration (EI);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modifies the evaluation window for date changes and cancellations currently performed by ERCOT systems; and removes the one Retail Business Day evaluation window for date changes and cancellations in order to replace manual processes with transactional sol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8 as amended by the 6/7/16 RMS comments.  On 8/11/16, PRS voted to endorse and forward to TAC the 7/14/16 PRS Report and Impact Analysis for NPRR778 with a recommended priority of 2016 and rank of 17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2, Settlement of Infeasible Ancillary Services Due to Transmission Constraints [ERCOT]</a:t>
            </a:r>
            <a:endParaRPr b="0" lang="en-US" sz="1800" spc="-1" strike="noStrike">
              <a:solidFill>
                <a:srgbClr val="000000"/>
              </a:solidFill>
              <a:latin typeface="Arial"/>
            </a:endParaRPr>
          </a:p>
        </p:txBody>
      </p:sp>
      <p:sp>
        <p:nvSpPr>
          <p:cNvPr id="188"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73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60k and $90k; no impacts to ERCOT staffing; impacts to Settlements and Billing (S&amp;B), Market Management Systems (MMS), Commercial Systems Integration (CSI), and REG; ERCOT business processes will be updated;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inconsistencies in Protocol language with a change to the equations governing the Settlement of Ancillary Services for Resources that are not able to deliver on their Ancillary Service responsibilities due to transmission constra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82 as submitted.  On 8/11/16, PRS unanimously voted to endorse and forward to TAC the 7/14/16 PRS Report and Impact Analysis for NPRR782 with a recommended priority of 2016 and rank of 17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6-08-15T18:00:54Z</dcterms:modified>
  <cp:revision>315</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