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3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29A0D-DB69-414D-873A-598729DA1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95335-A808-4EE2-9D5B-8768A42F4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13A575-5F67-43B6-ABAE-73E21E771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E4ABF-8D14-4C52-90D8-70B16653B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3D879-EC02-4A8A-904D-B6ACA7D2F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E45F0-D8E9-4D2D-B709-E6108513C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E7F-1B1D-4CED-8570-E2194698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C9E-F48C-48DA-A647-5357B1F5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CB1CA3-07A8-4FDF-AB57-9AFD014C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8C42AB-E6E8-4700-ADE5-A302F97D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A0B476-7E9D-4A77-8BB9-3611ABAB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558EE2-BC81-459A-BF0C-6BE410B5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BF1C83-5E86-4C77-A0B6-215ABFF1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DB9E0F-6D61-4DF7-9738-3B7938D2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8C2FA0-822D-44F3-B43A-7995EB0F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ABF5FE-9026-44BC-ACDE-AA863237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4E39FE-E045-436F-9552-9D3A10BC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DA869D-D83B-4FDB-AF0A-7B955197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94C-4F85-49A6-ADA9-1FBEE004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487AF0-DC22-4693-A3C8-B593EB11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6CDDAC-BA67-4ED7-9480-8EA68361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8CD23D-D31F-4B0A-8923-B792D07C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AC97D0-013E-472E-A34F-404DB79D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ECF561-2D9E-4D72-9922-6970CB40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9D0E66-2D7A-467A-9A40-FA4B1303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1FC6AD-E01B-48C0-8612-8F877B53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9BE985-5CA6-43A4-9BA0-DACD46C9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8CDFE6-CAF7-48A3-B15F-EF690F38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016D8B-D282-4630-A0BC-3440AD5D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DE1-A6C3-4CA0-9C9A-BD6E4F09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6DE370-05F5-4E56-BA4C-3E863E5E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32EC-6F8A-4132-B03C-07461294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F49C-4676-42DC-85F5-5C309BE6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85C3-4CCF-49DD-839F-0896E785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AA41-1F61-4043-A505-984D4118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B0A5-BAE3-4C77-BA50-3EB58938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8B29-9611-46C6-95AF-DAD7352A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880F-DF62-4D28-9E6D-CF88CA81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253-D25E-4DBC-BED3-09005899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E571-27D0-42B3-83A0-E89F7FE6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4135-69BE-4B21-8EA5-56E3A1A3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181B-C9A5-45CF-A7DD-AA28B1B8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E011-86ED-47DC-B50A-34C56D79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BC44-25C1-47B9-9D28-DDD59B15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B9D-7C2A-4327-B2AD-1308801F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A622-D95A-4C67-B099-3B093778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B4160A-94DD-4F8A-ADDB-E34E6F03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466-3A2B-4BAE-A6E5-4D161730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03F0EA-8619-4252-8BA1-3D41553E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0621FF-D0F2-4649-A284-7A2814FA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3DF38F-51AE-4510-B8EE-51498C9C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768B83-355B-4F50-ABA4-16C3B91F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954926-AC64-4AF8-8CA8-3F727CEC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19976D-596D-44A4-9E3F-A7532E07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A0BACE-BCA1-42FB-A731-C1034CB4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F7318B-FBC2-480D-9552-AF7C4C2D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1DF122-71C3-4985-AF01-D387E070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28D5F3-524C-47DC-8527-7B6E64A9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4501-AEDA-443F-A36F-B3B1A549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32213D-6A67-46F5-8DA6-F2455D0F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27BDF3-AC3B-46B5-A93D-4E5C09DA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057869-9146-43D7-B86D-7A3662C9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0EECE5-0D11-430D-B80D-2B2223EB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9C7983-0A73-4F06-87E0-ADBD41B5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9DAAA6-9523-45EF-8995-A0E328F6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E149EE-D9B5-4B6E-91B1-633CAAEA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EA051-BB8F-4EAE-A345-D023EA7E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9D4AC-B4BC-4E55-B3E9-B0E91F4B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F35102-B312-4DE0-B5CF-FD91C0DA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065-81C0-4D47-B940-3108962F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D382D1-7AA7-4752-8D7B-4D5890BD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FAE94-A37D-4499-8727-0850AB9D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554BDE-2F79-4E41-A08A-5B85F7CE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66033D-E9A1-406A-B975-0FF5E088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D05746-7B53-4361-9791-5188C9C1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6A13EF-06A4-4521-BFD4-F4E4DF0A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257854-58C7-4C3C-8419-71A6F66A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87D242-C1BD-4DC8-867C-61F4B4C9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E10C43-D78D-4EFA-A1C4-85184101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176298-20EF-4B82-9A27-7689F974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564-5452-4729-A3A7-1B69C022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04ABC7-62CD-49F6-A0AB-4E82FD22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0F9A1D-BB9D-4CFB-8531-02D21B62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A65CD6-CAA9-4A3B-B0F8-B559F57B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88BA6E-737C-4B3A-B92A-FE86F902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BD9807-8A2C-456F-A532-1974821E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4EA516-350E-4634-9DA4-13DC23D9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0BADC7-F727-4063-AA59-CC7EE95E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23F38B-D9A0-4177-98CE-E72FD53E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1B2030-B033-4055-9837-EE02F73A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522D4D-6914-46FA-BBA4-29C1D153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4C78-1F42-4D47-8908-B25CC035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63C1C-2496-44E9-84E1-EA80AFB1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B4DE2C-CCB0-453E-8BCA-A869E3E4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7B5AA9-0CB9-42CE-9FBA-04C51C91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A40C6C-B682-4664-A9BC-8469B96B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5F212A-63A3-42C1-8E33-9AA5E681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2DDFAC-5317-4B11-8F00-40042CB5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57EB7A-4165-4EFE-9C2F-707C1A0A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BB7BD3-5D81-40B6-8400-D3869D65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09A97A-64CB-4168-8D96-4B0A7334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7B32C0-BB4B-4F93-A856-09BCF232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AD88F-BA84-4E38-8D5D-35AA69863C7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ugust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95DA1-B68C-46C2-94C5-D35E6B3197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029D6-6B94-4CD0-BB63-8FA777066C34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3C121-6B13-436F-9931-127FC9E197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75E95-7F6B-468A-88FA-8991D7AC219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1C9F9-A88B-4ED0-B08D-5C70601749F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020EC-A61C-4927-B291-636BDD0130C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BF385-0B1E-4A9F-98C0-79B5C955162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E9B33-F38E-4A22-B332-FFAB44736E2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E06B3-9237-4838-890B-39F06F9E509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1B3D4-598B-4369-A2C3-031B79F414D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1ECA7-7F64-4720-89E0-3022B2BE83ED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70BF3-5053-4205-BEEE-1822A002378C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50520-B151-40F0-BF29-0243EE560D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ugust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867DE-8534-46C8-83AD-1D56A1E67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ugust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CA0ED-3267-4F41-8FE5-33DAC169991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99100-5442-4320-B171-B51A88A007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B7441-E688-4C28-AAAC-CAB5C09A26D7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61C32-52E5-4CFA-BBB4-B5605FB601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9648E-C8D7-4B7D-A367-3F47266B4D6A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B57EA-6208-4A62-AB95-0E0F02CBBC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8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0A399-16A1-45D6-89C6-C3157CA766D5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9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2FA4D1-5FB4-4711-9606-BFE1F8D04877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D706C-3E03-4E54-B674-A5101A11B4BC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9BBB3-CE17-4757-9FF1-9422919B48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13"/>
          <p:cNvGrpSpPr/>
          <p:nvPr/>
        </p:nvGrpSpPr>
        <p:grpSpPr>
          <a:xfrm>
            <a:off x="787320" y="2804760"/>
            <a:ext cx="7543800" cy="2871720"/>
            <a:chOff x="787320" y="2804760"/>
            <a:chExt cx="7543800" cy="2871720"/>
          </a:xfrm>
        </p:grpSpPr>
        <p:sp>
          <p:nvSpPr>
            <p:cNvPr id="784" name="TextBox 9"/>
            <p:cNvSpPr/>
            <p:nvPr/>
          </p:nvSpPr>
          <p:spPr>
            <a:xfrm>
              <a:off x="787320" y="3082680"/>
              <a:ext cx="754380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lesale Market Subcommittee (W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vid K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6 WMS Vice-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584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eeting Schedule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s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ugust 3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, 20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ptember 7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, 20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69 – Alignment with VCMRR013, Clarifications to Verifiable Cost Appeals Proces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with 6/7/16 Luminant Com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72 – Clarification of Process for Transmission Outages Related to a Service Disconnection Request for a Generation Resource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as submitt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75 – Enhanced Implementation of Limits for Fast Responding Regulation Service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as submitt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77 – ERCOT-directed Dispatch of Price-Responsive Distributed Generation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mains tabl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the concept of “load zone payment for DR”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2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VCMRR013 - Clarifications to Verifiable Cost Appeals Proces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pproved as amended by 7/22/16 Luminant comments and as revised by WMS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04040"/>
                </a:solidFill>
                <a:uFillTx/>
                <a:latin typeface="Calibri"/>
              </a:rPr>
              <a:t>Looking to table VCMRR013 until NPRR769 is approved by the Boar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5" name="Footer Placeholder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RMR NPRR Language Review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95 – Provisions for Refunds of Capital Contributions Made in Connection with an RMR Agree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93 - Clarifications to RMR RUC Commitment and Other RMR Cleanup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88 - RMR Study Modifica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Concept – RMR Proc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oter Placeholder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RMR – Next Step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Continue to work on issues in WMS, Working Groups, and other Subcommittees (RO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fternoons of WMS meetings as schedule allow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eeking guidance on any other specific action item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1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Other Busines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Joint Market Continuity Workshop (WMS, COPS, RM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ssignments made to various working group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Next meeting pushed to at least September or Octobe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4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Kee, David  E .</cp:lastModifiedBy>
  <cp:lastPrinted>2016-05-25T12:38:50Z</cp:lastPrinted>
  <dcterms:modified xsi:type="dcterms:W3CDTF">2016-08-16T21:01:55Z</dcterms:modified>
  <cp:revision>896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