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9386-81A2-4D1A-9833-EE470B7F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0AB-6098-43C8-8B66-F4393413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9724-3424-4D3B-9498-8D27A7F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B43E-78DF-49DB-B0CD-51CF8219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5EC0-D2B9-4EF7-B196-1A69CB4A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4B9C-6B4B-47FF-A7F4-EC5BE83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0259-2B43-45C3-A949-31D8690C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B76B-6443-4BA9-BBD8-120BA6E4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8939-D9D8-40EC-8A9C-3AF9D53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7A80-1355-4143-A4E2-01EAB65C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DF0-D8CB-47B8-AE6D-8BC5543A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C198-EEEA-4B74-AC1D-6E60371D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35E2-48B1-471F-BFC6-E385E302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32ED-6510-4334-BC73-9057040A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0F07-EF59-47ED-9DE9-464F7E2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D4B0-7D2B-4C5E-B605-3071DEA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6E4C-7701-4E83-804B-273D1498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E37A-03B5-4577-9DC7-69B723E8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32D8-8DBC-4BDD-BBD2-00F740AB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0C69-1AEE-4A0E-A2DB-22602654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E8E2-0B1E-4B33-8101-DF9A1EBC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26D7-5646-42B2-8B16-2BE5739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B9AF-0D81-448A-8E8C-FD74A660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AF41-8A6A-4B27-8CF3-7D73B49A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AE42-5300-4A46-87DD-FC53E15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25E4-1685-4E08-B40A-83F13C0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55BD-74B7-45A7-A8B0-27BF6F53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35A5-CE53-4010-8F3B-5F0C947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7B88-9DCB-4B9B-A5AA-D77DFC3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539A-0874-4CAB-90B2-37C1645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3278-E712-4BAE-A04B-BC7E50A9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77D4-D880-4FED-A98C-9F2DAA6E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B736-DE37-441C-886B-58923B09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6126-4E95-4C6D-8F51-78D53BF6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5D52-0AEE-45E4-B3AF-61C573E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ADC3-A88A-439F-B0EC-283ED2E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6D25-A306-42C7-B146-3C47DAE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51B4-D241-4D70-8BA2-8FD0003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6DE-ACD8-415F-B4C6-1DA7A664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953-0D2C-4AAA-8C03-5FD22AF4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E734-3AB3-46BA-B1CC-47B7CF625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7D73-ECAC-4723-84D7-D5C95A7F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AF3E-0656-42DE-AC20-01A43118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August 10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Jim Lee (AEP) – Chair</a:t>
            </a: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DF85-BC08-4BFC-8CBA-1C2370AD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63600" y="1173240"/>
            <a:ext cx="8001000" cy="40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ERCOT responsibility for unregistered DG reporting has moved from the Data Loading &amp; Aggregation Dept. to the System Planning (Resource Adequacy Dep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System Planning is responsible for reporting current and future resources in ERCOT and is the main internal consumer of DG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spcBef>
                <a:spcPts val="1125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Uses data to determine current and forecasted DG capacity reported to NERC for Long Term Reliability Assess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spcBef>
                <a:spcPts val="1125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Transmission Planning looks at how DG should be incorporated in reliability studies and load flow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spcBef>
                <a:spcPts val="1125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hanges to Unregistered DG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2FB-3112-440A-9467-64DAAC49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3600" y="1173240"/>
            <a:ext cx="8001000" cy="468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o align Binding Documents with the change in DG reporting responsibility, ERCOT submit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125"/>
              </a:spcBef>
              <a:buClr>
                <a:srgbClr val="3c8c9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c8c93"/>
                </a:solidFill>
                <a:latin typeface="Arial"/>
              </a:rPr>
              <a:t>NPRR794</a:t>
            </a: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, Relocation of Unregistered DG Repor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125"/>
              </a:spcBef>
              <a:buClr>
                <a:srgbClr val="3c8c9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c8c93"/>
                </a:solidFill>
                <a:latin typeface="Arial"/>
              </a:rPr>
              <a:t>COPMGRR044</a:t>
            </a: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, Alignment with NPRR794, Relocation of Unregistered DG Report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his change puts reporting requirements for DG in the same section of Nodal Protocols as reporting of other resources &amp; increases market transparency for future changes in DG reporting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3c8c93"/>
                </a:solidFill>
                <a:latin typeface="Arial"/>
              </a:rPr>
              <a:t>** PWG will continue discussions with ERCOT to determine if a new report format is needed and/or whether existing reports provided by the TDSPs (ie: Annual Load Data Request (ALDR)) can be leveraged for this purpose.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hanges to Unregistered DG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FE63-B13F-4661-B0E1-EEA9B0E8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95440" y="1295280"/>
            <a:ext cx="8001000" cy="464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3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9:30am start time  (WebEx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o Unregistered DG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al Validation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maining PWG 2016 meet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ctober 26 (WebEx only)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cember 9 (WebEx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1"/>
          <p:cNvSpPr/>
          <p:nvPr/>
        </p:nvSpPr>
        <p:spPr>
          <a:xfrm>
            <a:off x="596880" y="22096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6267-C0AB-42EF-82EF-AB04C761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DTMS_20160608</cp:lastModifiedBy>
  <dcterms:modified xsi:type="dcterms:W3CDTF">2016-08-05T14:51:50Z</dcterms:modified>
  <cp:revision>1176</cp:revision>
  <dc:subject/>
  <dc:title>Instructions</dc:title>
</cp:coreProperties>
</file>