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AFC-AD17-428C-8FC9-2E9FCCCC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B01-1D71-42FE-95FC-CFC0A49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A2D73-7CED-4B0E-9919-49AB708C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8C4C2-531A-46E8-9E36-920788B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9FE96-4574-4B09-B3F5-2DC2CC0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7C043-F0CC-4CC0-982D-D6663A3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315E6-24EB-413F-93E8-84EDBFBF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BDA1D-93D4-4E53-A585-D1373AE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06786-69EA-472F-AC59-7A22DC1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8C35-D1B9-43A5-8419-4B54D74F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858E-4A10-40DA-80C0-A4515AB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3B629-AEE9-41D3-8A96-ED55D960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691-E8EB-4FDB-8598-FD8CAA86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48C0A-DACE-4823-A797-86849F24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13E79-96E9-4B13-8BFB-9EE65B1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087CD-7B1E-4D74-B9F7-6150BF0D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7C192-F09A-45D4-9E25-9115722A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D5ADB-8CBF-4543-AB59-90B7BDB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95818-C9B4-44E4-859B-0F5CA7A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45541-985D-469A-BFF2-08849103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1839-1D79-4522-A256-D94A4D94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E2BF9-027E-4F0E-AA60-AB44AF6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02CB8-F29D-4F37-BFE7-AEFAACCF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930-1A10-48E6-9859-7406957A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049EA-4317-4180-ABE3-13B20803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F05E-8881-462E-9A16-2697FA7F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15C9B-D432-416F-8AFB-487B012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71C15-7BB1-4A77-AD93-0FC58AD2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ECEA9-1EEA-47D3-AD4F-B7B0086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25A67-2B47-43EE-A559-36BFBB91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AB460-7B52-4CAD-9823-1143A3A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C89F-57C3-418D-8A1D-F898995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FCAEF-2DB9-43F5-9DF9-732CCBE7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53659-7A2D-4A98-B30B-452D436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5EA-9F6E-4369-AC4E-938D9FDE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21AA-543C-4C1C-85CC-C50A497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84E2E-6143-4255-9589-AD48135E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103DA-0617-4C1B-8B8F-A4B0AC53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16370-DE08-4771-B6BB-96CB6C9F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784ED-9EFB-4FA4-9E3A-63B9F42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D5EFE-70C8-4166-95A5-CDF56A1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A1765-2574-4991-A29C-5A00B4FB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76CB7-DC05-43B6-A390-4EDD8174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63850-7671-4B6C-B100-9575EF3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922A2-2D8D-4EED-AE76-23A2400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A940-BC94-45A1-931B-4FE75F4C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CF942-47E8-4359-827E-177A91D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D8EF8-92DE-403B-AE80-B6C3098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22D66-A0A6-49FD-8B92-BBDE166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F4C13-6BA8-4AFC-89A5-FBA80413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EC03F-2092-4815-A45B-D1DFE02E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C423-D01A-4DEA-82E3-E1EED5F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3FA-A6DF-4844-9874-CFF53557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4F46-BF8C-4AD0-8AD4-272CF90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612-107E-4F17-A9AA-092C5EB0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0E1B-F112-4C3C-9007-1DE3864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E6C-95FE-4231-9590-1B62B93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7D67-747C-4F91-BDA9-2ADEF20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C82-2A51-4292-887B-F56B985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F7CD-ABA7-469B-BC13-9257C4FA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C63-6430-47E7-852B-8574B310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587D-4333-4B10-8795-FAB3C961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E8B3D-4880-4651-B2DF-DDBEA8C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272D-4E9A-4455-B633-8334BC0E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259D-01B7-4A2B-8F17-04590E50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DEC4-250F-4990-9810-A0161BF2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4F83-271F-49DC-96DA-523FDFFB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386-836D-4511-BA71-1FBFDE24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8547-48F5-4E3F-80D8-59B50AF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3DD8-A6C4-4814-A4E8-8CCE3F42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A22F-7242-42EF-9995-7C36F88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FB0E-9E53-4AB1-8BF8-595C121D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AA87-D3B5-4524-BD97-7C9BB7C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CEA3C-5AC8-4453-8FDD-68AE23F5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1788-5C23-43A8-9FE1-6B28866D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CF6F-13C5-4C7F-ABF3-0ED9EBC2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FF58-FD56-4C66-B315-83E7763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9E862-B773-4B5C-A662-E7027B2E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270-4459-4AC5-B2F1-F21E877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1E6E-6087-4792-9B4D-5F6440B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341E-876F-4E7B-ACFA-CFD8727D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92C9E-8660-4D2C-B8FE-231F8B7C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91CB-D45D-46AA-B0FB-C788CF1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EE6E-829A-4ACE-BEE9-05B43335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4277-23D2-414C-9A7A-F94D878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93CD-DB5A-4424-8DD5-57FE29C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B4EB-2DEB-485A-880D-7FA48616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B57C-CE43-416B-B039-1EF9C37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C07DB-6E53-462C-89AC-514B5981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FB3-B2C3-4629-828D-C285B62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F353-2750-4E18-87E1-41FF4B5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A2ED9-248B-4B00-8555-F40D2C8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F3578-8ED3-448E-81A8-04184B13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6A5F-C00E-405F-B6C6-0E7116C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DDD9-5BEB-473A-95A5-FE798506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9200-FCA6-414C-A759-45452B0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E2E05-F0C1-4931-861B-D2B4158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10A6-C098-4EC5-BCDF-6FD39E50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A7C1-D3B5-47E1-BCF1-4AAFB58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10E0-F99A-4AE0-8D66-B79BDC52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94A-775B-4A17-A150-FA982F9D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A320-5ED1-499D-81FC-CFA99E8C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12D5-7FC3-4C0F-B132-769B9590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1B8A3-A513-4688-9926-5918AA1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198A3-2A86-46B2-B3D1-26759B2D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8E39A-D78A-4ECB-A309-E2F83713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AAB17-9C7A-4470-8EAE-24DF649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327F-ADA6-4F3C-A2BD-6C811E2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A1AB-05E2-4215-98D5-EF1F888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9FBE-AA3F-417A-BB41-4CBF5DB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B892-A6DA-473F-A1A0-FC8616B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8CF-2179-4B6C-B060-3BF3BBC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8D41-772C-4CAE-83B4-9F05615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5E1A-887D-4754-AF8B-2E04C07D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F57B-6D73-4812-BA3B-357AA1C9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8AC6-159D-4955-990F-E470E251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529FC-48D7-4CE4-A141-A68F81C2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1145E-5360-4AE6-8C0F-0D2CC3C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E8E39-0290-4C5A-B384-FCBE7B59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2FA35-8350-4BEC-841C-978AA2E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6F6A2-F435-4CC2-BEF3-0386C365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8099-BD69-4A66-8E6E-2AD8C81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4BC-B68C-4070-9F2D-432D65D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EFB14-73EC-44C5-B367-03A5562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2715-5CFB-4194-96DD-4C55136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49EF-C82E-4254-8D37-375E57D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95067-2DB2-4F91-8DAD-44F1D5B5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2705-803E-48B0-8C13-B5522210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7EBB5-BDF2-4EDD-B62F-8135100A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FD56-6C09-4C3A-845E-17E6CC55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F5393-FCE1-40AB-8F3C-087F48A7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4FC8-2D71-41C7-9F4C-BFC9C05C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F76F6-893B-46BF-928C-AA5B838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0B3-279D-4BD1-BC9F-48C6B9E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449D-E926-4491-A6FA-66A391E5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23CDB-D6EC-4E60-89EE-5EAD608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8F85-ED43-47C4-9D7E-838ECF16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539BF-7FEF-4618-8A4B-7555FDD5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C2AF-4713-4234-AEAA-6122381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E1502-09DE-490B-99CF-682694D2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790DC-ED08-412C-AD50-EFB2BDF1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42BD2-7111-49F2-9CFB-EA348A7A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64643-98D9-4E1B-871D-0FB48B1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17D62-CE01-4FBB-9E90-09584769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03B8-723E-4971-BF91-9FFF13BFF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DFB967FC-8A4A-44F9-952F-450D2D015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CC6C-8594-4C8F-98B7-53D54139D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9E3-6ABE-453E-8EA1-6867E4E16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244-66BF-425B-AFC8-2B34138C54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B09-B6DE-4BA8-8C77-2681F3339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29F6-4858-408A-BFB1-5EA68483F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353-75D3-48D1-A446-400E624E0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DD4E-4072-4D46-9081-3CA753528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EB6E-CB82-4284-894F-BC4FAD274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154A-871A-4D74-8959-9BBB6A03AF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C5EC-DF76-40DB-A832-E18A5780F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0B04-314D-4E94-8AE2-E136159A04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E86-3D18-46A0-870D-0C68F5CC9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A3E-0CDA-4B29-98CF-D7E4D6402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E9DA-7280-4BC9-892C-9A8E24F07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9F15-3408-4604-B18A-07535CC0F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D862-D027-43F9-9BD7-9F059F2BE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96F-8B1A-4A15-943D-5FBAD9E2E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09B-40E7-41DA-B01B-7CCB6CFA3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1514-794E-4BE4-9CBE-2A767BE493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E02-66A4-4439-AD94-5485DAC17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7F8F-5108-48F0-8A7A-C2D2B745CB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EDB-508E-4BF4-AC6A-37EAA9B67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the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ugust 4,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920-D30E-4135-954D-DCB3203D5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/4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2, 2016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ed Data Requirements for GIC System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rted List of Questions for GIC Software Vend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ided to Retain December 2016 as Target Date for TSPs’ Data for GIC System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ided to Defer Next Training Class into 2017 When GIC System Model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ssed Next Activ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8/4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443-D3C5-460D-921C-66C9BF421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Activities for PGD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GIC System Model for Geomagnetic Disturbance (GMD) Vulnerability Assessment (12/2016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PGRR for Documenting GMD Planning Activities as Required by the Proposed Standar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8/4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FE4B-A884-4EBB-ADB0-D6CE866A7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Meeting and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ptember ??, 2016 at Met Ce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e Discussing Data Needed for the GIC System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 Questions Regarding Use of the GIC Modu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C System Model Procedure Manual Posted on PGDTF Web P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8/4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0F1B-8826-4844-841B-9120C9A7E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  <p:sp>
        <p:nvSpPr>
          <p:cNvPr id="5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96F-9642-4D2D-96EE-C278E9ABB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chael Juricek – 8/4/2016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Oncor</cp:lastModifiedBy>
  <dcterms:modified xsi:type="dcterms:W3CDTF">2016-07-29T12:29:02Z</dcterms:modified>
  <cp:revision>164</cp:revision>
  <dc:subject/>
  <dc:title>PGDTF Update to ROS</dc:title>
</cp:coreProperties>
</file>