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3694-54C8-4262-870D-38507181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2FF3-9354-493A-B3A3-00E212DB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91C8-F7E0-4979-AEFF-EE625B5C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F2AB-7C57-4EC9-A263-689036A3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22E1-8858-47E2-94B8-A1349F85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90A0-C239-41A4-9467-D5347301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F248-DE18-4B42-93CE-EA3FA0F8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1785-9A91-4D68-93B7-27D1C1A1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D02C-361F-425E-A1E3-B11A8B86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0231-6521-47F9-9D44-58546DAE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2ADB-F223-4D51-8202-8E03B144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22F6-EF8D-4FA5-BB82-EA254CC6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3E75-1F07-4540-B640-7891694B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FCEE-1AFE-4F29-BAB1-595A2351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ABE6-459E-47F4-9F8C-D7648075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BDE2-4F80-434F-93B8-707442A2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023C-7ED6-4CE7-8048-E4877CDE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B525-D261-4591-AB8B-3CC251F8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B85D-161E-4E79-AEC0-E5A26ED6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5264-1FA3-402D-9060-238C82AC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A030-7959-4C1C-83EA-14285939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F8C3-1C86-4F88-B2AE-736D696F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82AC-FB49-459F-B376-A45F97C4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D5F4-70C5-4D6E-A4E9-1E5055F9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D582-CE7A-4A7D-9010-92F890A44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7868-FAE9-4064-856C-28A314C92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1E3AF-14AF-41C2-8F4D-930381107C7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BDFE9-50CE-4EBD-BF94-AF85D3E50A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4DD53-7782-4B41-9538-10B34A6D9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rcot.com/calendar/2016/7/13/78052-COPS" TargetMode="External"/><Relationship Id="rId2" Type="http://schemas.openxmlformats.org/officeDocument/2006/relationships/hyperlink" Target="http://ercot.com/calendar/2016/7/13/78052-COPS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R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8/2/20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filing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560" y="6411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16 Annual Vali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hanges for AMS and NIDR ESI I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HI to RESLO: 80,843 AMS and 2,863 NI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LO to RESHI: 90,459 AMS and 3,689 NI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table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5465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32004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33520" y="9144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ugust 10, 20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520" y="6858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rket Data Transparency SLA Document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pprov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rifies intent of SLA; Includes systems which support access to information, services and the delivery of data, as opposed to individual data produ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DWG will be tracking data products via their new Missed Postings Log (Posted on the MDWG Webpag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ettlement Stability Report Highligh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COPS Settlement Stability Report Q2 2016 in Key Documents for July 13, 2016 COPS Mee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rcot.com/calendar/2016/7/13/78052-C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arter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ic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of 9 disputes submitted; 8 denied and 1 gr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percent change from previous RTM 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2666880" y="3505320"/>
            <a:ext cx="3092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ettlement Stability Report Highligh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204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M and DAM Operating Day Average of Tot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16 is YT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 ID Count/Percentage Estimate by ERCOT – True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ween ̴ 275 and ̴ 550 ESI IDs Q3 and Q4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ween ̴ 0.0028 and ̴ 0.0085 percent Q3 and Q4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Allocation to Load: ERS not billed yet for Q2 20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544680" y="1600200"/>
            <a:ext cx="3749400" cy="2514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4506840" y="1566720"/>
            <a:ext cx="3799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Un-Registered DG Report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 is moving the responsibility for Unregistered DG reporting from Data Loading &amp; Aggregation Dept. to System Planning De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Planning has primary responsibility for reporting of current and future resources in ERCO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Planning is a main internal consumer of DG d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Planning has primary responsibility for reporting of current and future resources in ERCO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Planning is a main internal consumer of DG data; for exampl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rent and forecasted DG capacity reported to NERC for their Long Term Reliability Assess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mission Planning Dept. looking at how DG should be incorporated in reliability studies and load flow c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Planning (Load Forecasting &amp; Analysis Dept.) already manages Load Profiling data used for the repo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RCOT will submit an NPRR and complementary COMPGRR to move reporting requirements to Section 3.2.5, Publication of Resource and Load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PS expressed concern that Unregistered DG data was initially intended for informational purposes only and whether Energy Storage needs to be included; More discussion will be need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D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 Changes 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eview of Problem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57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ME comments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57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iscussion of impact of changes in Market Participants’ 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57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questing additional visibility into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57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formation will be distributed to the mailing list to solicit additional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d language will be reviewed with ERCOT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coming MIS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changes effective June 20-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rrection for zeroes instead of null values in 60-day SCED GR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hanges in several link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hange to disclaimer language on Indicative LMP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D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Web Services Modifications: Report Notific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an Brandaw and Julie Thomas will present the proposal to the Subcommittees and ultimately T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steps toward a “push”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ceiving notification that a report is available is less disruptive than pushing actual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posal positions ERCOT well to push content in addition to notifications in the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SCR will be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GRR084, Daily Grid Operations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WG concerned over slow progress and lack of visibility and input into th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WG would like to investigate the possibility of changing the approach to an NPRR with an accompanying NOGRR to strike the existing grey-box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D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Digital Certificates and Windows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around solution is in place and working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solution is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 will be presented at the next MDW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L Certificate Upgr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ntermediate and Root certificates were changed about a year ag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andard SHA and applies to MIS API, Notifications, Production Web Services, MarkeTrak and Get Report/Get List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E environment will be open for testing after 7/6/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TE cannot actually run reports but getting a response will indicate su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change will occur in August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hold another market call around 7/20/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filing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560" y="6411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dard DG Report Revis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otal Energy Storage Power (kW), Total Energy Storage Capability (kWh), Total Other: Renewable Capacity (kW), Total Other: Non-Renewable Capacity (k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16 Annual Vali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hanges for AMS and NIDR ESI I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HI to RESLO 83,7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LO to RESHI 94,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8458200" cy="16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Schatz, John 021616</cp:lastModifiedBy>
  <cp:lastPrinted>2016-07-21T16:00:02Z</cp:lastPrinted>
  <dcterms:modified xsi:type="dcterms:W3CDTF">2016-07-21T16:00:46Z</dcterms:modified>
  <cp:revision>1589</cp:revision>
  <dc:subject/>
  <dc:title>Instructions</dc:title>
</cp:coreProperties>
</file>