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 type="sldNum" idx="3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CF296-4543-49EC-928D-BC868E472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93077-384F-4BE1-96E9-E2EBA10C0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E38EE-B17E-4410-AF79-A7AA1FE6C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645D9-418F-4C59-9334-CDC2CD900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E7F40-D730-4162-BD99-61239803F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D6E17-EC59-47AC-90FF-C4D7C2121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7431-E7AF-4281-9EB9-F91C1794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282C-5C49-4851-86D3-396C9370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CD6C12-9DF8-47BD-8509-7B67901C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869B4A-8001-4299-B52C-287F1178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EEF0CB-C064-4017-B410-913F5BE0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6EFE2B-FE57-4C68-B1EB-E6362C32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07AC60-C735-48BD-BF9C-7F10A8B7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EA4725-58C7-4866-96E1-05C37E7C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53BCEE-3911-4A8A-B4F3-A563A3B1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4C603A-C28A-4C7D-B54A-7BF293C7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C4E671-460E-4A4F-BB0E-0D16F6BD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E75948-46F6-4948-A16E-F2356EB2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E38-D7FD-469E-BB0E-01ED90D4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2E65F8-3133-4189-8484-D05A3898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BB50DF-91EF-4368-A366-182C65CD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08974F-E162-4A60-9DE6-10C37FD2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5F16AC-AADD-4578-BECA-7BFA83E1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197BA4-A667-40EE-9808-3167FD7B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C5098E-3A7B-4AF2-9B46-89E80F4C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5D6388-519C-4052-AF3A-AFE8370D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6778C1-DB8D-48F6-B8C9-3CDFA44F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848BEE-D198-48F8-9239-6F68073F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F6C1C2-06D6-4184-8EB7-CC0C204E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826-C2B2-4248-9374-2FE70D7E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CF0FE8-98EA-4FAB-9488-058EF486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151D-106D-41BF-A144-44407FE7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3EC4-37BD-408D-B857-8DE76799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6324-34FB-47FC-B9B2-ECD1F614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729C-E88E-405C-AB39-C29915D1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DFE4-8EF7-4BD9-A55E-06779B6E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5A1C-9EBF-4924-9523-23E77DED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3660-2468-4313-8925-8C48437C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ED3E-8028-4831-837C-E686CD56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61BE-4BB9-433A-8561-1939A236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726F-3155-4DBA-B671-D339A0BD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3D21-B034-4E53-8AAB-1D2F890D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4E13-7F0C-4723-9729-7B4078BF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B8C7-D265-4F91-AE34-B3E2A8F5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B260-D718-4533-B85B-0634CCE7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3902-014C-499D-ABBA-256C8553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5F7B45-A7B8-4B3E-BD0C-CA5BEE8A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7AA6-5851-46E4-99C0-4499BE71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5505C1-3479-4137-97B0-3893FB8F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352CDE-DC0D-4FEA-8BCE-7411AC52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FFED31-BC52-4226-8DD9-6180C5EF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493BBD-68B2-4422-B319-67DB2F10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5E7AFA-461B-42FC-AD13-CBBDEEE7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F4E9B9-E42E-4233-9697-6C40FEFD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27AAAD-C0B4-482B-A703-C33A3CAF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7E15C8-73B1-453E-BA26-B30335DC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EDB163-AA8D-4303-8BCF-423CE398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85A5D6-537C-4361-B764-5E560E4A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2EE6-F3BE-41A8-BE2A-1E536B7E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E5A043-C93B-4A6F-A49A-76DC98D2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4A77F4-F3C7-4A33-BD23-FAEE95EB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789EB0-384D-46CC-B4F2-A0B16477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F25FDA-D963-41FD-81AF-49F9ADD0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EA549-3846-40B3-8E3A-62EF1A1E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DB11A7-25D0-40CA-94AF-02EF116F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07A109-B023-426E-8516-BEDB640F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25DA23-AE4E-4CC3-A896-D0EDB578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1B416-6B89-4299-8BBB-FA91F007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7FBDC-D2B5-4EA8-B594-504A0A06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13C-9841-4DAD-87CB-8627398A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1FCAC7-D342-471A-A094-020C10EF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88C0BE-F6C7-4277-8F0E-46895B37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75FB5D-4A8D-4725-A825-A3176C5D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1ECFC5-CCAF-4D41-B533-FA752EC2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58ACA6-1813-4063-974E-51F4D4F7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DD8320-1596-4D15-A44D-D07B5EE6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160F9F-DBDB-41D7-88A8-AC9B1D6D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8AF436-9D87-4339-A9A9-608C5B9B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F5FDF6-5977-4ED9-A3DF-86C41105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053AD4-5FCB-4B17-AF13-8DDADDCE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1D81-4915-4653-8EF6-AFCA43A8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5EDF9E-DF5E-4D4A-9AD1-25D45136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254DD0-EA5D-4331-BBB4-BCE028A0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CAECB4-08BA-4E1F-9762-F054545D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AF3F11-D3B5-4069-AE0E-64021BE5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F9BE06-36E2-4A2B-BA35-EC25813E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F43C31-165E-4590-A64C-63D2FDF8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79C467-6769-4F5C-8F34-95687B65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077890-9A74-4F1D-B5EC-8026B054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D91FDE-FA4A-4B1E-9EA0-E8DBD3A3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449B8D-B163-4EBD-86E1-BAE6A553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9E78-EF27-4E50-8B7F-34CB49CD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74CF0C-6DBB-41D9-BC94-25BA82E8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C5CF37-1323-4A79-BB79-87558D13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05A27C-8322-46A5-8EC7-473DD1D0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48BA6A-5358-4EFA-8C54-AF475406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CE9056-686E-42A4-88F4-B6C6E45A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B8E895-0309-4C42-8AE5-C14C9EB9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8E1CAB-E3BC-4FAC-8D0D-30DCF89C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CEA769-C1B0-4101-8227-D2776B23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07FF6D-7343-4723-B369-A9A63CAE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D127E5-E52F-4B2E-A281-86D40CA0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BEBA9-3C71-4C4B-B39D-0EF51A71E63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74AE2-CFB8-4B41-B63B-E3393A96C2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94E95-8CC3-4501-9D1E-66433146D1FB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ULY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552F1C-05AE-418E-A506-4B3745E62C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1C934-986C-4C1E-A2C2-F0ACDAF54F13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2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9E873-1172-4601-96FE-AF7EB30A929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9BBB0-68E5-4D81-87C0-93AF305662C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F2DCA-D68D-4552-A0CF-68D3FD593D9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571A4-E52C-464A-A00D-1CEEE3B0614C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1BB09-19A4-4450-9BC8-61C3D860155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F102D-0940-4738-9B41-E0EC3414789C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B115B-899D-4F7F-BDF8-FF957BB75238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ULY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8895E-2B69-4525-B26B-B23A337BD589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ULY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6D88E-A945-4F97-A94B-4393D7A959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9F97C-460F-4E4D-88A1-3A51755A2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8th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814F1-FF42-4191-B7CB-1DC4E109F56D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ULY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F636B-0820-42F8-827C-4419FC3D15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BBA6A-89A9-44FC-A08B-AE4EADAF8CE8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ULY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5C2FE-FCCB-47A7-8BD3-FF573BA369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531A4-048D-425C-BC13-2E2E1B0B00B6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ULY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9E54E-D25C-48B6-A41E-6B74ED9A59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8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B495E-7E5B-4DDE-A156-7216A03E494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9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4068"/>
                </a:solidFill>
                <a:latin typeface="Times New Roman"/>
              </a:rPr>
              <a:t>JULY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BBD7F-E895-426F-995E-6BC902361DA7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12DD6-4C8C-4FB8-B856-BE647A092134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ULY 28TH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83FCA2-4165-4647-AFEF-78CDF98D04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13"/>
          <p:cNvGrpSpPr/>
          <p:nvPr/>
        </p:nvGrpSpPr>
        <p:grpSpPr>
          <a:xfrm>
            <a:off x="787320" y="2804760"/>
            <a:ext cx="7543800" cy="2871720"/>
            <a:chOff x="787320" y="2804760"/>
            <a:chExt cx="7543800" cy="2871720"/>
          </a:xfrm>
        </p:grpSpPr>
        <p:sp>
          <p:nvSpPr>
            <p:cNvPr id="784" name="TextBox 9"/>
            <p:cNvSpPr/>
            <p:nvPr/>
          </p:nvSpPr>
          <p:spPr>
            <a:xfrm>
              <a:off x="787320" y="3082680"/>
              <a:ext cx="754380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olesale Market Subcommittee (WM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remy Carp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6 WM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584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LY 28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eeting Schedule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s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July 6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ex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ugust 3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LY 28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47 – Revision of Voltage Require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with 4/21/16 ERCOT Com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696 – Price Correction Process Following a SCED Failur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with 10/19/15 Reliant Comments (Roll Call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73 – Broadening Scope of Acceptable Letter of Credit Issue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with 6/22/16 CWG Com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82 – Settlement of Infeasible Ancillary Services Due to Transmission Constrai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d as Submitt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2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LY 28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RMR – Workshop Issue List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4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LY 28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2"/>
          <p:cNvSpPr/>
          <p:nvPr/>
        </p:nvSpPr>
        <p:spPr>
          <a:xfrm>
            <a:off x="1415880" y="1736640"/>
            <a:ext cx="6444000" cy="45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NSO Notification Timeline (in 25.502 Substantive Rul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7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Is 90 day notice enoug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Obligation or Incentive For Early Notification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Transmission Planning Assumptions – should ERCOT forecast retir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7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Develop potential alternatives to potential ret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Get rid of transmission exit strategy for RM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RMR Study case assumptions and Risk Analysis (less conservative for RMR than for transmission planning studies?); RMR for transmission constraint cri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RMR for capacity criteria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Remove Output Schedule Op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RMR RUC Criteria transpar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CED dispatch for transmission constraint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7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Mit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Capital Contribution Claw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Capital Contribution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Can a PUN be an MR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7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MRA process needs cla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re there perverse incentives in the MRA language to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Contract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7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ignificant investment”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Pre-RMR execution MRA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Contract language clean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Does MRA have to solve the reliability issue or just provide equivalent mitig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RMR – WMS Prioritized List and Assignment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7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LY 28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1274760" y="1736640"/>
          <a:ext cx="6708600" cy="4581720"/>
        </p:xfrm>
        <a:graphic>
          <a:graphicData uri="http://schemas.openxmlformats.org/drawingml/2006/table">
            <a:tbl>
              <a:tblPr/>
              <a:tblGrid>
                <a:gridCol w="1117440"/>
                <a:gridCol w="3110040"/>
                <a:gridCol w="2481120"/>
              </a:tblGrid>
              <a:tr h="319320"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List Numb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</a:tr>
              <a:tr h="477720"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ED dispatch for transmission constraint issu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tig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RR 784 to address this iss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158760"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Contribution Claw ba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developing NPR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158760"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Contribution defini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developing NPR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160200"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ct language clean 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developing NPR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25440"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O Notification Timeline (in 25.502 Substantive Rule?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s 90 day notice enough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(QMW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160560"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ligation or Incentive For Early Notifi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(QMW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595080"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mission Planning Assumptions – should ERCOT forecast retirements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velop potential alternatives to potential retir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(CMWG/PLW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441360"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MR Study case assumptions and Risk Analysis (less conservative for RMR than for transmission planning studies?); RMR for transmission constraint criter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LCRA) (see also PGRR 42?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158760"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/13/15/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RA Issu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(reconsider in Septembe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318960"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MR commitment and dispatch transparenc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(ERCO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176400"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rid of transmission exit strategy for RMRs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158760"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MR for capacity criteria?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(ROS/WMS chair discussio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12840"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ct leng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“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ignificant investment” langu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(RCW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158760"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ove Output Schedule Option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(ERCO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180720"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al Reserves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iscuss at next WMS for assignmen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160560"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of Lost Load as Cost Benef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LCRA/Sue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158760"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C capacity calcul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MW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RMR – Next Step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Continue to work on issues in WMS, Working Groups, and other Subcommittees (RO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fternoons of WMS meetings as schedule allow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eeking guidance on any other specific action item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1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LY 28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Other Busines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Joint Market Continuity Workshop (WMS, COPS, RM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ssignments made to various working group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Next meeting pushed to at least September or Octobe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 777 – ERCOT-directed Dispatch of Price-Responsive Distributed Gener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lan to dedicate 1 hour at each WMS meeting over the next 4 month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4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LY 28TH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arpenter, Jeremy</cp:lastModifiedBy>
  <cp:lastPrinted>2016-05-25T12:38:50Z</cp:lastPrinted>
  <dcterms:modified xsi:type="dcterms:W3CDTF">2016-07-19T16:34:20Z</dcterms:modified>
  <cp:revision>879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