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D38C-4896-416B-9443-D4FF2AB3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F2C7-74F0-4BA1-B12C-F75B30B8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D72E-4F0C-4A33-ADEF-23A4A556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8B89-F328-4467-8C67-76AA1DB3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947A-D1F8-4D4E-8967-6E91A19D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CAE7-DAFA-4B64-A6E8-3A2BBF86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4B69-48C4-467B-8A79-594E1996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34CF-649D-4F87-A1D6-3284E0FC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E7C2-B2EB-468B-92D8-32A8EBB4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10B0-C881-4305-8277-4044F1CF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3E60-8FDF-4DEC-8653-A6653E4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A87B-05D4-4F1A-A3A6-391F9D02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95F8-60DF-49E2-9918-47D95AD3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CC1B-A2D0-4B68-BCF9-7E10401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F6F8-5B30-4544-AFFE-6B30E69E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F8C3-7776-434B-9DDE-BBA6E255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D4C7-DEF9-4D55-8007-279A362C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6E1B-E51A-4A00-96EB-AE458483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C403-A574-4AD2-8FB7-20657605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07EF-D04D-46DD-ADE5-C6166E71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3C56-48CD-4B86-B9A9-616F8D7B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2AC6-FC5B-4026-9429-BD4C171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B81B-4797-4B8F-97F6-595F1A2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7140-0A75-41A0-984B-5D75CDAC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5914-F5E8-4010-9A11-7CE38BA8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214E-7321-4F44-BFAC-FB2CDC27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FC1CC-1171-4870-912A-FCF1DD72B4E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C41D5-CF87-42BE-A9B7-0AE6DF08C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5A2F0-C73E-4E12-BC84-28A7CD3A1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rcot.com/calendar/2016/7/13/78052-COPS" TargetMode="External"/><Relationship Id="rId2" Type="http://schemas.openxmlformats.org/officeDocument/2006/relationships/hyperlink" Target="http://ercot.com/calendar/2016/7/13/78052-COP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/28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560" y="6411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6 Annual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hanges for AMS and NIDR ESI I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HI to RESLO: 80,843 AMS and 2,863 NI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LO to RESHI: 90,459 AMS and 3,689 NI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table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465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33520" y="9144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ugust 10,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rket Data Transparency SLA Document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ppr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rifies intent of SLA; Includes systems which support access to information, services and the delivery of data, as opposed to individual data produ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DWG will be tracking data products via their new Missed Postings Log (Posted on the MDWG Webpag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ettlement Stability Report Highligh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COPS Settlement Stability Report Q2 2016 in Key Documents for July 13, 2016 COPS Mee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rcot.com/calendar/2016/7/13/78052-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arter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ic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f 9 disputes submitted; 8 denied and 1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ercent change from previous RTM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666880" y="3505320"/>
            <a:ext cx="3092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ettlement Stability Report Highligh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204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M and DAM Operating Day Average of Tot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16 is YT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 ID Count/Percentage Estimate by ERCOT – True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̴ 275 and ̴ 550 ESI IDs Q3 and Q4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̴ 0.0028 and ̴ 0.0085 percent Q3 and Q4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Allocation to Load: ERS not billed yet for Q2 20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544680" y="1600200"/>
            <a:ext cx="374940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4506840" y="1566720"/>
            <a:ext cx="3799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Un-Registered DG Repor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 is moving the responsibility for Unregistered DG reporting from Data Loading &amp; Aggregation Dept. to System Planning D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Planning has primary responsibility for reporting of current and future resources in ERCO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Planning is a main internal consumer of DG 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Planning has primary responsibility for reporting of current and future resources in ERCO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Planning is a main internal consumer of DG data; for exampl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rent and forecasted DG capacity reported to NERC for their Long Term Reliability Assess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ssion Planning Dept. looking at how DG should be incorporated in reliability studies and load flow c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Planning (Load Forecasting &amp; Analysis Dept.) already manages Load Profiling data used for the re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COT will submit an NPRR and complementary COMPGRR to move reporting requirements to Section 3.2.5, Publication of Resource and Load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PS expressed concern that Unregistered DG data was initially intended for informational purposes only and whether Energy Storage needs to be included; More discussion will be need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 Changes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view of Problem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ME comments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scussion of impact of changes in Market Participants’ 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questing additional visibility into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formation will be distributed to the mailing list to solicit additional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d language will be reviewed with ERCOT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coming MIS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changes effective June 20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rrection for zeroes instead of null values in 60-day SCED GR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hanges in several link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hange to disclaimer language on Indicative LMP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Web Services Modifications: Report Notific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Brandaw and Julie Thomas will present the proposal to the Subcommittees and ultimately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teps toward a “push”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ceiving notification that a report is available is less disruptive than pushing actua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posal positions ERCOT well to push content in addition to notifications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CR will be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GRR084, Daily Grid Operations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WG concerned over slow progress and lack of visibility and input into th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WG would like to investigate the possibility of changing the approach to an NPRR with an accompanying NOGRR to strike the existing grey-box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Digital Certificates and Windows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around solution is in place and working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solution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will be presented at the next MD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L Certificate Upgr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ntermediate and Root certificates were changed about a year ag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ndard SHA and applies to MIS API, Notifications, Production Web Services, MarkeTrak and Get Report/Get List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E environment will be open for testing after 7/6/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TE cannot actually run reports but getting a response will indicate su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change will occur in August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hold another market call around 7/20/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560" y="6411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DG Report Revi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tal Energy Storage Power (kW), Total Energy Storage Capability (kWh), Total Other: Renewable Capacity (kW), Total Other: Non-Renewable Capacity (k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6 Annual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hanges for AMS and NIDR ESI I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HI to RESLO 83,7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LO to RESHI 94,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458200" cy="16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05-12T17:27:11Z</cp:lastPrinted>
  <dcterms:modified xsi:type="dcterms:W3CDTF">2016-07-21T15:55:38Z</dcterms:modified>
  <cp:revision>1588</cp:revision>
  <dc:subject/>
  <dc:title>Instructions</dc:title>
</cp:coreProperties>
</file>