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B7FF6-65B7-4F63-97F1-1E1DD00374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0BA2A-BB97-4EC5-839B-14B0CDAC5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940C0-32AD-422B-8F43-624A6524C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003FF-E732-4883-B773-F7EC45480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09B35-7A68-4585-A7C1-D2CE5A467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9BA6-C344-43D6-B157-94355F10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0D9C6-78D8-470C-8497-31C11C027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4CA14-BF15-4D38-8529-A3350BCC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512C9-C899-46D9-A74E-207A0E998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BD98-94E4-402E-9AD5-66ECB2EA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AFEB-7983-4A52-B3C7-184369D4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0869-7BB6-4532-85AB-F029143C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53409-809D-4577-8272-03E0B940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6111-7FBB-4D38-8585-C8071ED0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E8D6-7A0E-4249-AFE9-6D6F3C5C6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38BC-1B33-4C49-8E7A-0913CBFE5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3A52D-AE1C-41A0-80D1-1861320FB9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E7B8C-1D1F-4611-8D4C-8912AAE28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BCEDB-1CC4-43BE-A5A8-77030D903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0, Addition of Outaged Resource Capacity to the Ancillary Services Capacity Monitor [Morgan Stanley]</a:t>
            </a:r>
            <a:endParaRPr b="0" lang="en-US" sz="1800" spc="-1" strike="noStrike">
              <a:solidFill>
                <a:srgbClr val="000000"/>
              </a:solidFill>
              <a:latin typeface="Arial"/>
            </a:endParaRPr>
          </a:p>
        </p:txBody>
      </p:sp>
      <p:sp>
        <p:nvSpPr>
          <p:cNvPr id="192"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87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60k; no impacts to ERCOT staffing; impacts to Market Management Systems (MMS), Current Day Reports (CDR), Market Information System (M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s visibility and situational awareness to the market by posting the aggregate quantity of Resources that are telemetered as OUT, OUTL or EMR to the Ancillary Service Capacity Monito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0 as submitted.  On 7/14/16, PRS unanimously voted to endorse and forward to TAC the 6/16/16 PRS Report as amended by the 7/6/16 ERCOT comments and the Impact Analysis for NPRR770 with a recommended priority of 2016 and a rank of 8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1, Clarifications to New ESI ID Creation Process [TX SET WG]</a:t>
            </a:r>
            <a:endParaRPr b="0" lang="en-US" sz="1800" spc="-1" strike="noStrike">
              <a:solidFill>
                <a:srgbClr val="000000"/>
              </a:solidFill>
              <a:latin typeface="Arial"/>
            </a:endParaRPr>
          </a:p>
        </p:txBody>
      </p:sp>
      <p:sp>
        <p:nvSpPr>
          <p:cNvPr id="194"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the TDSPs must ensure that an Electric Service Identifier (ESI ID) has been created in the ERCOT systems prior to initiating electric service at a Premi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1 as submitted.  On 7/14/16, PRS unanimously voted to endorse and forward to TAC the 6/16/16 PRS Report and Impact Analysis for NPRR77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4, Remove Duplicate Language to Calculate Seasonal Transmission Loss Factors [ERCOT]</a:t>
            </a:r>
            <a:endParaRPr b="0" lang="en-US" sz="1800" spc="-1" strike="noStrike">
              <a:solidFill>
                <a:srgbClr val="000000"/>
              </a:solidFill>
              <a:latin typeface="Arial"/>
            </a:endParaRPr>
          </a:p>
        </p:txBody>
      </p:sp>
      <p:sp>
        <p:nvSpPr>
          <p:cNvPr id="196"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duplicate language regarding calculation of Seasonal Transmission Loss Factors (TLF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4 as submitted.  On 7/14/16, PRS unanimously voted to endorse and forward to TAC the 6/16/16 PRS Report and Impact Analysis for NPRR77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9, Clarifies References to Texas Reliability Entity and Independent Market Monitor [ERCOT]</a:t>
            </a:r>
            <a:endParaRPr b="0" lang="en-US" sz="1800" spc="-1" strike="noStrike">
              <a:solidFill>
                <a:srgbClr val="000000"/>
              </a:solidFill>
              <a:latin typeface="Arial"/>
            </a:endParaRPr>
          </a:p>
        </p:txBody>
      </p:sp>
      <p:sp>
        <p:nvSpPr>
          <p:cNvPr id="19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references to the Texas Reliability Entity (Texas RE) and the Independent Market Monitor (IMM).  The Nodal Protocols currently refer to the Texas RE in both its capacity as the North American Electric Reliability Corporation (NERC) Regional Entity and the Public Utility Commission of Texas (PUCT) Reliability Monitor, a new term recently added to P.U.C SUBST. R. 25.503, Oversight of Wholesale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9 as submitted.  On 7/14/16, PRS unanimously voted to endorse and forward to TAC the 6/16/16 PRS Report and Impact Analysis for NPRR77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1, Updates to Nodal Protocol Section 18, Load Profiling, to Align with Current Market Processes [PWG]</a:t>
            </a:r>
            <a:endParaRPr b="0" lang="en-US" sz="1800" spc="-1" strike="noStrike">
              <a:solidFill>
                <a:srgbClr val="000000"/>
              </a:solidFill>
              <a:latin typeface="Arial"/>
            </a:endParaRPr>
          </a:p>
        </p:txBody>
      </p:sp>
      <p:sp>
        <p:nvSpPr>
          <p:cNvPr id="200"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Protocol language related to Load Profiling to clarify purpose and definitions, update current processes and methodologies, and remove outdated processe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81 as submitted.  On 7/14/16, PRS unanimously voted to endorse and forward to TAC the 6/16/16 PRS Report and Impact Analysis for NPRR7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47, Revision of Voltage Control Requirement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7, Commitment by RUC for Long Lead Time Resource*</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0, Addition of Outaged Resource Capacity to the Ancillary Services Capacity Monitor</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1, Clarifications to New ESI ID Creation Proces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4, Remove Duplicate Language to Calculate Seasonal Transmission Loss Factor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9, Clarifies References to Texas Reliability Entity and Independent Market Monitor*</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81, Updates to Nodal Protocol Section 18, Load Profiling, to Align with Current Market Process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SCR789, Update NMMS Topology Processor to PSSE 34 Capability</a:t>
            </a:r>
            <a:endParaRPr b="0" lang="en-US" sz="18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 Implementation Costs &gt;$100k</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9, Update NMMS Topology Processor to PSSE 34 Capability</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6, Price Correction Process Following a SCED Failur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8, ERS Performance Calculations During TDSP Outages</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 by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4, Mitigated Offer Caps for RMR Uni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0, Revise North 345kV Hub Definition</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SCR789, Update NMMS Topology Processor to PSSE 34 Capability</a:t>
            </a:r>
            <a:endParaRPr b="0" lang="en-US" sz="2000" spc="-1" strike="noStrike">
              <a:solidFill>
                <a:srgbClr val="000000"/>
              </a:solidFill>
              <a:latin typeface="Arial"/>
            </a:endParaRPr>
          </a:p>
        </p:txBody>
      </p:sp>
      <p:graphicFrame>
        <p:nvGraphicFramePr>
          <p:cNvPr id="179" name=""/>
          <p:cNvGraphicFramePr/>
          <p:nvPr/>
        </p:nvGraphicFramePr>
        <p:xfrm>
          <a:off x="379440" y="714240"/>
          <a:ext cx="8380440" cy="5327640"/>
        </p:xfrm>
        <a:graphic>
          <a:graphicData uri="http://schemas.openxmlformats.org/drawingml/2006/table">
            <a:tbl>
              <a:tblPr/>
              <a:tblGrid>
                <a:gridCol w="1217520"/>
                <a:gridCol w="7162920"/>
              </a:tblGrid>
              <a:tr h="48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urpose</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ERCO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System Change Request (SCR) updates the Network Model Management System (NMMS) Topology Processor to output Power System Simulator for Engineering (PSS/E) 34 RAW fi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RS Vot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n 5/12/16, PRS unanimously voted to recommend approval of SCR789 as amended by the 5/3/16 STEC comments. On 6/16/16, PRS voted to endorse and forward to TAC the 5/12/16 PRS Report and Impact Analysis for SCR789 with a recommended priority of 2017 and a rank of 1820.  There was one abstention from the Independent Power Marketer (IPM) Market Segmen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411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Effective Date/Priority</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pon system implementation – Priority 2017; Rank 182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4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ERCOT Impac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tween $300k and $450k; no impacts to ERCOT staffing; impacts to NMMS; no impacts to ERCOT business functions; no impacts to ERCOT grid operations and practic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329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 Case Highlight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SCR will update the capability of the NMMS Topology Processor to add PSS/E 34 capability that is desired to be used in the annual planning and Steady State Working Group (SSWG) base cases to the RAW file created by the NMMS Topology Processor.  This data includes an additional rating required by North American Electric Reliability Corporation (NERC) Standard TPL001-4, Transmission System Planning Performance Requirements, transmission line names, Distributed Generation (DG) included on load feeders, and node-breaker modeling.</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following benefits of this SCR justify the cost needed to implement it:</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 Achieves Greater Consistency Between Operations and Planning Models - Protocol Section 3.10 requires consistency between the operations and planning models, and SCR789 will achieve greater consistency between those models.  The operations models are node-breaker models, but the topology processor used today cannot output a node-breaker model for planning. This SCR will allow creation of node-breaker models for planning. In addition, the planning cases do not  store line names as part of the base case, which impedes comparisons between the planning and operations models. This SCR will allow the planning base cases to include the operations model branch name referenc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 Relay Loadability Ratings - NERC Standard TPL-001-4 requires planning models to include relay loadability ratings. The current software version only allows three ratings, while PSS/E 34 includes a fourth rating type, which can be used for the required relay loadability rating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 Supports Operational Planning Analyses and Provides Additional Modeling Detail - Node-breaker models for planning will make it easier to simulate split bus contingencies and contingencies related to opening one end of the line sections without a fault.  This will allow simulation of Real-Time scenarios for day-to-day analyses without the need to output the case from the operations model.  In addition, this system change will allow Transmission Service Providers (TSPs) to specify the Generator Regulated voltage setpoints and Generator Regulated Bus Numbers in NMMS for planning purposes which matches with the latest Voltage Profile developed by Voltage Profile Working Group (VPWG).</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96, Price Correction Process Following a SCED Failure</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stablishes a price correction policy which uses the last good price for the intervals covering the first 15 minutes following a SCED failu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6/16/16, PRS voted via roll call vote to recommend approval of NPRR696 as amended by the 10/19/15 Reliant comments.  There were five opposing votes from the Consumer (2), Independent Generator (1), and Independent Power Marketer (IPM) (2), and three abstentions from the Independent Generator (1) and Investor Owner Utility (IOU) (2).  On 7/14/16, PRS voted to endorse and forward to TAC the 6/16/16 PRS Report as revised by PRS and the Impact Analysis for NPRR696.  There were two opposing votes from the Consumer Market Segment and one abstention from the IOU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ptember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Improves price transparency following SCED failur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Removes potential for inaccurate prices resulting from influence of manual actions when stabilizing the system following a SCED failu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Improves price transparency following SCED failu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38, ERS Performance Calculations During TDSP Outages</a:t>
            </a:r>
            <a:endParaRPr b="0" lang="en-US" sz="2000" spc="-1" strike="noStrike">
              <a:solidFill>
                <a:srgbClr val="000000"/>
              </a:solidFill>
              <a:latin typeface="Arial"/>
            </a:endParaRPr>
          </a:p>
        </p:txBody>
      </p:sp>
      <p:graphicFrame>
        <p:nvGraphicFramePr>
          <p:cNvPr id="185"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xcludes intervals from performance calculations for which an ERS Generator is unable to meet its obligations due to Transmission and/or Distribution Service Provider (TDSP) Outag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5/12/16, PRS voted to recommend approval of NPRR738 as amended by the 5/5/16 WMS comments.  There was one opposing vote from the IPM Market Segment.  On 6/16/16, PRS voted to endorse and forward to TAC the 5/12/16 PRS Report as amended by the 5/31/16 MP2 Energy comments and the Impact Analysis for NPRR738.  There was one opposing vote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impacts to Emergency Response Service (ERS) System</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liminates the risk of non-compliance associated with TDSP Outages negatively impacting ERS Generator performance during tests or events, for Qualified Scheduling Entities (QSEs) representing ERS Generators.  Failure to meet ERS obligations may result in reduced ERS payments as well as a Public Utility Commission of Texas (PUCT) notice of violation with corresponding financial penalties ($25,000 per day/per ev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47, Revision of Voltage Control Requirements [ERCOT]</a:t>
            </a:r>
            <a:endParaRPr b="0" lang="en-US" sz="1800" spc="-1" strike="noStrike">
              <a:solidFill>
                <a:srgbClr val="000000"/>
              </a:solidFill>
              <a:latin typeface="Arial"/>
            </a:endParaRPr>
          </a:p>
        </p:txBody>
      </p:sp>
      <p:sp>
        <p:nvSpPr>
          <p:cNvPr id="188"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implementation of Nodal Operating Guide Revision Request (NOGRR) 150, Alignment with NPRR747, Revision of Voltage Control Requirement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NOGRR1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new definitions related to Voltage Profiles, defines various Entities’ responsibilities related to Voltage Support, and also clarifies that the interconnecting Transmission Service Provider (TSP) (or its designated agent) may modify a Generation Resource’s Voltage Set Poi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6/16/16, PRS voted to recommend approval of NPRR747 as amended by the 4/21/16 ERCOT comments.  There was one abstention from the Consumer Market Segment.  On 7/14/16, PRS unanimously voted to endorse and forward to TAC the 6/16/16 PRS Report and Impact Analysis for NPRR7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7, Commitment by RUC for Long Lead Time Resource [ERCOT]</a:t>
            </a:r>
            <a:endParaRPr b="0" lang="en-US" sz="1800" spc="-1" strike="noStrike">
              <a:solidFill>
                <a:srgbClr val="000000"/>
              </a:solidFill>
              <a:latin typeface="Arial"/>
            </a:endParaRPr>
          </a:p>
        </p:txBody>
      </p:sp>
      <p:sp>
        <p:nvSpPr>
          <p:cNvPr id="190"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hanges the eligibility check for the startup portion of the Reliability Unit Commitment (RUC) Make-Whole Payment.  Resources with lead times longer than six hours may submit a Settlement dispute to have their Resource-specific startup times considered when determining eligibility for Startup Costs to be included in the RUC Make-Whole Payment calcul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unanimously voted to recommend approval of NPRR767 as submitted.  On 6/16/16, PRS unanimously voted to endorse and forward to TAC the 5/12/16 PRS Report and the Impact Analysis for NPRR7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7-18T18:26:58Z</dcterms:modified>
  <cp:revision>31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