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6B3B-D42C-4808-8AF4-661D9B9E6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7F0D-1350-4F7B-A7EA-5EC8346CF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4F5E-5A56-468B-8648-54EDE5BD6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F169-A946-4767-B182-D2505D57D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F6F1-4359-4965-AD66-448981817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3293-C7FF-4C4D-B4EF-4AE7F32F3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E993C-A563-43BC-9831-1DB6A68CE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39DA8-76B8-4DA6-A331-A7E5C8B77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601C9-FA26-4034-A002-733F9E389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27655-3FE7-4BE6-9105-133B68EFE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9F50B-A060-411D-9B41-D7BB5E60B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734B0-D078-4410-BA72-F6499635A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BA94D-301A-431B-887A-64AFAD886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3EA97-371B-4F99-9239-B9ACB606E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ACE60-50BA-42F1-B640-2210553D3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72BCB-1EE3-4E63-9559-7571F2803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782C-4458-4391-A199-C0DE05903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C69C-484E-44FD-B651-3AF2DA58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F1363-40DB-4DF4-AA3D-34E02B46B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1722B-0F1F-4179-B69C-ED88EE05D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AFFA-2D71-4751-BA68-CF897CE18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41453-7C19-4BCB-B9A6-9EB22E488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35BC-098D-4E7C-9044-77213EB45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DB989C-AC47-4E98-895F-1EBF69C50E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D75D1-13E3-4F4D-BE8F-A1DF98541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E8896-D07A-4C32-88C3-2E5F76F0D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83764-BAAF-4FB1-BE00-E35584F80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BE4CD-99C9-468A-8590-843F235F5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7358-D118-458E-A5D3-0A18E86F6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28F65-E229-4029-99CD-04113A79A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0FA28-FE94-4C72-B946-64DC3127E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E23B5-861B-4849-ADAD-D1C006078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86581-8B37-46BF-8994-1DBCDD492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0EFEC-604B-483C-925F-304970E3F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F608B3-BBAE-46BC-AC25-59F3ECAD6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0BAAD-6630-42E6-BEA9-D840F7F7C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0C852-0C6A-447C-82AB-F994ABFF92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C3C54-2443-454D-B265-C92E2076F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B250D-ABCE-49D6-83CE-1B6943C76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4FE3-18A9-4B29-8FC9-227CC38E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E7F5C-7BE8-4F5D-AB74-6B55EC91D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FE4CB-F5BB-4729-AD3F-49215CE99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130BE-951D-48D3-A447-9478F195F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6376E-1256-48F5-BA7C-5897010BE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C2614-FB21-4EB0-9267-D01B38BCC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53AC0-4909-45FF-997A-5598CB4D6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6236E-94A3-4B9B-8667-330EEDC6C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9B55D-1CCC-4BC6-A146-39B03137A1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25C5AC-3489-49E9-BBD9-F153EAF291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5BF7AC-F5B2-49D0-9A58-8BAFCA42A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9E241-477C-4D49-9662-A96C19CA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063A8-3FB3-4882-A6FE-DD6EA60A6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2C6D8-1C71-4B07-8792-07326321D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BD66D-2CBB-44AC-AEAC-36DD63E3E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39337-84C3-47BA-9A68-27041D135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C5DEE-CAB6-490E-9780-60044ED36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FFA43-F502-47D6-B194-9D3A6547D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3F13B-B92A-407F-9173-F500F2F7B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81D9D-297F-4FA9-94C2-EB2133BF7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CFB01-927D-4F48-8678-E37FA8FBA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B2C68-1451-47B9-B214-AFC95F6917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1AFC-FEEB-462B-98D7-22BB03554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A9B46E-6E2E-4283-96CB-BA0975537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35A1A2-B871-48B7-BF3A-AD7B3E07B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83C90-0F04-4540-992B-25992A0E3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C17C0-526D-4C6E-8A69-F01F458A7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625C0-1EDB-44B8-B843-BACABDD063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06BD9-1080-4C46-8F6F-35E5C1094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DD859-C23C-4BAD-B590-A9963B8D6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FFAF8-3C1E-4394-BD2E-85C3D19DE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60746-E6FF-4F00-9322-0C0A86ED7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D0CC7-6B25-4AC7-9DBD-3A65AFBAB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B71E-C13C-4145-B488-402424B78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5DCCD-2A7F-4D40-84CD-A5A6FD526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FC049-496C-4D1F-99CD-3AB6CEC076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B10FC2-1DFB-453E-80BD-46C244F132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AD7F4C-082B-426C-937A-9F68F859A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974E6-A574-46B9-8B48-AA4E18129A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80769-2D61-4503-AD38-1784AD3E4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4EFC7-15D6-44FC-8C63-AA29C3E25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2BF34-FD1C-4B34-B41A-021BD772C7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424D7C-0C90-40BE-A99C-610C0E974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D19D8-1107-494E-A558-6C19B1B18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91EB-0C46-424E-88A2-C4E5EE697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7745E-1928-475E-92C7-A87424247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C38C7-D607-4B14-9BA1-CE4553621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5DD6B-05CD-4560-800F-C3E8C3309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49F20A-BF61-43B4-BA8C-588F3E212A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1FD9B-2B9C-4D70-8270-B41B1DB1C7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C3C6-4D82-4D6F-BE35-21C7B9FB8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AE24-49D4-40F6-9724-7159467B04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A4E9-DB8A-4A3E-BEDF-869F9A134B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4FFA-70B8-4374-A1A7-F34D34E074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6BD7-49C8-4478-8FD9-082F0198FE8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142B-6744-4133-A285-02CD4E2764C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E1D4-D751-47CE-8EA8-435FFF7C9F0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72D3-96EF-417A-8F80-B4199E4E693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rcot.com/services/training/course/131#schedule" TargetMode="External"/><Relationship Id="rId2" Type="http://schemas.openxmlformats.org/officeDocument/2006/relationships/hyperlink" Target="http://ercot.com/services/training/course/131#schedule" TargetMode="External"/><Relationship Id="rId3" Type="http://schemas.openxmlformats.org/officeDocument/2006/relationships/hyperlink" Target="http://ercot.com/services/training/course/139#schedule" TargetMode="External"/><Relationship Id="rId4" Type="http://schemas.openxmlformats.org/officeDocument/2006/relationships/hyperlink" Target="http://ercot.com/services/training/course/139#schedule"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77536/13.__EFL_Calc_Fix_Proposal___RPS_Baseline___Updated_for_2015_Values.xlsx" TargetMode="External"/><Relationship Id="rId2" Type="http://schemas.openxmlformats.org/officeDocument/2006/relationships/hyperlink" Target="http://www.ercot.com/content/wcm/key_documents_lists/77536/13.__EFL_Renewable_Content_Calculator___RMS___20160607.pptx"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June 7,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8,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EE77-C6EC-4FC9-90E1-DE0D16D81D9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t>
            </a:r>
            <a:endParaRPr b="0" lang="en-US" sz="3600" spc="-1" strike="noStrike">
              <a:solidFill>
                <a:srgbClr val="572314"/>
              </a:solidFill>
              <a:latin typeface="Gill Sans MT"/>
            </a:endParaRPr>
          </a:p>
        </p:txBody>
      </p:sp>
      <p:sp>
        <p:nvSpPr>
          <p:cNvPr id="382" name=""/>
          <p:cNvSpPr txBox="1"/>
          <p:nvPr/>
        </p:nvSpPr>
        <p:spPr>
          <a:xfrm>
            <a:off x="1066320" y="685800"/>
            <a:ext cx="807732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P Contact List Request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OINT TDSPs Market Communications on 6/27/16: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Notice: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June 7th Retail Market Subcommittee (RMS) meeting, a standardized REP Contact List was reviewed and agreed to by RMS members for TDSPs to begin using when requesting updated contact information from Retail Electric Providers.   Based upon this RMS agreement, the TDSPs will reach out individually to their primary REP contacts to request updated contact information utilizing the attached standardized form.  REPs should expect to receive separate requests from each of the TDSPs.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ank you in advance for your cooperation and assistance by completing this important task </a:t>
            </a:r>
            <a:r>
              <a:rPr b="1" i="1" lang="en-US" sz="1800" spc="-1" strike="noStrike">
                <a:solidFill>
                  <a:srgbClr val="000000"/>
                </a:solidFill>
                <a:latin typeface="Gill Sans MT"/>
              </a:rPr>
              <a:t>no later than one week from the date of request</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ACT:   If you have questions or need clarification related to the REP Contact List, please reply to the TDSP individual who initiated the email reques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46CC-AE51-4F14-9BAB-FA6CAABF55E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2"/>
          <p:cNvGraphicFramePr/>
          <p:nvPr/>
        </p:nvGraphicFramePr>
        <p:xfrm>
          <a:off x="4572000" y="5562720"/>
          <a:ext cx="914400" cy="771480"/>
        </p:xfrm>
        <a:graphic>
          <a:graphicData uri="http://schemas.openxmlformats.org/presentationml/2006/ole">
            <p:oleObj r:id="rId1" spid="">
              <p:embed/>
              <p:pic>
                <p:nvPicPr>
                  <p:cNvPr id="389" name="Object 2" descr=""/>
                  <p:cNvPicPr/>
                  <p:nvPr/>
                </p:nvPicPr>
                <p:blipFill>
                  <a:blip r:embed="rId2"/>
                  <a:stretch/>
                </p:blipFill>
                <p:spPr>
                  <a:xfrm>
                    <a:off x="4572000" y="5562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391" name=""/>
          <p:cNvSpPr txBox="1"/>
          <p:nvPr/>
        </p:nvSpPr>
        <p:spPr>
          <a:xfrm>
            <a:off x="1066320" y="299520"/>
            <a:ext cx="807732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haryland System-Wide Rates Operational Review Discussion: </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riginally scheduled on Monday, July 18</a:t>
            </a:r>
            <a:r>
              <a:rPr b="1" lang="en-US" sz="2400" spc="-1" strike="noStrike" baseline="30000">
                <a:solidFill>
                  <a:srgbClr val="000000"/>
                </a:solidFill>
                <a:latin typeface="Gill Sans MT"/>
              </a:rPr>
              <a:t>th</a:t>
            </a:r>
            <a:r>
              <a:rPr b="1" lang="en-US" sz="2400" spc="-1" strike="noStrike">
                <a:solidFill>
                  <a:srgbClr val="000000"/>
                </a:solidFill>
                <a:latin typeface="Gill Sans MT"/>
              </a:rPr>
              <a:t>, has been rescheduled as an additional agenda item within RMS’  August 2</a:t>
            </a:r>
            <a:r>
              <a:rPr b="1" lang="en-US" sz="2400" spc="-1" strike="noStrike" baseline="30000">
                <a:solidFill>
                  <a:srgbClr val="000000"/>
                </a:solidFill>
                <a:latin typeface="Gill Sans MT"/>
              </a:rPr>
              <a:t>nd</a:t>
            </a:r>
            <a:r>
              <a:rPr b="1" lang="en-US" sz="2400" spc="-1" strike="noStrike">
                <a:solidFill>
                  <a:srgbClr val="000000"/>
                </a:solidFill>
                <a:latin typeface="Gill Sans MT"/>
              </a:rPr>
              <a:t> meeting.  This topic will be taken up following lunch at 1:30 PM – 3:30 PM</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would allow travelers to Austin to utilize their travel budgets more efficiently since more than likely they were already planning to attend RMS.   </a:t>
            </a:r>
            <a:endParaRPr b="0" lang="en-US" sz="1800" spc="-1" strike="noStrike">
              <a:solidFill>
                <a:srgbClr val="000000"/>
              </a:solidFill>
              <a:latin typeface="Gill Sans MT"/>
            </a:endParaRPr>
          </a:p>
          <a:p>
            <a:pPr lvl="4" marL="1114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C086-3004-4071-A0D2-5CFD4F522F7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 name="Object 2"/>
          <p:cNvGraphicFramePr/>
          <p:nvPr/>
        </p:nvGraphicFramePr>
        <p:xfrm>
          <a:off x="4572000" y="4114800"/>
          <a:ext cx="914400" cy="771480"/>
        </p:xfrm>
        <a:graphic>
          <a:graphicData uri="http://schemas.openxmlformats.org/presentationml/2006/ole">
            <p:oleObj r:id="rId1" spid="">
              <p:embed/>
              <p:pic>
                <p:nvPicPr>
                  <p:cNvPr id="398" name="Object 2" descr=""/>
                  <p:cNvPicPr/>
                  <p:nvPr/>
                </p:nvPicPr>
                <p:blipFill>
                  <a:blip r:embed="rId2"/>
                  <a:stretch/>
                </p:blipFill>
                <p:spPr>
                  <a:xfrm>
                    <a:off x="4572000" y="4114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pic>
        <p:nvPicPr>
          <p:cNvPr id="400" name="Content Placeholder 2" descr=""/>
          <p:cNvPicPr/>
          <p:nvPr/>
        </p:nvPicPr>
        <p:blipFill>
          <a:blip r:embed="rId1"/>
          <a:stretch/>
        </p:blipFill>
        <p:spPr>
          <a:xfrm>
            <a:off x="1066680" y="152280"/>
            <a:ext cx="8169480" cy="6193080"/>
          </a:xfrm>
          <a:prstGeom prst="rect">
            <a:avLst/>
          </a:prstGeom>
          <a:ln w="0">
            <a:noFill/>
          </a:ln>
        </p:spPr>
      </p:pic>
      <p:sp>
        <p:nvSpPr>
          <p:cNvPr id="40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0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A9E0-377D-4B3A-A73A-1C3D541A17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407" name=""/>
          <p:cNvSpPr txBox="1"/>
          <p:nvPr/>
        </p:nvSpPr>
        <p:spPr>
          <a:xfrm>
            <a:off x="1066320" y="299520"/>
            <a:ext cx="8077320" cy="57913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orkshops:  </a:t>
            </a:r>
            <a:endParaRPr b="0" lang="en-US" sz="32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  </a:t>
            </a:r>
            <a:r>
              <a:rPr b="0" lang="en-US" sz="2400" spc="-1" strike="noStrike">
                <a:solidFill>
                  <a:srgbClr val="000000"/>
                </a:solidFill>
                <a:latin typeface="Gill Sans MT"/>
              </a:rPr>
              <a:t>– </a:t>
            </a:r>
            <a:r>
              <a:rPr b="1" lang="en-US" sz="2400" spc="-1" strike="noStrike">
                <a:solidFill>
                  <a:srgbClr val="000000"/>
                </a:solidFill>
                <a:latin typeface="Gill Sans MT"/>
              </a:rPr>
              <a:t>Tuesday, July 12, 2016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and discussed ERCOT’s list of assumptions and potential timelines in which AMS data could be posted to SMT.  In that review we identified a potential 4-5 hour delay based upon current timelines and data processes that includes when AMS data is available to ERCOT for staging and system validations.  </a:t>
            </a:r>
            <a:endParaRPr b="0" lang="en-US" sz="20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100214/ERCOT_High_Level_Concept.docx  </a:t>
            </a:r>
            <a:endParaRPr b="0" lang="en-US" sz="1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and discussed SMT/JDOA’s assumptions and potential timelines in which data could be available to the REPS for their downloading from SMT.  In that additional review we identified another potential 2-3 hour lag due to SMT’s system validations.  </a:t>
            </a:r>
            <a:endParaRPr b="0" lang="en-US" sz="20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100214/SMT_15_Minute_Interval_Data_Feed_from_ERCOT_7.12.16_V2.doc </a:t>
            </a:r>
            <a:endParaRPr b="0" lang="en-US" sz="1800" spc="-1" strike="noStrike">
              <a:solidFill>
                <a:srgbClr val="000000"/>
              </a:solidFill>
              <a:latin typeface="Gill Sans MT"/>
            </a:endParaRPr>
          </a:p>
        </p:txBody>
      </p:sp>
      <p:sp>
        <p:nvSpPr>
          <p:cNvPr id="4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ACAB-9267-4700-A15E-CC996F2997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414" name=""/>
          <p:cNvSpPr txBox="1"/>
          <p:nvPr/>
        </p:nvSpPr>
        <p:spPr>
          <a:xfrm>
            <a:off x="1066320" y="228240"/>
            <a:ext cx="8077320" cy="57913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orkshops:  </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 – July 12, 2016 </a:t>
            </a:r>
            <a:endParaRPr b="0" lang="en-US" sz="24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Based upon what is known to-date by ERCOT and SMT/JDOA, a high level cost estimate was provided: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1.5 Million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T/JDOA, </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250,000 - $500,000 </a:t>
            </a:r>
            <a:endParaRPr b="0" lang="en-US" sz="20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ction Items and Next Steps: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and SMT/JDOA was requested to provide a comprehensive timeline of their processes (staging, data validations at file and ESI ID level and blackout windows) on both ERCOT and SMT systems so REPs may understand potential lag times before  AMS LSE data is available to CRs and Customers on SMT.   This will be provided during…………..</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I </a:t>
            </a:r>
            <a:r>
              <a:rPr b="1" lang="en-US" sz="2400" spc="-1" strike="noStrike">
                <a:solidFill>
                  <a:srgbClr val="c00000"/>
                </a:solidFill>
                <a:latin typeface="Gill Sans MT"/>
              </a:rPr>
              <a:t>– August 23, 2016 at 1:00 PM – 4:00 PM </a:t>
            </a:r>
            <a:r>
              <a:rPr b="0" lang="en-US" sz="2400" spc="-1" strike="noStrike">
                <a:solidFill>
                  <a:srgbClr val="000000"/>
                </a:solidFill>
                <a:latin typeface="Gill Sans MT"/>
              </a:rPr>
              <a:t>following the monthly AMWG meeting</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1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710A-64C0-47F7-8B28-93986C2F855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2B3B-23DA-4F47-8A8A-48BEF54C2E5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2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24"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138, Revision to Oncor’s Requirement for REPs to Send Prepay ESI ID List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6/7/16  RMS</a:t>
            </a:r>
            <a:r>
              <a:rPr b="0" lang="en-US" sz="2000" spc="-1" strike="noStrike">
                <a:solidFill>
                  <a:srgbClr val="000000"/>
                </a:solidFill>
                <a:latin typeface="Gill Sans MT"/>
              </a:rPr>
              <a:t> </a:t>
            </a:r>
            <a:r>
              <a:rPr b="1" lang="en-US" sz="2000" spc="-1" strike="noStrike">
                <a:solidFill>
                  <a:srgbClr val="000000"/>
                </a:solidFill>
                <a:latin typeface="Gill Sans MT"/>
              </a:rPr>
              <a:t>(Vote)</a:t>
            </a:r>
            <a:r>
              <a:rPr b="0" lang="en-US" sz="2000" spc="-1" strike="noStrike">
                <a:solidFill>
                  <a:srgbClr val="000000"/>
                </a:solidFill>
                <a:latin typeface="Gill Sans MT"/>
              </a:rPr>
              <a:t>:  RMS voted Unanimously to  “Approve” RMGRR138 along with the Impact Analysis that reflects No Cost Impacts to ERCOT.   This RMGRR will be effective upon TAC’s Approval.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7/28/16 TAC (Vote):  </a:t>
            </a:r>
            <a:r>
              <a:rPr b="1" lang="en-US" sz="2000" spc="-1" strike="noStrike">
                <a:solidFill>
                  <a:srgbClr val="c00000"/>
                </a:solidFill>
                <a:latin typeface="Gill Sans MT"/>
              </a:rPr>
              <a:t>RMS recommends TAC’s Approval of RMGRR138 </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313C-5538-48CD-869F-74C384BE715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53 and RMGRR134, Allow AMS Data Submittal Process for TDSP-Read Non-Modeled Generator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5/03/16 RMS (Vote)</a:t>
            </a:r>
            <a:r>
              <a:rPr b="0" lang="en-US" sz="1600" spc="-1" strike="noStrike">
                <a:solidFill>
                  <a:srgbClr val="000000"/>
                </a:solidFill>
                <a:latin typeface="Gill Sans MT"/>
              </a:rPr>
              <a:t>:  NPRR753 received Unanimous Endorsement, however,  the associated RMGRR134 was Approved with 5 Abstentions coming from Consumer and IOU Segments.  The IOU segment’s concerns are violating Customer’s data confidentiality and privacy by providing their generation data to Smart Meter Texas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12/16 PRS</a:t>
            </a:r>
            <a:r>
              <a:rPr b="0" lang="en-US" sz="1600" spc="-1" strike="noStrike">
                <a:solidFill>
                  <a:srgbClr val="000000"/>
                </a:solidFill>
                <a:latin typeface="Gill Sans MT"/>
              </a:rPr>
              <a:t> </a:t>
            </a:r>
            <a:r>
              <a:rPr b="1" lang="en-US" sz="1600" spc="-1" strike="noStrike">
                <a:solidFill>
                  <a:srgbClr val="000000"/>
                </a:solidFill>
                <a:latin typeface="Gill Sans MT"/>
              </a:rPr>
              <a:t>(Vote):  </a:t>
            </a:r>
            <a:r>
              <a:rPr b="0" lang="en-US" sz="1600" spc="-1" strike="noStrike">
                <a:solidFill>
                  <a:srgbClr val="000000"/>
                </a:solidFill>
                <a:latin typeface="Gill Sans MT"/>
              </a:rPr>
              <a:t>Approved NPRR753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Impact Analysis Review (Vote)</a:t>
            </a:r>
            <a:r>
              <a:rPr b="0" lang="en-US" sz="1600" spc="-1" strike="noStrike">
                <a:solidFill>
                  <a:srgbClr val="000000"/>
                </a:solidFill>
                <a:latin typeface="Gill Sans MT"/>
              </a:rPr>
              <a:t>:  RMS voted to “Table” RMGRR134’s Impact Analysis along with a recommendation asking PRS to “Table” NPRR753 for a month.</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Impact Analysis Review (Vote)</a:t>
            </a:r>
            <a:r>
              <a:rPr b="0" lang="en-US" sz="1600" spc="-1" strike="noStrike">
                <a:solidFill>
                  <a:srgbClr val="000000"/>
                </a:solidFill>
                <a:latin typeface="Gill Sans MT"/>
              </a:rPr>
              <a:t>:   Agreed to “Table “NPRR753 as Recommended by RMS</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FC09-63E3-4EFC-B339-4167DB46787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 </a:t>
            </a:r>
            <a:endParaRPr b="0" lang="en-US" sz="3600" spc="-1" strike="noStrike">
              <a:solidFill>
                <a:srgbClr val="572314"/>
              </a:solidFill>
              <a:latin typeface="Gill Sans MT"/>
            </a:endParaRPr>
          </a:p>
        </p:txBody>
      </p:sp>
      <p:sp>
        <p:nvSpPr>
          <p:cNvPr id="348" name=""/>
          <p:cNvSpPr txBox="1"/>
          <p:nvPr/>
        </p:nvSpPr>
        <p:spPr>
          <a:xfrm>
            <a:off x="914400" y="8380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1, Clarifications to New ESI ID Creation Proces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clarifies that the TDSP(s) must ensure that an ESI ID has been created in the ERCOT systems prior to initiating electric service at a Premise. </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1</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 and 7/14 PRS (Vote)</a:t>
            </a:r>
            <a:r>
              <a:rPr b="0" lang="en-US" sz="1600" spc="-1" strike="noStrike">
                <a:solidFill>
                  <a:srgbClr val="000000"/>
                </a:solidFill>
                <a:latin typeface="Gill Sans MT"/>
              </a:rPr>
              <a:t>: Language and IA was Approved – Recommended to TAC</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and RMGRR139, Modifications to Date Changes and Cancellation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RMGRR) modifies the evaluation window for date changes and a cancellation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8 and Unanimously “Approved” RMGRR139.   Impact Analysis review of NPRR778 and RMGRR139 planned for the August 2</a:t>
            </a:r>
            <a:r>
              <a:rPr b="0" lang="en-US" sz="1600" spc="-1" strike="noStrike" baseline="30000">
                <a:solidFill>
                  <a:srgbClr val="000000"/>
                </a:solidFill>
                <a:latin typeface="Gill Sans MT"/>
              </a:rPr>
              <a:t>nd</a:t>
            </a:r>
            <a:r>
              <a:rPr b="0" lang="en-US" sz="1600" spc="-1" strike="noStrike">
                <a:solidFill>
                  <a:srgbClr val="000000"/>
                </a:solidFill>
                <a:latin typeface="Gill Sans MT"/>
              </a:rPr>
              <a:t> RMS meeting.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 and 7/14 PRS (Vote): </a:t>
            </a:r>
            <a:r>
              <a:rPr b="0" lang="en-US" sz="1600" spc="-1" strike="noStrike">
                <a:solidFill>
                  <a:srgbClr val="000000"/>
                </a:solidFill>
                <a:latin typeface="Gill Sans MT"/>
              </a:rPr>
              <a:t>Language Approved but IA was requested to be “Tabled”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AF0B-52B1-4951-A5BA-19FFB95502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 </a:t>
            </a:r>
            <a:endParaRPr b="0" lang="en-US" sz="3600" spc="-1" strike="noStrike">
              <a:solidFill>
                <a:srgbClr val="572314"/>
              </a:solidFill>
              <a:latin typeface="Gill Sans MT"/>
            </a:endParaRPr>
          </a:p>
        </p:txBody>
      </p:sp>
      <p:sp>
        <p:nvSpPr>
          <p:cNvPr id="353"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0, Efficiencies for Acquisition Transfe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allows ERCOT added flexibility to execute an Acquisition Transfer in an expedited manner in an attempt to prevent a Mass Transition event</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0.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1, Clarifying Procedures for Market Participants During an Extended Unplanned System Outag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clarifies procedures during an extended unplanned system outage.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1.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3ECA-DB80-4CF5-8DB4-2FDB554397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01</a:t>
            </a:r>
            <a:r>
              <a:rPr b="0" lang="en-US" sz="2800" spc="-1" strike="noStrike">
                <a:solidFill>
                  <a:srgbClr val="000000"/>
                </a:solidFill>
                <a:latin typeface="Gill Sans MT"/>
              </a:rPr>
              <a:t> </a:t>
            </a:r>
            <a:r>
              <a:rPr b="0" lang="en-US" sz="2800" spc="-1" strike="noStrike">
                <a:solidFill>
                  <a:srgbClr val="c00000"/>
                </a:solidFill>
                <a:latin typeface="Gill Sans MT"/>
              </a:rPr>
              <a:t>(-58</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276 </a:t>
            </a:r>
            <a:r>
              <a:rPr b="0" lang="en-US" sz="2800" spc="-1" strike="noStrike">
                <a:solidFill>
                  <a:srgbClr val="000000"/>
                </a:solidFill>
                <a:latin typeface="Gill Sans MT"/>
              </a:rPr>
              <a:t>(</a:t>
            </a:r>
            <a:r>
              <a:rPr b="0" lang="en-US" sz="2800" spc="-1" strike="noStrike">
                <a:solidFill>
                  <a:srgbClr val="c00000"/>
                </a:solidFill>
                <a:latin typeface="Gill Sans MT"/>
              </a:rPr>
              <a:t>-74</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226 (</a:t>
            </a:r>
            <a:r>
              <a:rPr b="0" lang="en-US" sz="2400" spc="-1" strike="noStrike">
                <a:solidFill>
                  <a:srgbClr val="c00000"/>
                </a:solidFill>
                <a:latin typeface="Gill Sans MT"/>
              </a:rPr>
              <a:t>-53</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45  (</a:t>
            </a:r>
            <a:r>
              <a:rPr b="0" lang="en-US" sz="2000" spc="-1" strike="noStrike">
                <a:solidFill>
                  <a:srgbClr val="c00000"/>
                </a:solidFill>
                <a:latin typeface="Gill Sans MT"/>
              </a:rPr>
              <a:t>-24</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00  (</a:t>
            </a:r>
            <a:r>
              <a:rPr b="0" lang="en-US" sz="2000" spc="-1" strike="noStrike">
                <a:solidFill>
                  <a:srgbClr val="c00000"/>
                </a:solidFill>
                <a:latin typeface="Gill Sans MT"/>
              </a:rPr>
              <a:t>-39</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9,086</a:t>
            </a:r>
            <a:r>
              <a:rPr b="0" lang="en-US" sz="2800" spc="-1" strike="noStrike">
                <a:solidFill>
                  <a:srgbClr val="000000"/>
                </a:solidFill>
                <a:latin typeface="Gill Sans MT"/>
              </a:rPr>
              <a:t> </a:t>
            </a:r>
            <a:r>
              <a:rPr b="1" lang="en-US" sz="2800" spc="-1" strike="noStrike">
                <a:solidFill>
                  <a:srgbClr val="000000"/>
                </a:solidFill>
                <a:latin typeface="Gill Sans MT"/>
              </a:rPr>
              <a:t>(+    656)</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57,743</a:t>
            </a:r>
            <a:r>
              <a:rPr b="1" lang="en-US" sz="2800" spc="-1" strike="noStrike">
                <a:solidFill>
                  <a:srgbClr val="000000"/>
                </a:solidFill>
                <a:latin typeface="Gill Sans MT"/>
              </a:rPr>
              <a:t> (+12,998)</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90,673</a:t>
            </a:r>
            <a:r>
              <a:rPr b="0" lang="en-US" sz="2800" spc="-1" strike="noStrike">
                <a:solidFill>
                  <a:srgbClr val="c00000"/>
                </a:solidFill>
                <a:latin typeface="Gill Sans MT"/>
              </a:rPr>
              <a:t> </a:t>
            </a:r>
            <a:r>
              <a:rPr b="1" lang="en-US" sz="2800" spc="-1" strike="noStrike">
                <a:solidFill>
                  <a:srgbClr val="000000"/>
                </a:solidFill>
                <a:latin typeface="Gill Sans MT"/>
              </a:rPr>
              <a:t>(+13,432</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21A1-9379-4A66-99D5-844AC66E3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142640" y="914040"/>
            <a:ext cx="7986600" cy="5334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29</a:t>
            </a:r>
            <a:r>
              <a:rPr b="1" lang="en-US" sz="2700" spc="-1" strike="noStrike">
                <a:solidFill>
                  <a:srgbClr val="c00000"/>
                </a:solidFill>
                <a:latin typeface="Gill Sans MT"/>
              </a:rPr>
              <a:t> (5/1/16)</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949 (</a:t>
            </a:r>
            <a:r>
              <a:rPr b="1" lang="en-US" sz="2700" spc="-1" strike="noStrike">
                <a:solidFill>
                  <a:srgbClr val="c00000"/>
                </a:solidFill>
                <a:latin typeface="Gill Sans MT"/>
              </a:rPr>
              <a:t>-337</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56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 CNP = 417; Oncor = 1,531</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51   </a:t>
            </a:r>
            <a:r>
              <a:rPr b="1" lang="en-US" sz="2700" spc="-1" strike="noStrike">
                <a:solidFill>
                  <a:srgbClr val="c00000"/>
                </a:solidFill>
                <a:latin typeface="Gill Sans MT"/>
              </a:rPr>
              <a:t>(-135</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574  (</a:t>
            </a:r>
            <a:r>
              <a:rPr b="1" lang="en-US" sz="2700" spc="-1" strike="noStrike">
                <a:solidFill>
                  <a:srgbClr val="c00000"/>
                </a:solidFill>
                <a:latin typeface="Gill Sans MT"/>
              </a:rPr>
              <a:t>-107</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88   (+2)</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9    (NC)</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5,111</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7</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2</a:t>
            </a:r>
            <a:endParaRPr b="0" lang="en-US" sz="2000" spc="-1" strike="noStrike">
              <a:solidFill>
                <a:srgbClr val="000000"/>
              </a:solidFill>
              <a:latin typeface="Gill Sans MT"/>
            </a:endParaRPr>
          </a:p>
        </p:txBody>
      </p:sp>
      <p:sp>
        <p:nvSpPr>
          <p:cNvPr id="363"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6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F823-2D5B-4E86-9C02-BEFEF41D2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68" name=""/>
          <p:cNvSpPr txBox="1"/>
          <p:nvPr/>
        </p:nvSpPr>
        <p:spPr>
          <a:xfrm>
            <a:off x="1066320" y="609480"/>
            <a:ext cx="8077320" cy="563904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Learning Management System (LMS) –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ine Training Modules completed by </a:t>
            </a:r>
            <a:r>
              <a:rPr b="1" lang="en-US" sz="2000" spc="-1" strike="noStrike">
                <a:solidFill>
                  <a:srgbClr val="c00000"/>
                </a:solidFill>
                <a:latin typeface="Gill Sans MT"/>
              </a:rPr>
              <a:t>492</a:t>
            </a:r>
            <a:r>
              <a:rPr b="0" lang="en-US" sz="2000" spc="-1" strike="noStrike">
                <a:solidFill>
                  <a:srgbClr val="000000"/>
                </a:solidFill>
                <a:latin typeface="Gill Sans MT"/>
              </a:rPr>
              <a:t> </a:t>
            </a:r>
            <a:r>
              <a:rPr b="1" lang="en-US" sz="2000" spc="-1" strike="noStrike">
                <a:solidFill>
                  <a:srgbClr val="000000"/>
                </a:solidFill>
                <a:latin typeface="Gill Sans MT"/>
              </a:rPr>
              <a:t>Market Participants </a:t>
            </a:r>
            <a:r>
              <a:rPr b="0" lang="en-US" sz="2000" spc="-1" strike="noStrike">
                <a:solidFill>
                  <a:srgbClr val="000000"/>
                </a:solidFill>
                <a:latin typeface="Gill Sans MT"/>
              </a:rPr>
              <a:t>across all market segments</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TTF continues to meet monthly to review new Online Training Modules,  voice over scripts and create test questions for each module.   </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Roadshow:</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6 ERCOT and MPs Instructor Led Classes  </a:t>
            </a:r>
            <a:endParaRPr b="0" lang="en-US" sz="22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sted at CenterPoint Energy’s Office:  1111 Louisiana Street Houston ,  TX  77002 in Training Room 1360 (13</a:t>
            </a:r>
            <a:r>
              <a:rPr b="0" lang="en-US" sz="2000" spc="-1" strike="noStrike" baseline="30000">
                <a:solidFill>
                  <a:srgbClr val="000000"/>
                </a:solidFill>
                <a:latin typeface="Gill Sans MT"/>
              </a:rPr>
              <a:t>th</a:t>
            </a:r>
            <a:r>
              <a:rPr b="0" lang="en-US" sz="2000" spc="-1" strike="noStrike">
                <a:solidFill>
                  <a:srgbClr val="000000"/>
                </a:solidFill>
                <a:latin typeface="Gill Sans MT"/>
              </a:rPr>
              <a:t> Floor) </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etail 101</a:t>
            </a:r>
            <a:r>
              <a:rPr b="1" lang="en-US" sz="2200" spc="-1" strike="noStrike">
                <a:solidFill>
                  <a:srgbClr val="000000"/>
                </a:solidFill>
                <a:latin typeface="Gill Sans MT"/>
              </a:rPr>
              <a:t>:    Tuesday,  September 27,  2016</a:t>
            </a:r>
            <a:endParaRPr b="0" lang="en-US" sz="22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a:t>
            </a:r>
            <a:r>
              <a:rPr b="0" lang="en-US" sz="2000" spc="-1" strike="noStrike" u="sng">
                <a:solidFill>
                  <a:srgbClr val="8dc765"/>
                </a:solidFill>
                <a:uFillTx/>
                <a:latin typeface="Gill Sans MT"/>
                <a:hlinkClick r:id="rId2"/>
              </a:rPr>
              <a:t>ercot.com/services/training/course/131#schedule</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MarkeTrak 101</a:t>
            </a:r>
            <a:r>
              <a:rPr b="1" lang="en-US" sz="2200" spc="-1" strike="noStrike">
                <a:solidFill>
                  <a:srgbClr val="000000"/>
                </a:solidFill>
                <a:latin typeface="Gill Sans MT"/>
              </a:rPr>
              <a:t>:   Wednesday,  September 28, 2016 </a:t>
            </a:r>
            <a:endParaRPr b="0" lang="en-US" sz="22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3"/>
              </a:rPr>
              <a:t>http://</a:t>
            </a:r>
            <a:r>
              <a:rPr b="0" lang="en-US" sz="2000" spc="-1" strike="noStrike" u="sng">
                <a:solidFill>
                  <a:srgbClr val="8dc765"/>
                </a:solidFill>
                <a:uFillTx/>
                <a:latin typeface="Gill Sans MT"/>
                <a:hlinkClick r:id="rId4"/>
              </a:rPr>
              <a:t>ercot.com/services/training/course/139#schedule</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E4BA-B6FF-437A-BF18-0979244BE7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FL Renewable Content Calculator </a:t>
            </a:r>
            <a:endParaRPr b="0" lang="en-US" sz="3600" spc="-1" strike="noStrike">
              <a:solidFill>
                <a:srgbClr val="572314"/>
              </a:solidFill>
              <a:latin typeface="Gill Sans MT"/>
            </a:endParaRPr>
          </a:p>
        </p:txBody>
      </p:sp>
      <p:sp>
        <p:nvSpPr>
          <p:cNvPr id="375" name=""/>
          <p:cNvSpPr txBox="1"/>
          <p:nvPr/>
        </p:nvSpPr>
        <p:spPr>
          <a:xfrm>
            <a:off x="1066320" y="68580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ity Facts Label (EFL) Renewable Content Calculator</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a:t>
            </a:r>
            <a:r>
              <a:rPr b="0" lang="en-US" sz="1800" spc="-1" strike="noStrike" u="sng">
                <a:solidFill>
                  <a:srgbClr val="8dc765"/>
                </a:solidFill>
                <a:uFillTx/>
                <a:latin typeface="Gill Sans MT"/>
                <a:hlinkClick r:id="rId1"/>
              </a:rPr>
              <a:t>://www.ercot.com/content/wcm/key_documents_lists/77536/13.__EFL_Calc_Fix_Proposal___RPS_Baseline___Updated_for_2015_Values.xlsx</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www.ercot.com/content/wcm/key_documents_lists/77536/13.__EFL_Renewable_Content_Calculator___RMS___20160607.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ons with ERCOT had already been conducted to establish an agreement on certain minor changes to EFL Calculator for next year to enhance its usability, such as:</a:t>
            </a:r>
            <a:endParaRPr b="0" lang="en-US" sz="20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ing benchmark value, de-emphasizing emissions data that is no longer required, incorporating out-of-state renewable contracts.  Per Ted Hailu (ERCOT)  these changes would be slated for future enhancements.  </a:t>
            </a: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d brought to RMS to get stakeholder guidance on additional changes regarding EFL calculator mechanic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xt Steps</a:t>
            </a:r>
            <a:r>
              <a:rPr b="0" lang="en-US" sz="2000" spc="-1" strike="noStrike">
                <a:solidFill>
                  <a:srgbClr val="000000"/>
                </a:solidFill>
                <a:latin typeface="Gill Sans MT"/>
              </a:rPr>
              <a:t>:  Ned Bonskowski (Luminant) will work with ERCOT and PUCT’s Legal for their guidance to develop recommendations  of which rule changes would be necessary.   </a:t>
            </a:r>
            <a:endParaRPr b="0" lang="en-US" sz="20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54A6-2D1D-402D-850E-C15290FA266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7-21T15:33:09Z</dcterms:modified>
  <cp:revision>1460</cp:revision>
  <dc:subject/>
  <dc:title>Instructions</dc:title>
</cp:coreProperties>
</file>