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FFB2-8EE0-4FC6-ABB8-C33ACE334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1534-0763-4A16-8E3B-BD7F63CEF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10FA-993A-4881-B0ED-872CD47DB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1EEB-051E-4604-ADAA-7901E8D0B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2CEF-E19D-4050-85BF-DE3400EBB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0A66-BDAF-4B3C-A6FC-1A51E076A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28AA0-1471-4A1B-8476-AEC3CA3D4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72196-8646-4525-B6BC-D15EEA91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5BE10-42C1-4DF1-8CAC-1160E93B3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6CBD0-997B-4061-A1DF-179CC635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26A5A-9CBA-4144-9FC8-2850B989D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C9287-D58F-4D43-970A-D68C042DF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503C7-D163-4486-8A49-85FE35E2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EBAC7-8A2D-4DE1-B9E8-C80F79051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CEA38-A79A-493C-ACFD-D7AE676E4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48653-8951-48D8-A938-0EFD69812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5706-0968-4AC5-B1F2-E337755AE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0D52-A86C-4B8C-B88D-ADB43CF20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51EA-0BFA-4FA8-8C8C-81DFA1C30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21D8-73D4-4908-B006-15F278C74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45B32-DE4F-4FDE-AC16-8C3C01CD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C5EEF-2415-4872-BB04-68552CFB0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56B5A-BBE3-43AB-B87B-7B98C8A63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577968-5540-4422-850F-C0865040A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2DEE7-7A76-4F0A-B781-B4FE2E39B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D4B3E-01BE-494D-89D2-CEA8FE339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D6BF8-1AE0-412C-94AF-92B827933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3DE7A-ABAB-405F-895B-21D0CC7A3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FCE4-74AF-4AA7-A25D-EFF7A3D25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90BCA-1E6C-4953-B346-E693C63EB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A61F9-7F43-432C-B730-D16E28EFA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C1458-DE12-4678-AA4C-D7F71E5E9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1BBEA-7775-4013-A751-0B576FE83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5D0E25-BF93-46DE-819C-79BA02603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40A39-EFC8-4EDD-8D18-B3F62A83B9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3C67C6-99F1-4FFA-B49A-35B10F408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C27D91-E24D-47E0-8373-089E682317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8178B7-D88E-4402-A709-DF399B9DB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3980C-5216-45DC-B6E8-953FA1303E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8C5B1-A77B-41C4-8C82-AA735953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E68573-8158-4405-82D9-66BD7CEFB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0B9A0-B108-45FD-B84B-E5DC6AB7B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79CF2-F1CC-4285-B5DC-0F7076CCA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3823C-4639-4CC3-A6A9-4F357CE7C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AF07D-FCDF-4D47-8634-9ED7CA588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057F6-96A5-4FC1-A0A9-AA1981984F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4342E-919F-470A-920A-428B9C9C5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A38EC-47F7-4A77-94C9-AD99FBDD6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8A6BB4-9C47-4A9A-AD0B-A5A8724B1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1607F6-359A-431A-A311-67C939E056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76C1-6B6B-4416-ADE2-298D0BF39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40FEB-E2AA-4634-965F-D4FE928BD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05C42-4ED8-4D6B-8639-EAF598731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2D3A2-E0B8-421D-8AFE-E87AC452FF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F419A-7C25-429E-858D-A404FB4CE6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C8430F-0676-4F62-AD18-A5F58EE4E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AC4C1-48E9-48BE-9C80-5F96C69F87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1A072-5C64-4B51-BA01-BEF7306EE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8ACEEF-CA30-484F-A7D6-28CDC941F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03299-6A2E-4766-BD3B-D04F72AA9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5D94F8-E319-492E-8700-22BD853E5E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B49FD-21E2-4072-8CCB-D9345CFC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14AEEF-1E0C-4653-911F-48EB807716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5ADE8C-8C7F-4FBD-ABB3-3D4B9D550A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23B893-01D1-4570-A8D4-9881AA7E8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1676D-325C-42DC-9605-10EB8C747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87C04-B0BD-4149-81C9-8D7B19FFA8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C347A9-1F5C-4794-8DF1-04C061DB1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ECEAB7-C3CB-4450-8DBD-6AA0F9656C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46EDC-6AE9-4191-A7E3-631FE2F39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96D2E-4263-4D82-A532-5727467DB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DC8D2-8532-48D9-8C01-8A4302BED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8EF0-8645-453B-930D-521E1B09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BE65F-CCF0-440A-B1D9-9A4C81DBC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C0A031-7851-49E5-B14E-668DE873FE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CCD91B-264F-475F-ABB2-759929C3D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173AB8-BC63-4CE1-92DC-DE5DAB9CBD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AC0645-7FDA-4E4C-BCA5-D025D7FFA6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F81FF6-B373-4A48-818C-542DE8E55E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B7D07A-9A46-4524-947E-15BA60337D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1B466-76E9-4428-BCD9-8B0791AED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39A3C6-760F-4AB7-B827-1502E9D83C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AE018-CECB-4ADC-8066-6BDD198FC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E0AC-BD27-46EF-930B-3BF258754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BE6213-CE88-4CE3-970B-C4ECC951F5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2FB6F-4BF4-457D-B1E9-08E09BC9F0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E67997-E5BD-4E50-868C-4DF7CFBA22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D8D295-133B-4CE0-93FC-4A5965E10C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2479A9-5E3F-4905-814D-6E5C525569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A8F5-3125-4845-BD58-108E0A62DD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92B7-A9C5-4279-A99C-688F838CCC7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B072-6626-4F8D-A5B0-5EFAC5A195D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E7C7-B4BC-491B-9E2C-DA1110FAF78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EEF9-1209-4D2C-B986-E39BDB14491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E75E-3088-4E27-88BF-008746C19B2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DE00-036E-4B89-A71F-F16BC8301C5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093B-B21B-466F-9975-7EB9B5F5E8C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rcot.com/services/training/course/131#schedule" TargetMode="External"/><Relationship Id="rId2" Type="http://schemas.openxmlformats.org/officeDocument/2006/relationships/hyperlink" Target="http://ercot.com/services/training/course/131#schedule" TargetMode="External"/><Relationship Id="rId3" Type="http://schemas.openxmlformats.org/officeDocument/2006/relationships/hyperlink" Target="http://ercot.com/services/training/course/139#schedule"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June 7, 2016</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3,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B194-35FF-40F0-817D-67C3E79583F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t>
            </a:r>
            <a:endParaRPr b="0" lang="en-US" sz="3600" spc="-1" strike="noStrike">
              <a:solidFill>
                <a:srgbClr val="572314"/>
              </a:solidFill>
              <a:latin typeface="Gill Sans MT"/>
            </a:endParaRPr>
          </a:p>
        </p:txBody>
      </p:sp>
      <p:sp>
        <p:nvSpPr>
          <p:cNvPr id="382" name=""/>
          <p:cNvSpPr txBox="1"/>
          <p:nvPr/>
        </p:nvSpPr>
        <p:spPr>
          <a:xfrm>
            <a:off x="1066320" y="685800"/>
            <a:ext cx="807732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P Contact List Requests</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OINT TDSPs Market Communications on 6/27/16: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 Notice:  </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June 7th Retail Market Subcommittee (RMS) meeting, a standardized REP Contact List was reviewed and agreed to by RMS members for TDSPs to begin using when requesting updated contact information from Retail Electric Providers.   Based upon this RMS agreement, the TDSPs will reach out individually to their primary REP contacts to request updated contact information utilizing the attached standardized form.  REPs should expect to receive separate requests from each of the TDSPs.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ank you in advance for your cooperation and assistance by completing this important task </a:t>
            </a:r>
            <a:r>
              <a:rPr b="1" i="1" lang="en-US" sz="1800" spc="-1" strike="noStrike">
                <a:solidFill>
                  <a:srgbClr val="000000"/>
                </a:solidFill>
                <a:latin typeface="Gill Sans MT"/>
              </a:rPr>
              <a:t>no later than one week from the date of request</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ACT:   If you have questions or need clarification related to the REP Contact List, please reply to the TDSP individual who initiated the email reques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8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800B-C035-4E10-A6AB-06B120D930F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2"/>
          <p:cNvGraphicFramePr/>
          <p:nvPr/>
        </p:nvGraphicFramePr>
        <p:xfrm>
          <a:off x="4572000" y="5562720"/>
          <a:ext cx="914400" cy="771480"/>
        </p:xfrm>
        <a:graphic>
          <a:graphicData uri="http://schemas.openxmlformats.org/presentationml/2006/ole">
            <p:oleObj r:id="rId1" spid="">
              <p:embed/>
              <p:pic>
                <p:nvPicPr>
                  <p:cNvPr id="389" name="Object 2" descr=""/>
                  <p:cNvPicPr/>
                  <p:nvPr/>
                </p:nvPicPr>
                <p:blipFill>
                  <a:blip r:embed="rId2"/>
                  <a:stretch/>
                </p:blipFill>
                <p:spPr>
                  <a:xfrm>
                    <a:off x="4572000" y="5562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Other Business </a:t>
            </a:r>
            <a:endParaRPr b="0" lang="en-US" sz="3600" spc="-1" strike="noStrike">
              <a:solidFill>
                <a:srgbClr val="572314"/>
              </a:solidFill>
              <a:latin typeface="Gill Sans MT"/>
            </a:endParaRPr>
          </a:p>
        </p:txBody>
      </p:sp>
      <p:sp>
        <p:nvSpPr>
          <p:cNvPr id="391" name=""/>
          <p:cNvSpPr txBox="1"/>
          <p:nvPr/>
        </p:nvSpPr>
        <p:spPr>
          <a:xfrm>
            <a:off x="1066320" y="299520"/>
            <a:ext cx="8077320" cy="579132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MS discussed the following Other Business topics: </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riday, May 20, 2016 - Data Workshop</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and SMT AMS Data Processes Workshop</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rkshop I –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Monday,  May 23, 2016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llow-up Workshop II – </a:t>
            </a:r>
            <a:r>
              <a:rPr b="0" lang="en-US" sz="2000" spc="-1" strike="noStrike">
                <a:solidFill>
                  <a:srgbClr val="000000"/>
                </a:solidFill>
                <a:latin typeface="Gill Sans MT"/>
              </a:rPr>
              <a:t>	</a:t>
            </a:r>
            <a:r>
              <a:rPr b="0" lang="en-US" sz="2000" spc="-1" strike="noStrike">
                <a:solidFill>
                  <a:srgbClr val="000000"/>
                </a:solidFill>
                <a:latin typeface="Gill Sans MT"/>
              </a:rPr>
              <a:t>Tuesday,  July 12, 2016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System-Wide Rates Operational Review Workshop</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riginally scheduled on Monday, July 18</a:t>
            </a:r>
            <a:r>
              <a:rPr b="0" lang="en-US" sz="2000" spc="-1" strike="noStrike" baseline="30000">
                <a:solidFill>
                  <a:srgbClr val="000000"/>
                </a:solidFill>
                <a:latin typeface="Gill Sans MT"/>
              </a:rPr>
              <a:t>th</a:t>
            </a:r>
            <a:r>
              <a:rPr b="0" lang="en-US" sz="2000" spc="-1" strike="noStrike">
                <a:solidFill>
                  <a:srgbClr val="000000"/>
                </a:solidFill>
                <a:latin typeface="Gill Sans MT"/>
              </a:rPr>
              <a:t> ,  has been rescheduled to RMS’  August 2</a:t>
            </a:r>
            <a:r>
              <a:rPr b="0" lang="en-US" sz="2000" spc="-1" strike="noStrike" baseline="30000">
                <a:solidFill>
                  <a:srgbClr val="000000"/>
                </a:solidFill>
                <a:latin typeface="Gill Sans MT"/>
              </a:rPr>
              <a:t>nd</a:t>
            </a:r>
            <a:r>
              <a:rPr b="0" lang="en-US" sz="2000" spc="-1" strike="noStrike">
                <a:solidFill>
                  <a:srgbClr val="000000"/>
                </a:solidFill>
                <a:latin typeface="Gill Sans MT"/>
              </a:rPr>
              <a:t> meeting date following lunch at1:30 PM – 3:30 PM.  This would allow travelers to Austin to utilize their travel budgets more efficiently  </a:t>
            </a:r>
            <a:endParaRPr b="0" lang="en-US" sz="20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9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A7C5-800A-406B-B805-8E09EA5A6F0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39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A4A7-85F0-4BC4-B32E-BBA1B607806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4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01"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s: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53 and RMGRR134, Allow AMS Data Submittal Process for TDSP-Read Non-Modeled Generator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allows the option of using the Advanced Metering System (AMS) data submittal process for all Transmission and/or Distribution Provider (TDSP)-read Non-Modeled Generators; and requires an Interval Data Recorder (IDR) Meter for Block Load Transfer (BLT) metering points registered for Settlements in accordance with Section 6.5.9.5.1, Registration and Posting of BLT Points.</a:t>
            </a: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5/03/16 RMS (Vote)</a:t>
            </a:r>
            <a:r>
              <a:rPr b="0" lang="en-US" sz="1600" spc="-1" strike="noStrike">
                <a:solidFill>
                  <a:srgbClr val="000000"/>
                </a:solidFill>
                <a:latin typeface="Gill Sans MT"/>
              </a:rPr>
              <a:t>:  NPRR753 received Unanimous Endorsement, however,  the associated RMGRR134 was Approved with 5 Abstentions coming from Consumer and IOU Segments.  The IOU segment’s concerns are violating Customer’s data confidentiality and privacy by providing their generation data to Smart Meter Texas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12/16 PRS</a:t>
            </a:r>
            <a:r>
              <a:rPr b="0" lang="en-US" sz="1600" spc="-1" strike="noStrike">
                <a:solidFill>
                  <a:srgbClr val="000000"/>
                </a:solidFill>
                <a:latin typeface="Gill Sans MT"/>
              </a:rPr>
              <a:t> </a:t>
            </a:r>
            <a:r>
              <a:rPr b="1" lang="en-US" sz="1600" spc="-1" strike="noStrike">
                <a:solidFill>
                  <a:srgbClr val="000000"/>
                </a:solidFill>
                <a:latin typeface="Gill Sans MT"/>
              </a:rPr>
              <a:t>(Vote):  </a:t>
            </a:r>
            <a:r>
              <a:rPr b="0" lang="en-US" sz="1600" spc="-1" strike="noStrike">
                <a:solidFill>
                  <a:srgbClr val="000000"/>
                </a:solidFill>
                <a:latin typeface="Gill Sans MT"/>
              </a:rPr>
              <a:t>Approved NPRR753 </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Impact Analysis Review (Vote)</a:t>
            </a:r>
            <a:r>
              <a:rPr b="0" lang="en-US" sz="1600" spc="-1" strike="noStrike">
                <a:solidFill>
                  <a:srgbClr val="000000"/>
                </a:solidFill>
                <a:latin typeface="Gill Sans MT"/>
              </a:rPr>
              <a:t>:  RMS voted to “Table” RMGRR134’s Impact Analysis along with a recommendation asking PRS to “Table” NPRR753 for a month.</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Impact Analysis Review (Vote)</a:t>
            </a:r>
            <a:r>
              <a:rPr b="0" lang="en-US" sz="1600" spc="-1" strike="noStrike">
                <a:solidFill>
                  <a:srgbClr val="000000"/>
                </a:solidFill>
                <a:latin typeface="Gill Sans MT"/>
              </a:rPr>
              <a:t>:   Agreed to “Table “NPRR753 as recommended by RMS</a:t>
            </a: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8635-CDF4-4297-A2B3-3B5B40C3B08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s: </a:t>
            </a:r>
            <a:endParaRPr b="0" lang="en-US" sz="3600" spc="-1" strike="noStrike">
              <a:solidFill>
                <a:srgbClr val="572314"/>
              </a:solidFill>
              <a:latin typeface="Gill Sans MT"/>
            </a:endParaRPr>
          </a:p>
        </p:txBody>
      </p:sp>
      <p:sp>
        <p:nvSpPr>
          <p:cNvPr id="343" name=""/>
          <p:cNvSpPr txBox="1"/>
          <p:nvPr/>
        </p:nvSpPr>
        <p:spPr>
          <a:xfrm>
            <a:off x="914400" y="8380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1, Clarifications to New ESI ID Creation Process:</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clarifies that the TDSP(s) must ensure that an ESI ID has been created in the ERCOT systems prior to initiating electric service at a Premise. </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1</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Vote)</a:t>
            </a:r>
            <a:r>
              <a:rPr b="0" lang="en-US" sz="1600" spc="-1" strike="noStrike">
                <a:solidFill>
                  <a:srgbClr val="000000"/>
                </a:solidFill>
                <a:latin typeface="Gill Sans MT"/>
              </a:rPr>
              <a:t>:   Approved NPRR771 language – IA scheduled for 7/14 PRS</a:t>
            </a:r>
            <a:endParaRPr b="0" lang="en-US" sz="16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and RMGRR139, Modifications to Date Changes and Cancellation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Nodal Protocol Revision Request (NPRR) and Retail Market Guide Revision Request (RMGRR) modifies the evaluation window for date changes and a cancellation currently performed by ERCOT systems; and removes the one Retail Business Day evaluation window for date changes and cancellations in order to replace manual processes with transactional solutions..</a:t>
            </a:r>
            <a:endParaRPr b="0" lang="en-US" sz="18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Endorse” NPRR778 and Unanimously “Approved” RMGRR139.   Impact Analysis review of NPRR778 and RMGRR139 planned for the August 2</a:t>
            </a:r>
            <a:r>
              <a:rPr b="0" lang="en-US" sz="1600" spc="-1" strike="noStrike" baseline="30000">
                <a:solidFill>
                  <a:srgbClr val="000000"/>
                </a:solidFill>
                <a:latin typeface="Gill Sans MT"/>
              </a:rPr>
              <a:t>nd</a:t>
            </a:r>
            <a:r>
              <a:rPr b="0" lang="en-US" sz="1600" spc="-1" strike="noStrike">
                <a:solidFill>
                  <a:srgbClr val="000000"/>
                </a:solidFill>
                <a:latin typeface="Gill Sans MT"/>
              </a:rPr>
              <a:t> RMS meeting.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16/16 PRS (Vote)</a:t>
            </a:r>
            <a:r>
              <a:rPr b="0" lang="en-US" sz="1600" spc="-1" strike="noStrike">
                <a:solidFill>
                  <a:srgbClr val="000000"/>
                </a:solidFill>
                <a:latin typeface="Gill Sans MT"/>
              </a:rPr>
              <a:t>:   Approved NPRR778 language – IA scheduled for the 7/14 PRS  </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BDA0-0E05-4665-913D-A4B72BE2D6D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s: </a:t>
            </a:r>
            <a:endParaRPr b="0" lang="en-US" sz="3600" spc="-1" strike="noStrike">
              <a:solidFill>
                <a:srgbClr val="572314"/>
              </a:solidFill>
              <a:latin typeface="Gill Sans MT"/>
            </a:endParaRPr>
          </a:p>
        </p:txBody>
      </p:sp>
      <p:sp>
        <p:nvSpPr>
          <p:cNvPr id="34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38, Revision to Oncor’s Requirement for REPs to Send Prepay ESI ID List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removes the requirement for Retail Electric Providers (REPs) serving prepay Customers to provide a weekly list of prepay Electric Service Identifiers (ESI IDs) to Oncor and replaces it with a requirement to provide the prepay ESI ID list upon request by Oncor.</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38 along with the IA reflecting No Cost Impacts</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MGRR138 </a:t>
            </a:r>
            <a:r>
              <a:rPr b="0" lang="en-US" sz="1600" spc="-1" strike="noStrike">
                <a:solidFill>
                  <a:srgbClr val="000000"/>
                </a:solidFill>
                <a:latin typeface="Gill Sans MT"/>
              </a:rPr>
              <a:t>will be recommended by RMS to TAC for their 7/28 meeting.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0, Efficiencies for Acquisition Transfe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allows ERCOT added flexibility to execute an Acquisition Transfer in an expedited manner in an attempt to prevent a Mass Transition event</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0.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AD8-727C-4F5D-A1B8-D2D6F2241A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MS Voting Recommendations: </a:t>
            </a:r>
            <a:endParaRPr b="0" lang="en-US" sz="3600" spc="-1" strike="noStrike">
              <a:solidFill>
                <a:srgbClr val="572314"/>
              </a:solidFill>
              <a:latin typeface="Gill Sans MT"/>
            </a:endParaRPr>
          </a:p>
        </p:txBody>
      </p:sp>
      <p:sp>
        <p:nvSpPr>
          <p:cNvPr id="353"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GRR141, Clarifying Procedures for Market Participants During an Extended Unplanned System Outage:</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clarifies procedures during an extended unplanned system outage.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7/16  RMS</a:t>
            </a:r>
            <a:r>
              <a:rPr b="0" lang="en-US" sz="1600" spc="-1" strike="noStrike">
                <a:solidFill>
                  <a:srgbClr val="000000"/>
                </a:solidFill>
                <a:latin typeface="Gill Sans MT"/>
              </a:rPr>
              <a:t> </a:t>
            </a:r>
            <a:r>
              <a:rPr b="1" lang="en-US" sz="1600" spc="-1" strike="noStrike">
                <a:solidFill>
                  <a:srgbClr val="000000"/>
                </a:solidFill>
                <a:latin typeface="Gill Sans MT"/>
              </a:rPr>
              <a:t>(Vote)</a:t>
            </a:r>
            <a:r>
              <a:rPr b="0" lang="en-US" sz="1600" spc="-1" strike="noStrike">
                <a:solidFill>
                  <a:srgbClr val="000000"/>
                </a:solidFill>
                <a:latin typeface="Gill Sans MT"/>
              </a:rPr>
              <a:t>:  RMS voted Unanimously to “Approve” RMGRR141.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mpact Analysis </a:t>
            </a:r>
            <a:r>
              <a:rPr b="0" lang="en-US" sz="1600" spc="-1" strike="noStrike">
                <a:solidFill>
                  <a:srgbClr val="000000"/>
                </a:solidFill>
                <a:latin typeface="Gill Sans MT"/>
              </a:rPr>
              <a:t>will be reviewed during the 8/2 RMS meeting.   </a:t>
            </a: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8288-79E5-4A03-914C-E1CA070630A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01</a:t>
            </a:r>
            <a:r>
              <a:rPr b="0" lang="en-US" sz="2800" spc="-1" strike="noStrike">
                <a:solidFill>
                  <a:srgbClr val="000000"/>
                </a:solidFill>
                <a:latin typeface="Gill Sans MT"/>
              </a:rPr>
              <a:t> </a:t>
            </a:r>
            <a:r>
              <a:rPr b="0" lang="en-US" sz="2800" spc="-1" strike="noStrike">
                <a:solidFill>
                  <a:srgbClr val="c00000"/>
                </a:solidFill>
                <a:latin typeface="Gill Sans MT"/>
              </a:rPr>
              <a:t>(-58</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276 </a:t>
            </a:r>
            <a:r>
              <a:rPr b="0" lang="en-US" sz="2800" spc="-1" strike="noStrike">
                <a:solidFill>
                  <a:srgbClr val="000000"/>
                </a:solidFill>
                <a:latin typeface="Gill Sans MT"/>
              </a:rPr>
              <a:t>(</a:t>
            </a:r>
            <a:r>
              <a:rPr b="0" lang="en-US" sz="2800" spc="-1" strike="noStrike">
                <a:solidFill>
                  <a:srgbClr val="c00000"/>
                </a:solidFill>
                <a:latin typeface="Gill Sans MT"/>
              </a:rPr>
              <a:t>-74</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226 (</a:t>
            </a:r>
            <a:r>
              <a:rPr b="0" lang="en-US" sz="2400" spc="-1" strike="noStrike">
                <a:solidFill>
                  <a:srgbClr val="c00000"/>
                </a:solidFill>
                <a:latin typeface="Gill Sans MT"/>
              </a:rPr>
              <a:t>-53</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45  (</a:t>
            </a:r>
            <a:r>
              <a:rPr b="0" lang="en-US" sz="2000" spc="-1" strike="noStrike">
                <a:solidFill>
                  <a:srgbClr val="c00000"/>
                </a:solidFill>
                <a:latin typeface="Gill Sans MT"/>
              </a:rPr>
              <a:t>-24</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00  (</a:t>
            </a:r>
            <a:r>
              <a:rPr b="0" lang="en-US" sz="2000" spc="-1" strike="noStrike">
                <a:solidFill>
                  <a:srgbClr val="c00000"/>
                </a:solidFill>
                <a:latin typeface="Gill Sans MT"/>
              </a:rPr>
              <a:t>-39</a:t>
            </a:r>
            <a:r>
              <a:rPr b="0" lang="en-US" sz="2000" spc="-1" strike="noStrike">
                <a:solidFill>
                  <a:srgbClr val="000000"/>
                </a:solidFill>
                <a:latin typeface="Gill Sans MT"/>
              </a:rPr>
              <a:t>)</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9,086</a:t>
            </a:r>
            <a:r>
              <a:rPr b="0" lang="en-US" sz="2800" spc="-1" strike="noStrike">
                <a:solidFill>
                  <a:srgbClr val="000000"/>
                </a:solidFill>
                <a:latin typeface="Gill Sans MT"/>
              </a:rPr>
              <a:t> </a:t>
            </a:r>
            <a:r>
              <a:rPr b="1" lang="en-US" sz="2800" spc="-1" strike="noStrike">
                <a:solidFill>
                  <a:srgbClr val="000000"/>
                </a:solidFill>
                <a:latin typeface="Gill Sans MT"/>
              </a:rPr>
              <a:t>(+    656)</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157,743</a:t>
            </a:r>
            <a:r>
              <a:rPr b="1" lang="en-US" sz="2800" spc="-1" strike="noStrike">
                <a:solidFill>
                  <a:srgbClr val="000000"/>
                </a:solidFill>
                <a:latin typeface="Gill Sans MT"/>
              </a:rPr>
              <a:t> (+12,998)</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090,673</a:t>
            </a:r>
            <a:r>
              <a:rPr b="0" lang="en-US" sz="2800" spc="-1" strike="noStrike">
                <a:solidFill>
                  <a:srgbClr val="c00000"/>
                </a:solidFill>
                <a:latin typeface="Gill Sans MT"/>
              </a:rPr>
              <a:t> </a:t>
            </a:r>
            <a:r>
              <a:rPr b="1" lang="en-US" sz="2800" spc="-1" strike="noStrike">
                <a:solidFill>
                  <a:srgbClr val="000000"/>
                </a:solidFill>
                <a:latin typeface="Gill Sans MT"/>
              </a:rPr>
              <a:t>(+13,432</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D4BC-9E77-4600-BCB1-FCE22F825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142640" y="914040"/>
            <a:ext cx="7986600" cy="5334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29</a:t>
            </a:r>
            <a:r>
              <a:rPr b="1" lang="en-US" sz="2700" spc="-1" strike="noStrike">
                <a:solidFill>
                  <a:srgbClr val="c00000"/>
                </a:solidFill>
                <a:latin typeface="Gill Sans MT"/>
              </a:rPr>
              <a:t> (5/1/16)</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949 (</a:t>
            </a:r>
            <a:r>
              <a:rPr b="1" lang="en-US" sz="2700" spc="-1" strike="noStrike">
                <a:solidFill>
                  <a:srgbClr val="c00000"/>
                </a:solidFill>
                <a:latin typeface="Gill Sans MT"/>
              </a:rPr>
              <a:t>-337</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56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 CNP = 417; Oncor = 1,531</a:t>
            </a: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351   </a:t>
            </a:r>
            <a:r>
              <a:rPr b="1" lang="en-US" sz="2700" spc="-1" strike="noStrike">
                <a:solidFill>
                  <a:srgbClr val="c00000"/>
                </a:solidFill>
                <a:latin typeface="Gill Sans MT"/>
              </a:rPr>
              <a:t>(-135</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574  (</a:t>
            </a:r>
            <a:r>
              <a:rPr b="1" lang="en-US" sz="2700" spc="-1" strike="noStrike">
                <a:solidFill>
                  <a:srgbClr val="c00000"/>
                </a:solidFill>
                <a:latin typeface="Gill Sans MT"/>
              </a:rPr>
              <a:t>-107</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88   (+2)</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9    (NC)</a:t>
            </a:r>
            <a:endParaRPr b="0" lang="en-US" sz="27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5,111</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7</a:t>
            </a:r>
            <a:endParaRPr b="0" lang="en-US" sz="2000" spc="-1" strike="noStrike">
              <a:solidFill>
                <a:srgbClr val="000000"/>
              </a:solidFill>
              <a:latin typeface="Gill Sans MT"/>
            </a:endParaRPr>
          </a:p>
          <a:p>
            <a:pPr lvl="1" marL="356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2</a:t>
            </a:r>
            <a:endParaRPr b="0" lang="en-US" sz="2000" spc="-1" strike="noStrike">
              <a:solidFill>
                <a:srgbClr val="000000"/>
              </a:solidFill>
              <a:latin typeface="Gill Sans MT"/>
            </a:endParaRPr>
          </a:p>
        </p:txBody>
      </p:sp>
      <p:sp>
        <p:nvSpPr>
          <p:cNvPr id="363"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May 2016</a:t>
            </a:r>
            <a:endParaRPr b="0" lang="en-US" sz="3600" spc="-1" strike="noStrike">
              <a:solidFill>
                <a:srgbClr val="572314"/>
              </a:solidFill>
              <a:latin typeface="Gill Sans MT"/>
            </a:endParaRPr>
          </a:p>
        </p:txBody>
      </p:sp>
      <p:sp>
        <p:nvSpPr>
          <p:cNvPr id="36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AF33-240A-4AC4-8A85-1A938E949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etail Market Training Taskforce (RMTTF) </a:t>
            </a:r>
            <a:endParaRPr b="0" lang="en-US" sz="2800" spc="-1" strike="noStrike">
              <a:solidFill>
                <a:srgbClr val="572314"/>
              </a:solidFill>
              <a:latin typeface="Gill Sans MT"/>
            </a:endParaRPr>
          </a:p>
        </p:txBody>
      </p:sp>
      <p:sp>
        <p:nvSpPr>
          <p:cNvPr id="368" name=""/>
          <p:cNvSpPr txBox="1"/>
          <p:nvPr/>
        </p:nvSpPr>
        <p:spPr>
          <a:xfrm>
            <a:off x="1066320" y="609480"/>
            <a:ext cx="8077320" cy="563904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 Learning Management System (LMS) –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nline Training Modules completed by </a:t>
            </a:r>
            <a:r>
              <a:rPr b="1" lang="en-US" sz="2000" spc="-1" strike="noStrike">
                <a:solidFill>
                  <a:srgbClr val="c00000"/>
                </a:solidFill>
                <a:latin typeface="Gill Sans MT"/>
              </a:rPr>
              <a:t>411</a:t>
            </a:r>
            <a:r>
              <a:rPr b="0" lang="en-US" sz="2000" spc="-1" strike="noStrike">
                <a:solidFill>
                  <a:srgbClr val="000000"/>
                </a:solidFill>
                <a:latin typeface="Gill Sans MT"/>
              </a:rPr>
              <a:t> </a:t>
            </a:r>
            <a:r>
              <a:rPr b="1" lang="en-US" sz="2000" spc="-1" strike="noStrike">
                <a:solidFill>
                  <a:srgbClr val="000000"/>
                </a:solidFill>
                <a:latin typeface="Gill Sans MT"/>
              </a:rPr>
              <a:t>Market Participants </a:t>
            </a:r>
            <a:r>
              <a:rPr b="0" lang="en-US" sz="2000" spc="-1" strike="noStrike">
                <a:solidFill>
                  <a:srgbClr val="000000"/>
                </a:solidFill>
                <a:latin typeface="Gill Sans MT"/>
              </a:rPr>
              <a:t>across all market segments</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TTF continues to meet monthly to review new Online Training Modules,  voice over scripts and create test questions for each module.   </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Roadshow:</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6 ERCOT and MPs Instructor Led Classes  </a:t>
            </a:r>
            <a:endParaRPr b="0" lang="en-US" sz="22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sted at CenterPoint Energy’s Office:  1111 Louisiana Street Houston ,  TX  77002 in Training Room 1360 (13</a:t>
            </a:r>
            <a:r>
              <a:rPr b="0" lang="en-US" sz="2000" spc="-1" strike="noStrike" baseline="30000">
                <a:solidFill>
                  <a:srgbClr val="000000"/>
                </a:solidFill>
                <a:latin typeface="Gill Sans MT"/>
              </a:rPr>
              <a:t>th</a:t>
            </a:r>
            <a:r>
              <a:rPr b="0" lang="en-US" sz="2000" spc="-1" strike="noStrike">
                <a:solidFill>
                  <a:srgbClr val="000000"/>
                </a:solidFill>
                <a:latin typeface="Gill Sans MT"/>
              </a:rPr>
              <a:t> Floor) </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Retail 101</a:t>
            </a:r>
            <a:r>
              <a:rPr b="1" lang="en-US" sz="2200" spc="-1" strike="noStrike">
                <a:solidFill>
                  <a:srgbClr val="000000"/>
                </a:solidFill>
                <a:latin typeface="Gill Sans MT"/>
              </a:rPr>
              <a:t>:    Tuesday,  September 27,  2016</a:t>
            </a:r>
            <a:endParaRPr b="0" lang="en-US" sz="22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a:t>
            </a:r>
            <a:r>
              <a:rPr b="0" lang="en-US" sz="2000" spc="-1" strike="noStrike" u="sng">
                <a:solidFill>
                  <a:srgbClr val="8dc765"/>
                </a:solidFill>
                <a:uFillTx/>
                <a:latin typeface="Gill Sans MT"/>
                <a:hlinkClick r:id="rId2"/>
              </a:rPr>
              <a:t>ercot.com/services/training/course/131#schedule</a:t>
            </a:r>
            <a:endParaRPr b="0" lang="en-US" sz="20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MarkeTrak 101</a:t>
            </a:r>
            <a:r>
              <a:rPr b="1" lang="en-US" sz="2200" spc="-1" strike="noStrike">
                <a:solidFill>
                  <a:srgbClr val="000000"/>
                </a:solidFill>
                <a:latin typeface="Gill Sans MT"/>
              </a:rPr>
              <a:t>:   Wednesday,  September 28, 2016 </a:t>
            </a:r>
            <a:endParaRPr b="0" lang="en-US" sz="2200" spc="-1" strike="noStrike">
              <a:solidFill>
                <a:srgbClr val="000000"/>
              </a:solidFill>
              <a:latin typeface="Gill Sans MT"/>
            </a:endParaRPr>
          </a:p>
          <a:p>
            <a:pPr lvl="4" marL="1244880" indent="-174960">
              <a:spcBef>
                <a:spcPts val="55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3"/>
              </a:rPr>
              <a:t>http://</a:t>
            </a:r>
            <a:r>
              <a:rPr b="0" lang="en-US" sz="2000" spc="-1" strike="noStrike">
                <a:solidFill>
                  <a:srgbClr val="000000"/>
                </a:solidFill>
                <a:latin typeface="Gill Sans MT"/>
              </a:rPr>
              <a:t>ercot.com/services/training/course/139#schedule</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B46A-7302-40EE-8B8C-D73DEF68F2D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LF Renewable Content Calculator </a:t>
            </a:r>
            <a:endParaRPr b="0" lang="en-US" sz="3600" spc="-1" strike="noStrike">
              <a:solidFill>
                <a:srgbClr val="572314"/>
              </a:solidFill>
              <a:latin typeface="Gill Sans MT"/>
            </a:endParaRPr>
          </a:p>
        </p:txBody>
      </p:sp>
      <p:sp>
        <p:nvSpPr>
          <p:cNvPr id="375" name=""/>
          <p:cNvSpPr txBox="1"/>
          <p:nvPr/>
        </p:nvSpPr>
        <p:spPr>
          <a:xfrm>
            <a:off x="1066320" y="685800"/>
            <a:ext cx="8077320" cy="54864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ity Facts Label (EFL) Renewable Content Calculator</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www.ercot.com/content/wcm/key_documents_lists/77536/13.__EFL_Calc_Fix_Proposal___RPS_Baseline___Updated_for_2015_Values.xlsx</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www.ercot.com/content/wcm/key_documents_lists/77536/13.__EFL_Renewable_Content_Calculator___RMS___20160607.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ions with ERCOT had already been conducted to establish an agreement on certain minor changes to EFL Calculator for next year to enhance its usability, such as:</a:t>
            </a:r>
            <a:endParaRPr b="0" lang="en-US" sz="20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ding benchmark value, de-emphasizing emissions data that is no longer required, incorporating out-of-state renewable contracts.  Per Ted Hailu (ERCOT)  these changes would be slated for future enhancements.  </a:t>
            </a:r>
            <a:endParaRPr b="0" lang="en-US" sz="18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d brought to RMS due to the need to get stakeholder guidance on additional changes regarding EFL calculator mechanics</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xt Steps</a:t>
            </a:r>
            <a:r>
              <a:rPr b="0" lang="en-US" sz="2000" spc="-1" strike="noStrike">
                <a:solidFill>
                  <a:srgbClr val="000000"/>
                </a:solidFill>
                <a:latin typeface="Gill Sans MT"/>
              </a:rPr>
              <a:t>:  Ned Bonskowski (Luminant) will work with ERCOT and PUCT’s Legal for their guidance in developing  recommendations of which rule changes would be necessary.   </a:t>
            </a:r>
            <a:endParaRPr b="0" lang="en-US" sz="2000" spc="-1" strike="noStrike">
              <a:solidFill>
                <a:srgbClr val="000000"/>
              </a:solidFill>
              <a:latin typeface="Gill Sans MT"/>
            </a:endParaRPr>
          </a:p>
          <a:p>
            <a:pPr lvl="2" marL="788400" indent="-203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3, 2016</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7690-5892-40DD-9C4C-7A1FFBD4D2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07-12T02:00:28Z</dcterms:modified>
  <cp:revision>1426</cp:revision>
  <dc:subject/>
  <dc:title>Instructions</dc:title>
</cp:coreProperties>
</file>