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626F-CA7C-4023-AB6D-495DC491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E5AD-24B3-4888-9F08-BB09986D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3BAA-BC99-4408-B23A-6304D75C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F8EB-D800-4481-B4C0-64DF4ABB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C006-320B-45E3-BED0-39A3A2A4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FA19-B588-4CC5-98A8-8521DA72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109E-F8D6-42D1-BDE9-41B1F5CD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20C6-2EF1-41A1-A6EF-654BCDCF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1F35-002A-4DAB-A39F-CF9A86FD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851F-17BE-49A6-BD7D-F704DD70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2DF8-2956-42AC-8CBA-451DB0EA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10C2-E042-4D25-BC84-A05AA2BA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6860-CCF4-40E6-9F7E-0A7D67B4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A2A5-19C4-4ECC-829D-B014CC80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0CCC-0D38-4FA3-BABB-61BB8A9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CBE4-BB4A-4B47-9F0B-9A08A489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29FA-196E-4A03-A3CA-FB8202C0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C02E-6AF1-417D-A91D-5AD5D5F4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4862-DD1C-4E95-A995-3B83E1D7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CE99-EBF8-48A4-B050-A43FA406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0167-98DF-4C5B-89A5-A0FAF111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0E28-C1BE-45BA-AC1D-C5B34A66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0336-5533-48A6-88C1-7D9BD740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DA297-C10F-4AB3-AE37-E3AA15B0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5084-01CE-4C18-B986-F716A74B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77C2E-ECF0-4D75-B9EF-6DA07C4C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77FC-4D64-4032-B436-3107713F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A43E-3BD5-4AA6-9586-B616977B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7C2E-C91A-4571-B807-5C3C79F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F695-5BF1-4FC1-9625-3DA9F1C3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B22A-4F65-453A-9462-7091C3FB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3008-5D7D-484B-AA13-28CDFA43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BC98-01B7-4712-87B0-A93DD83C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29CA-6019-4959-9DC9-05CE8050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F4CE-CC04-4A0D-9B85-BD84C261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AF6B-3F88-411D-9FBF-BC1BD58B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0EC1-B51A-46A7-B733-59710DA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0E0A-16B0-4C99-9ACE-275709D6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F527-C932-454C-9E84-972AA42C5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1A55-AAA5-4078-AEF0-071393116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A71-DD33-468F-9211-A5C2E7232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78BA-CB66-4178-A370-5E9A2BD4C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6359-C6BE-4550-B8EE-1FA9ACF2E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July 13,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Jim Lee (AEP) – Chair</a:t>
            </a: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ECEA-8457-4C19-A071-7493C9BAC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47520" y="1035000"/>
            <a:ext cx="8991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e to the large volume of changes, PWG developed informal (non-binding) “comparison” documents as companions to NPRR781 and LPGRR05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arison documents are non-binding, and should only be used for MPs wishing to view the Protocol &amp; Load Profiling Guide changes in one, singular docu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NPRR781 Comparison: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LPGRR057 Compari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NPRR &amp; LPGRR Comparisons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"/>
          <p:cNvGraphicFramePr/>
          <p:nvPr/>
        </p:nvGraphicFramePr>
        <p:xfrm>
          <a:off x="1430280" y="4038480"/>
          <a:ext cx="1617840" cy="13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4038480"/>
                    <a:ext cx="161784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2"/>
          <p:cNvGraphicFramePr/>
          <p:nvPr/>
        </p:nvGraphicFramePr>
        <p:xfrm>
          <a:off x="5257800" y="3962520"/>
          <a:ext cx="1535040" cy="1295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962520"/>
                    <a:ext cx="1535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3"/>
          <p:cNvSpPr/>
          <p:nvPr/>
        </p:nvSpPr>
        <p:spPr>
          <a:xfrm>
            <a:off x="825480" y="3241800"/>
            <a:ext cx="2963880" cy="23619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567320" y="3241800"/>
            <a:ext cx="2963880" cy="2369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0C04-C9B4-4CA3-954B-5CBA2F38B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63600" y="1173240"/>
            <a:ext cx="8001000" cy="31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c8c93"/>
                </a:solidFill>
                <a:uFillTx/>
                <a:latin typeface="Arial"/>
              </a:rPr>
              <a:t>Existing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ESIID, IA Date, Total Inverter Capacity (kW), Efficiency Rating, Total PV capacity (kW), Total Wind Capacity (k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c8c93"/>
                </a:solidFill>
                <a:uFillTx/>
                <a:latin typeface="Arial"/>
              </a:rPr>
              <a:t>New f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Total Energy Storage Power (kW), Total Energy Storage Capability (kWh), Total Other: Renewable Capacity (kW), Total Other: Non-Renewable Capacity (k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5920" y="225360"/>
            <a:ext cx="65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Standard DG Report Re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103320" y="4114800"/>
            <a:ext cx="8888400" cy="17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AE18-E6E6-4EEA-B818-FE90EE94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5920" y="225360"/>
            <a:ext cx="65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2016 Annu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60896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6157-20C6-4572-80EC-B5669E23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5920" y="225360"/>
            <a:ext cx="65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2016 Annu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table" descr=""/>
          <p:cNvPicPr/>
          <p:nvPr/>
        </p:nvPicPr>
        <p:blipFill>
          <a:blip r:embed="rId1"/>
          <a:stretch/>
        </p:blipFill>
        <p:spPr>
          <a:xfrm>
            <a:off x="990720" y="1184400"/>
            <a:ext cx="716256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C1F-80E1-4CD1-9771-409BD5C67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95440" y="1295280"/>
            <a:ext cx="8001000" cy="46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9:30am start time  (WebEx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***PWG will meet via WebEx only for the remainder of year unless a face-to-face is needed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Impact Analysis for LPGRR0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d review of Annual Validatio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1"/>
          <p:cNvSpPr/>
          <p:nvPr/>
        </p:nvSpPr>
        <p:spPr>
          <a:xfrm>
            <a:off x="596880" y="22096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D7F6-82EE-4BC9-8CF1-82690B5ED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DTMS_20160608</cp:lastModifiedBy>
  <dcterms:modified xsi:type="dcterms:W3CDTF">2016-07-07T13:15:41Z</dcterms:modified>
  <cp:revision>1172</cp:revision>
  <dc:subject/>
  <dc:title>Instructions</dc:title>
</cp:coreProperties>
</file>