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EE3B-CCDA-4C9B-85C7-E6536BAC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0D4D-C7A9-4303-BA6B-05F9A28F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6387-C374-426E-BDE8-F6587111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F890-B387-4AC0-86D8-388D86A6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BE5D-1739-4F18-B533-E9194125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2B0D7-61B2-45AF-B2DD-8B20EAB2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A3FC9-8329-45A0-B547-F057B7C4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0DE30-6633-48B1-9E74-4415696F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9F391-D690-417B-9AB5-53554E44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A5379-C274-4F4C-81BB-B6F61DD8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AF7C-34C0-4F5B-A5E2-517CEBDE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D86B4-DC93-42D6-8CF8-CE0AB7C3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A9680-667C-4F68-ADC5-36954B4B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18FE2-E2C3-4486-B9EE-7A75D9A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3ED79-9345-4E63-AD29-05E68830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13097-52F5-46C7-B72B-0E3204F6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2973C-820C-4760-BFE1-A4A62899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7AC95-B464-4860-9877-B6851A30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40346-3C3E-4049-9A18-1059802B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09DA9-F4D1-45D1-B4EB-430EB210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9D93B7-8E6A-4FB6-90E4-2131ECCA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A7A3-5F4A-4368-8700-75E473B6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ABF7D-A7E0-47B1-9177-EA8F2323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1B44C-6B1D-4BCC-8264-C91986D3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2076B-F27C-4D8A-8A98-1C88873E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171CE-9C78-4426-B95C-BE5F24CC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6A4B9-7F67-4964-80B9-AF6BD5AB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1BFDC-B8FF-4A16-B256-9BD71FBF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81DC8-32FB-4F80-A4E9-D4FC5F58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3E839-3CDD-4888-8FF4-EFE66338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CC4C5-C7B4-49A3-9EC1-FCF6DB35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B091-6C08-4E34-AFFD-CC76504D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1B2F-6E77-4C0E-8CB7-1E69258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6C92-0A2E-4581-B853-8B47207D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909E-7706-4073-834D-08E75A2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273F-947F-4248-BC0B-E5174CEA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9E0D-8413-4FEF-80D2-24802B3D9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88824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88788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DD97-CB1D-4765-B4BB-A4B50E360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83BD-2B82-4ADC-806D-EC5A558E19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891A-3666-472C-A50D-174AA7DD6D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7906-2D7E-48E2-969B-86762D201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P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13, 2016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 Market Continuity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4560" y="4648320"/>
            <a:ext cx="84582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ket Continuity</a:t>
            </a:r>
            <a:br>
              <a:rPr sz="29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2189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sses by which ERCOT market-related systems and activities are returned to normal operations following a triggering event which </a:t>
            </a: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disables all, or a significant portion of, the necessary data and/or infrastructure for oper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ose markets for a long enough period of time that patchwork measures are inadequ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mption – If the markets are suspended, the general continuity processes are the same regardless of caus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Calibri"/>
              </a:rPr>
              <a:t>Time duration may differ depending on the triggering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1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D8FB-FDE4-4224-B987-6A88D8C38C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ket Continuity</a:t>
            </a:r>
            <a:br>
              <a:rPr sz="29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2189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AC asked WMS to take the lead and develop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253f"/>
                </a:solidFill>
                <a:latin typeface="Calibri"/>
              </a:rPr>
              <a:t>WMS thought it appropriate to request assistance from RMS and CO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253f"/>
                </a:solidFill>
                <a:latin typeface="Calibri"/>
              </a:rPr>
              <a:t>Karen Farley, from ERCOT, will coordinate the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253f"/>
                </a:solidFill>
                <a:latin typeface="Calibri"/>
              </a:rPr>
              <a:t>WMS/RMS/COPS Joint Meeting will be scheduled for September or Octo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253f"/>
                </a:solidFill>
                <a:latin typeface="Calibri"/>
              </a:rPr>
              <a:t>Quarterly updated will be taken to TAC for cross impact discus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Calibri"/>
              </a:rPr>
              <a:t>Framing Iss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253f"/>
                </a:solidFill>
                <a:latin typeface="Calibri"/>
              </a:rPr>
              <a:t>Restarting of the Real-Time and Day-Ahead Mark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253f"/>
                </a:solidFill>
                <a:latin typeface="Calibri"/>
              </a:rPr>
              <a:t>Credit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ettlements during the interruption and subsequent restoration peri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55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253f"/>
                </a:solidFill>
                <a:latin typeface="Calibri"/>
              </a:rPr>
              <a:t>Retail transaction process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17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1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A9AB-09A0-44E1-BDAB-40F33BA4AF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ket Continuity</a:t>
            </a:r>
            <a:br>
              <a:rPr sz="29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2189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T / D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DAM be successfully completed before restarting Real-Time Mark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not, should SCED be restarted using mitigated Offers for Operating Days for which DAM has not ru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so, should the prices from those SCED runs be considered as valid prices for settlemen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T / DAM / CR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o do with the DAM results for the hours with no corresponding RTM ru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DAM results are invalidated, what about corresponding CRR resul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1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20A0-CD07-4DBC-9D9B-110EC2787F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ket Continuity</a:t>
            </a:r>
            <a:br>
              <a:rPr sz="29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2189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o do with CRRs with no corresponding RT and DA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uld modifications to credit requirements be appropriate to facilitate DAM restar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might inclu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mporary provision of unsecured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ed invoice pay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retionary waiver of collateral c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so, over what period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1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726E-7B13-4431-A0DA-36AD72ADAA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ket Continuity</a:t>
            </a:r>
            <a:br>
              <a:rPr sz="29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2189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TT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ERCOT plan to pay generators during the outage ev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are verifiable costs for renewables address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would interim funding come fro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ons could include a standby letter of credit to fund interim pay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pending upon the nature and duration of the outage event, the cost for make-whole payments could be mater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cation of make-whole costs to Market Participants would not occur until after the markets are fully restored. This allows time for TDSP meter data submittal and ERCOT settlement reconciliation effor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ould be the methodology for uplif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address meter usage data availability / application of estimation and usage profiles (metered and non-metered accounts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03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481C-C56F-4351-9D84-F5B872669E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ket Continuity</a:t>
            </a:r>
            <a:br>
              <a:rPr sz="29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2189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T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the next steps to agree upon Retail restart procedur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anything need to be added to facilitate and scale the Safety Net process for use over a longer period of ti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address meter data usage availability and loading (backlog process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1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83B6-14B0-419F-85BE-41EFF455DF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 MAMA</dc:creator>
  <dc:description/>
  <dc:language>en-US</dc:language>
  <cp:lastModifiedBy>Trenary, Michelle</cp:lastModifiedBy>
  <cp:lastPrinted>2016-05-06T19:03:37Z</cp:lastPrinted>
  <dcterms:modified xsi:type="dcterms:W3CDTF">2016-07-06T12:49:24Z</dcterms:modified>
  <cp:revision>1017</cp:revision>
  <dc:subject/>
  <dc:title>Instructions</dc:title>
</cp:coreProperties>
</file>