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9B80-8555-4BCF-BD3B-07F9E2A00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A7A0C-9CB7-42B7-8087-9CEB6214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E481F-04F5-41EE-BF66-2900EF1B5A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E0BF8D-2359-472E-A997-0E42AC3B8F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DCDA17-03A1-468E-BCCA-DA13CD955C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9A914-51A2-4150-9C6A-273131EC21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CAE2A-441F-41DF-A627-D3B64844E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11957-596B-41E5-87D6-E7764DCF7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0A9783-1A98-4FFE-903C-1BC1FC07B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42C916-3D28-4E1D-BB57-27F892D270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E2A48B-BBE6-4BB5-8564-AC9D909F5D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6DD2F0-89E9-4474-AE55-0347DCCAA5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358D-9FB4-46D6-8392-3567E3A0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493F2B-8A60-4802-8B5F-9B978EF1FB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BECCC2-B8B2-4485-8A23-EA2F3960E2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41AA85-BE6D-448D-B24B-C38914E68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58983D-E34B-4781-AA6E-6F889D0330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8CD827-0B66-43BB-9E66-40C448AB34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7DD08A-2094-4080-8F82-51770D8464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01F0AA-0BAA-46B7-ADA8-3CC8CBA29B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5ADF1E-311D-4DCA-82A1-8C350704C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BA9F52-FC1D-4AEE-BFEC-E4285C3EC3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7D2C94-D342-4D8F-B51E-877BA67E69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97C66-18F2-475B-AB1E-F99DC29F1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2D98E1-5A34-4C9C-9771-84A61AD105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05B6AB-3F09-47C9-81CC-D8E26F4C37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1C7F19-980F-4A7E-81F6-B7AE0C1E2F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A88155-6327-4717-A3E7-AECFF29487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6ACB3A-32E2-4E46-9754-46887BFA39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9D6110-F305-40DB-8E7C-8724CC8908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000A2B-6283-4492-913B-1CEB809E3B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8A1269-0720-40FF-8840-04CE54A4E7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ED0F7-FDEB-4B80-85B3-375C2F0092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3250C4-30FF-4B0B-B8F3-8E2A20A974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E12A8-B038-4BB4-8EA2-55D438F84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7267D7-EEA5-4154-A935-62DB8DD454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7410B0-B03D-42CD-9584-0209C58C01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58864B-6415-4347-8092-3290071AE0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9725BD-F2FC-432D-9295-43CD8A09E7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FE2654-3F85-4670-92CD-400D9DB082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22179E-9289-458C-AE89-79CE6C9FFB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605F69-1D66-4BD4-A20C-7E0C15A1C6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794998-98B5-4EF5-8BB9-A7513FA20A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63FF3A-C4FB-4A39-B275-C027579674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A8F7CF-56FF-471A-9C19-360A29350B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AE6E8-AE44-421E-AAC0-80D9FE47F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77B3ED-B029-4415-B957-11153DEC71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62674-329E-493F-8E28-39CA5AF20B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41A5D4-FB5B-4817-9497-DA7C53AD8D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46ED92-BFBC-431A-96CE-F296250DB6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AFFCDC-8F1E-4B64-A3CA-70366FC96F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2A2FB-EB20-4C01-874E-733FBC73D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3D4C0-81B6-4607-9543-9FCCC0B40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B8114-4AF3-4518-BFF3-6EB2F0788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3F4EE-2078-4B12-BA2B-EDFD2794F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BFBD-3F5E-468D-A23A-B4E2D57AE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7874-2C20-458D-96F8-BA9D094D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AEC93-0CCD-4EE1-BDA2-2C18693F2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34895-E24A-4D5C-9A71-8D48E42AE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30DA-574B-401C-80FD-F37574B12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F1E88-B62B-4B0A-B1F1-51AA5A4EF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8098E-1BB8-4A95-83D5-24DD2D66E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1730C7-B4A3-4EFE-97C2-3FF584286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BFC21-5556-46A5-9165-CEF4CEC93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5B8B3-D33D-4F21-A596-EE4537D4F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08F02-29E9-4630-8589-4F8B3E615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8B14D-140E-4067-911C-474D8C26E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2980-58F2-418E-BB41-1036D5D8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460FB-86BB-460A-BA9C-2CFD196EF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69FBA-EC29-4ECE-A310-A96D5D02E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36599-77D9-4B19-9986-5C2BEA38F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EA9BC-63FA-46D2-B567-FCEDF9502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DCB41-B40E-4033-877E-D1A467A1F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C91D84-A982-4BB2-B938-D10A6EB898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9C095-15AD-4FE0-98E2-C798BD94FE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5A639-1702-4727-9C32-C40C4664C2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4FEE8-429D-49D9-8955-FE5227589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9FD59-E390-4798-B2AD-2D573DD62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6AD5-A396-43B8-89B1-62CAEF51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F572DA-B256-41BB-AD20-B7C3E48D3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FCB4C-AA72-4DB8-8F31-E94520E61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2811F-4F26-4077-80AF-EC1F93197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63254-9D58-4F43-9243-C142DFE52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EE890-42D9-4D41-A3F3-E909753C8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EC1F3-3035-46A4-9D62-FDF036924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F7CAA-230E-43C6-A49D-EF3204461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A51AD-0DB4-41D3-A177-45FB80CE5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01F813-236D-43D8-BEAA-1AB6BF8ACA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4AD9D5-8B40-4701-ABF0-59C59A5EEB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DF7D-EC3D-409E-A47C-D1E0E234D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5A54B-8431-4AF3-8CCC-A39ED9C0D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B21E6-CF1A-431B-9100-9C353C789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879A6-B622-48B1-8F52-E4C56CFD8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22698-801A-4B1C-91CA-B0560D15C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7481B-14A0-4CE2-AB2B-86DB20ADF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CC9C2-EEDD-47E2-B388-C7726D0F4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09FDC-69EA-49F5-ABEC-9FB58B620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42743-9026-429C-953C-76BFFE3A3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A7CFF-121B-4B74-90C8-6061EF193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310500-BD1D-4A87-BB42-AE703043B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F554-8F1A-4165-8216-C8D79603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1DAC62-DFD0-4893-AB9D-039A22DAB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F1FA6-68A4-4E89-8D81-BCADB77F0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DB567-A495-485A-9B7D-CF033E6DC6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77A9C-6BC7-4020-B068-F9A6714B9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8C153-6AA2-4B35-A7D7-584DD215F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00870-AB86-45A8-8377-1EFE25677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0D6DC-DD92-462F-B6B8-F2D061C61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FA700-BEBD-486E-8613-CF588F49A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8104F-96B6-4CD3-978E-66F99385C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AF009-7310-429E-9B1B-5D4C8A4DC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6E22-F7B7-4E51-AF59-124F4D97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69135-B63C-46F3-A443-DF5F4E06F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A62C5-D2CB-4089-8707-93DC70FAF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79494B-0AC5-4CD3-AC9B-C004C9AA71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C99394-32C0-4FA8-A88E-BB0AFC834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B33CB3-BC1C-4386-84D5-02B8E46F9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41B7F-E138-41F6-8D02-0087F75E2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583CA-0420-46F7-B23E-EA0EA8904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38735-D99E-40E0-ADB2-EC5663237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F2104-0C1B-4824-9631-4481801D3D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77BF8-3999-4E0B-A428-27D6C39A5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7550-AFAA-447E-AA29-1FCAFAC9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DABDF-D05E-4494-9877-6BF8EF1AA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DC376-1D8B-47EE-8CF4-11C61985A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25A4E-44BA-4021-9FB4-A90F2A60D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D6DCA6-BE9F-45F9-A521-0525C8626B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B847D8-B75C-4847-A7B6-199B053D6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2A75EF-E374-446E-91C6-03B48E1A27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AEA72-2BC3-4ACD-A1FA-980BBC35C0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4F1BA-9541-4FB5-9EDD-7AA8BC46D8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2D866-737A-40C2-965F-48769EA92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CA8735-CF1F-4B66-8B21-34D326B3AD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A841-A69C-4DD5-82AF-69345E88A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9B8744-4C6F-4336-A2AA-9A8677A3B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501E0-B8C0-4091-A045-0570AEFD9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A27F7-F573-4DE0-9A9B-E6554B05B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7C2C5-7F0A-479C-B856-703948AA4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9EBB8-2080-4BB2-9838-2E877C3BA5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04B1D9-CD95-4D26-B36D-DDA6F36E9F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13F90E-17C7-41D1-A19B-8E44507E10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C9A2CB-23EA-4D5D-9A5B-9F79592D9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FBF5C-BDB1-49CB-8A56-14BA0D90A0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68F5B-E318-4CBB-A8D7-2FEEAEBAD4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5756-EF57-4402-B54C-EC19907D517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4D5820A8-41EA-4066-AADB-0F0EFB007B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E615-49A6-485C-B0D8-3AF7A32009B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B15B-AB2A-44FC-85C3-BA2FFCC9A1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85CF-D4F7-4311-8B21-552AB14D8DA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0AC9-7749-405C-9BCA-1343D10246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7ADC-D958-41F4-A8B4-30317E73927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AC15-B019-4579-B7C4-6EFECDCF7B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2EF7-182D-447C-BED5-322472D95CFF}"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C793-4A3B-4FB0-A041-F791525CF7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D4B9-231C-462E-9559-58E7A4E93B8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557C-1506-4C8F-9573-65D7755E45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FF81-4E45-4A92-AC0B-975F2F513B2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E241-B9A7-46FA-A6CA-36D605949C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ED9F-B4C9-43D6-8601-C015B853444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D319-D6CB-4491-B30E-0522DD65C7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0F90-7D0B-4B8B-A7AC-43E9C259290A}"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3841-67F9-406D-A829-68938B3ABB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0955-828B-4490-89AD-D253D0F7268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E653-D399-40C0-8652-16AEB83AAB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B45C-0290-4EB1-9FBE-0A9FA31F78C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B6BF-BD66-49C7-BA6E-FCCC5BBA13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35BC-8B49-4B98-A809-D63C655C2AA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3038-5FB1-49F9-8809-0E2F2C87DB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00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ea typeface="Arial"/>
              </a:rPr>
              <a:t>Planning Geomagnetic Disturbance Task Force (PGDTF)</a:t>
            </a:r>
            <a:br>
              <a:rPr sz="4400"/>
            </a:br>
            <a:r>
              <a:rPr b="0" lang="en-US" sz="4400" spc="-1" strike="noStrike">
                <a:solidFill>
                  <a:srgbClr val="000000"/>
                </a:solidFill>
                <a:latin typeface="Calibri"/>
                <a:ea typeface="Arial"/>
              </a:rPr>
              <a:t> Update to the ROS</a:t>
            </a:r>
            <a:br>
              <a:rPr sz="4400"/>
            </a:br>
            <a:endParaRPr b="0" lang="en-US" sz="4400" spc="-1" strike="noStrike">
              <a:solidFill>
                <a:srgbClr val="000000"/>
              </a:solidFill>
              <a:latin typeface="Calibri"/>
            </a:endParaRPr>
          </a:p>
        </p:txBody>
      </p:sp>
      <p:sp>
        <p:nvSpPr>
          <p:cNvPr id="493" name="PlaceHolder 2"/>
          <p:cNvSpPr>
            <a:spLocks noGrp="1"/>
          </p:cNvSpPr>
          <p:nvPr>
            <p:ph type="subTitle"/>
          </p:nvPr>
        </p:nvSpPr>
        <p:spPr>
          <a:xfrm>
            <a:off x="1371600" y="3657240"/>
            <a:ext cx="6400800" cy="15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July 7, 2016</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ichael Juricek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GDTF Chairman</a:t>
            </a:r>
            <a:endParaRPr b="0" lang="en-US" sz="2400" spc="-1" strike="noStrike">
              <a:solidFill>
                <a:srgbClr val="000000"/>
              </a:solidFill>
              <a:latin typeface="Calibri"/>
            </a:endParaRPr>
          </a:p>
        </p:txBody>
      </p:sp>
      <p:sp>
        <p:nvSpPr>
          <p:cNvPr id="4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769A-F9BB-4213-9275-1F32B36F51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7/2016 ROS Meet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xt Activities for PGDTF</a:t>
            </a:r>
            <a:endParaRPr b="0" lang="en-US" sz="4400" spc="-1" strike="noStrike">
              <a:solidFill>
                <a:srgbClr val="000000"/>
              </a:solidFill>
              <a:latin typeface="Calibri"/>
            </a:endParaRPr>
          </a:p>
        </p:txBody>
      </p:sp>
      <p:sp>
        <p:nvSpPr>
          <p:cNvPr id="529" name=""/>
          <p:cNvSpPr txBox="1"/>
          <p:nvPr/>
        </p:nvSpPr>
        <p:spPr>
          <a:xfrm>
            <a:off x="45720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GIC System Model for Geomagnetic Disturbance (GMD) Vulnerability Assessment (12/201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ed Standard Requires GIC System Model be Completed 18 Months After Approval of Standa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GRR for Documenting GMD Planning Activities as Required by the Proposed Standar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4FC7-F7E5-4BA8-873E-49A70BF614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xt Meeting</a:t>
            </a:r>
            <a:endParaRPr b="0" lang="en-US" sz="4400" spc="-1" strike="noStrike">
              <a:solidFill>
                <a:srgbClr val="000000"/>
              </a:solidFill>
              <a:latin typeface="Calibri"/>
            </a:endParaRPr>
          </a:p>
        </p:txBody>
      </p:sp>
      <p:sp>
        <p:nvSpPr>
          <p:cNvPr id="533" name=""/>
          <p:cNvSpPr txBox="1"/>
          <p:nvPr/>
        </p:nvSpPr>
        <p:spPr>
          <a:xfrm>
            <a:off x="457200" y="144792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ly ??, 2016 at Met Cent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e Discussing Data Needed for the GIC System Mode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Questions Regarding Use of the GIC Module.</a:t>
            </a:r>
            <a:endParaRPr b="0" lang="en-US" sz="2600" spc="-1" strike="noStrike">
              <a:solidFill>
                <a:srgbClr val="000000"/>
              </a:solidFill>
              <a:latin typeface="Calibri"/>
            </a:endParaRPr>
          </a:p>
        </p:txBody>
      </p:sp>
      <p:sp>
        <p:nvSpPr>
          <p:cNvPr id="53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1E2D-AEAC-40D6-8DF6-A3FB81501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Questions and Answers</a:t>
            </a:r>
            <a:endParaRPr b="0" lang="en-US" sz="4400" spc="-1" strike="noStrike">
              <a:solidFill>
                <a:srgbClr val="000000"/>
              </a:solidFill>
              <a:latin typeface="Calibri"/>
            </a:endParaRPr>
          </a:p>
        </p:txBody>
      </p:sp>
      <p:pic>
        <p:nvPicPr>
          <p:cNvPr id="537" name="Picture 2" descr="question-mark3a.jpg"/>
          <p:cNvPicPr/>
          <p:nvPr/>
        </p:nvPicPr>
        <p:blipFill>
          <a:blip r:embed="rId1"/>
          <a:stretch/>
        </p:blipFill>
        <p:spPr>
          <a:xfrm>
            <a:off x="3236760" y="2206800"/>
            <a:ext cx="2670480" cy="3315960"/>
          </a:xfrm>
          <a:prstGeom prst="rect">
            <a:avLst/>
          </a:prstGeom>
          <a:ln w="0">
            <a:noFill/>
          </a:ln>
        </p:spPr>
      </p:pic>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7230-5AE4-49AB-91AE-BE7AB9E73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June 28, 2016 Meeting</a:t>
            </a:r>
            <a:endParaRPr b="0" lang="en-US" sz="4400" spc="-1" strike="noStrike">
              <a:solidFill>
                <a:srgbClr val="000000"/>
              </a:solidFill>
              <a:latin typeface="Calibri"/>
            </a:endParaRPr>
          </a:p>
        </p:txBody>
      </p:sp>
      <p:sp>
        <p:nvSpPr>
          <p:cNvPr id="497"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ed PGRR0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sed Draft of Procedure Man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ed Next Activiti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4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BCCA-477D-4935-9348-9927F0794E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PL-007-1 Transmission System Planned Performance for Geomagnetic Disturbance Events</a:t>
            </a:r>
            <a:endParaRPr b="0" lang="en-US" sz="3000" spc="-1" strike="noStrike">
              <a:solidFill>
                <a:srgbClr val="000000"/>
              </a:solidFill>
              <a:latin typeface="Calibri"/>
            </a:endParaRPr>
          </a:p>
        </p:txBody>
      </p:sp>
      <p:sp>
        <p:nvSpPr>
          <p:cNvPr id="501" name=""/>
          <p:cNvSpPr txBox="1"/>
          <p:nvPr/>
        </p:nvSpPr>
        <p:spPr>
          <a:xfrm>
            <a:off x="456840" y="1295280"/>
            <a:ext cx="8381880" cy="5029200"/>
          </a:xfrm>
          <a:prstGeom prst="rect">
            <a:avLst/>
          </a:prstGeom>
          <a:noFill/>
          <a:ln w="0">
            <a:noFill/>
          </a:ln>
        </p:spPr>
        <p:txBody>
          <a:bodyPr anchor="t">
            <a:normAutofit fontScale="8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pplicability: </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1.  Functional Entities: </a:t>
            </a:r>
            <a:endParaRPr b="0" lang="en-US" sz="2400" spc="-1" strike="noStrike">
              <a:solidFill>
                <a:srgbClr val="000000"/>
              </a:solidFill>
              <a:latin typeface="Calibri"/>
            </a:endParaRPr>
          </a:p>
          <a:p>
            <a:pPr lvl="1" marL="39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1.1  </a:t>
            </a:r>
            <a:r>
              <a:rPr b="0" lang="en-US" sz="2200" spc="-1" strike="noStrike">
                <a:solidFill>
                  <a:srgbClr val="000000"/>
                </a:solidFill>
                <a:latin typeface="Calibri"/>
              </a:rPr>
              <a:t>Planning Coordinator with a planning area that includes a </a:t>
            </a:r>
            <a:r>
              <a:rPr b="0" lang="en-US" sz="2200" spc="-1" strike="noStrike">
                <a:solidFill>
                  <a:srgbClr val="000000"/>
                </a:solidFill>
                <a:latin typeface="Calibri"/>
              </a:rPr>
              <a:t>	</a:t>
            </a:r>
            <a:r>
              <a:rPr b="0" lang="en-US" sz="2200" spc="-1" strike="noStrike">
                <a:solidFill>
                  <a:srgbClr val="000000"/>
                </a:solidFill>
                <a:latin typeface="Calibri"/>
              </a:rPr>
              <a:t>    Facility or Facilities specified in 4.2; </a:t>
            </a:r>
            <a:endParaRPr b="0" lang="en-US" sz="2200" spc="-1" strike="noStrike">
              <a:solidFill>
                <a:srgbClr val="000000"/>
              </a:solidFill>
              <a:latin typeface="Calibri"/>
            </a:endParaRPr>
          </a:p>
          <a:p>
            <a:pPr lvl="1" marL="39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1.2 </a:t>
            </a:r>
            <a:r>
              <a:rPr b="0" lang="en-US" sz="2200" spc="-1" strike="noStrike">
                <a:solidFill>
                  <a:srgbClr val="000000"/>
                </a:solidFill>
                <a:latin typeface="Calibri"/>
              </a:rPr>
              <a:t>Transmission Planner with a planning area that includes a </a:t>
            </a:r>
            <a:r>
              <a:rPr b="0" lang="en-US" sz="2200" spc="-1" strike="noStrike">
                <a:solidFill>
                  <a:srgbClr val="000000"/>
                </a:solidFill>
                <a:latin typeface="Calibri"/>
              </a:rPr>
              <a:t>	</a:t>
            </a:r>
            <a:r>
              <a:rPr b="0" lang="en-US" sz="2200" spc="-1" strike="noStrike">
                <a:solidFill>
                  <a:srgbClr val="000000"/>
                </a:solidFill>
                <a:latin typeface="Calibri"/>
              </a:rPr>
              <a:t>    Facility or Facilities specified in 4.2; </a:t>
            </a:r>
            <a:endParaRPr b="0" lang="en-US" sz="2200" spc="-1" strike="noStrike">
              <a:solidFill>
                <a:srgbClr val="000000"/>
              </a:solidFill>
              <a:latin typeface="Calibri"/>
            </a:endParaRPr>
          </a:p>
          <a:p>
            <a:pPr lvl="1" marL="39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1.3  </a:t>
            </a:r>
            <a:r>
              <a:rPr b="0" lang="en-US" sz="2200" spc="-1" strike="noStrike">
                <a:solidFill>
                  <a:srgbClr val="000000"/>
                </a:solidFill>
                <a:latin typeface="Calibri"/>
              </a:rPr>
              <a:t>Transmission Owner who owns a Facility or Facilities specified </a:t>
            </a:r>
            <a:r>
              <a:rPr b="0" lang="en-US" sz="2200" spc="-1" strike="noStrike">
                <a:solidFill>
                  <a:srgbClr val="000000"/>
                </a:solidFill>
                <a:latin typeface="Calibri"/>
              </a:rPr>
              <a:t>	</a:t>
            </a:r>
            <a:r>
              <a:rPr b="0" lang="en-US" sz="2200" spc="-1" strike="noStrike">
                <a:solidFill>
                  <a:srgbClr val="000000"/>
                </a:solidFill>
                <a:latin typeface="Calibri"/>
              </a:rPr>
              <a:t>    in 4.2; </a:t>
            </a:r>
            <a:endParaRPr b="0" lang="en-US" sz="2200" spc="-1" strike="noStrike">
              <a:solidFill>
                <a:srgbClr val="000000"/>
              </a:solidFill>
              <a:latin typeface="Calibri"/>
            </a:endParaRPr>
          </a:p>
          <a:p>
            <a:pPr lvl="1" marL="39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1.4  </a:t>
            </a:r>
            <a:r>
              <a:rPr b="0" lang="en-US" sz="2200" spc="-1" strike="noStrike">
                <a:solidFill>
                  <a:srgbClr val="000000"/>
                </a:solidFill>
                <a:latin typeface="Calibri"/>
              </a:rPr>
              <a:t>Generator Owner who owns a Facility or Facilities specified in </a:t>
            </a:r>
            <a:r>
              <a:rPr b="0" lang="en-US" sz="2200" spc="-1" strike="noStrike">
                <a:solidFill>
                  <a:srgbClr val="000000"/>
                </a:solidFill>
                <a:latin typeface="Calibri"/>
              </a:rPr>
              <a:t>	</a:t>
            </a:r>
            <a:r>
              <a:rPr b="0" lang="en-US" sz="2200" spc="-1" strike="noStrike">
                <a:solidFill>
                  <a:srgbClr val="000000"/>
                </a:solidFill>
                <a:latin typeface="Calibri"/>
              </a:rPr>
              <a:t>    4.2. </a:t>
            </a:r>
            <a:endParaRPr b="0" lang="en-US" sz="2200" spc="-1" strike="noStrike">
              <a:solidFill>
                <a:srgbClr val="000000"/>
              </a:solidFill>
              <a:latin typeface="Calibri"/>
            </a:endParaRPr>
          </a:p>
          <a:p>
            <a:pPr lvl="1" marL="39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2.  Facilities: </a:t>
            </a:r>
            <a:endParaRPr b="0" lang="en-US" sz="2200" spc="-1" strike="noStrike">
              <a:solidFill>
                <a:srgbClr val="000000"/>
              </a:solidFill>
              <a:latin typeface="Calibri"/>
            </a:endParaRPr>
          </a:p>
          <a:p>
            <a:pPr lvl="2" marL="7455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2.1  </a:t>
            </a:r>
            <a:r>
              <a:rPr b="0" lang="en-US" sz="1900" spc="-1" strike="noStrike">
                <a:solidFill>
                  <a:srgbClr val="000000"/>
                </a:solidFill>
                <a:latin typeface="Calibri"/>
              </a:rPr>
              <a:t>Facilities that include power transformer(s) with a high side, </a:t>
            </a:r>
            <a:r>
              <a:rPr b="0" lang="en-US" sz="1900" spc="-1" strike="noStrike">
                <a:solidFill>
                  <a:srgbClr val="000000"/>
                </a:solidFill>
                <a:latin typeface="Calibri"/>
              </a:rPr>
              <a:t>	</a:t>
            </a:r>
            <a:r>
              <a:rPr b="0" lang="en-US" sz="1900" spc="-1" strike="noStrike">
                <a:solidFill>
                  <a:srgbClr val="000000"/>
                </a:solidFill>
                <a:latin typeface="Calibri"/>
              </a:rPr>
              <a:t>         wye-grounded winding with terminal voltage greater than 200 kV. </a:t>
            </a:r>
            <a:endParaRPr b="0" lang="en-US" sz="1900" spc="-1" strike="noStrike">
              <a:solidFill>
                <a:srgbClr val="000000"/>
              </a:solidFill>
              <a:latin typeface="Calibri"/>
            </a:endParaRPr>
          </a:p>
          <a:p>
            <a:pPr lvl="1" marL="39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8DD8-53F7-49A7-AD24-58269FE4C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rns Expressed by Some PGDTF Members</a:t>
            </a:r>
            <a:endParaRPr b="0" lang="en-US" sz="4000" spc="-1" strike="noStrike">
              <a:solidFill>
                <a:srgbClr val="000000"/>
              </a:solidFill>
              <a:latin typeface="Calibri"/>
            </a:endParaRPr>
          </a:p>
        </p:txBody>
      </p:sp>
      <p:sp>
        <p:nvSpPr>
          <p:cNvPr id="505" name=""/>
          <p:cNvSpPr txBox="1"/>
          <p:nvPr/>
        </p:nvSpPr>
        <p:spPr>
          <a:xfrm>
            <a:off x="457200" y="1599840"/>
            <a:ext cx="83059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onale for a Geomagnetically Induced Current (GIC) System Model Below 200 k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Implications if GIC System Model Contains Facilities Below 200 kV.</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C7F9-15C9-4062-B552-DAE69452F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C System Model Below 200 kV </a:t>
            </a:r>
            <a:endParaRPr b="0" lang="en-US" sz="4400" spc="-1" strike="noStrike">
              <a:solidFill>
                <a:srgbClr val="000000"/>
              </a:solidFill>
              <a:latin typeface="Calibri"/>
            </a:endParaRPr>
          </a:p>
        </p:txBody>
      </p:sp>
      <p:sp>
        <p:nvSpPr>
          <p:cNvPr id="509" name=""/>
          <p:cNvSpPr txBox="1"/>
          <p:nvPr/>
        </p:nvSpPr>
        <p:spPr>
          <a:xfrm>
            <a:off x="457200" y="1295280"/>
            <a:ext cx="83059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sons for Limiting GIC System Model to Above 200 kV</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s Requirements in Proposed Stand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s Modeling Efforts of TSPs and G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s Modeling Requirement for TSPs and GOs with Facilities Below 200 k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F933-9C64-4457-8FFD-C556451BD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C System Model Below 200 kV </a:t>
            </a:r>
            <a:endParaRPr b="0" lang="en-US" sz="4400" spc="-1" strike="noStrike">
              <a:solidFill>
                <a:srgbClr val="000000"/>
              </a:solidFill>
              <a:latin typeface="Calibri"/>
            </a:endParaRPr>
          </a:p>
        </p:txBody>
      </p:sp>
      <p:sp>
        <p:nvSpPr>
          <p:cNvPr id="513" name=""/>
          <p:cNvSpPr txBox="1"/>
          <p:nvPr/>
        </p:nvSpPr>
        <p:spPr>
          <a:xfrm>
            <a:off x="457200" y="1295280"/>
            <a:ext cx="830592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tionale for Modeling All of the ERCOT Transmission System.</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ERC Geomagnetic Disturbance Planning Guide States “In Some Systems it May Be Appropriate to Model the Network Below 200 kV.”</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enced GIC Modelers Support Complete System Mode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70% of the 45,115 Miles of Transmission Lines in ERCOT Are Less Than 200 kV.</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High Side, Weye-Grounded ERCOT Transformers Is About Equal at 138 kV and 345 kV.</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0D47-E6F9-47CC-A263-1C2F8255C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C System Model Below 200 kV </a:t>
            </a:r>
            <a:endParaRPr b="0" lang="en-US" sz="4400" spc="-1" strike="noStrike">
              <a:solidFill>
                <a:srgbClr val="000000"/>
              </a:solidFill>
              <a:latin typeface="Calibri"/>
            </a:endParaRPr>
          </a:p>
        </p:txBody>
      </p:sp>
      <p:sp>
        <p:nvSpPr>
          <p:cNvPr id="517" name=""/>
          <p:cNvSpPr txBox="1"/>
          <p:nvPr/>
        </p:nvSpPr>
        <p:spPr>
          <a:xfrm>
            <a:off x="457200" y="1295280"/>
            <a:ext cx="8305920" cy="502920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quivalent Model is Recommended for Excluded Transmission System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nterPoint’s GIC Analysis Identified Two 138/69 kV Autotransformers and One 138-24 kV GSU in the List of the Top Ten Transformers with the Highest GIC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EP’s GIC Analysis Showed About 60% of the Reactive Power Losses Occurred on Their 138 kV and 69 kV System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GDTF Members Believe Modeling the Entire Transmission System is Technically Appropriate.</a:t>
            </a:r>
            <a:endParaRPr b="0" lang="en-US" sz="28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F7A8-E7AD-4CF4-B356-86489CD798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C System Model Below 200 kV </a:t>
            </a:r>
            <a:endParaRPr b="0" lang="en-US" sz="4400" spc="-1" strike="noStrike">
              <a:solidFill>
                <a:srgbClr val="000000"/>
              </a:solidFill>
              <a:latin typeface="Calibri"/>
            </a:endParaRPr>
          </a:p>
        </p:txBody>
      </p:sp>
      <p:sp>
        <p:nvSpPr>
          <p:cNvPr id="521" name=""/>
          <p:cNvSpPr txBox="1"/>
          <p:nvPr/>
        </p:nvSpPr>
        <p:spPr>
          <a:xfrm>
            <a:off x="457200" y="1295280"/>
            <a:ext cx="8305920" cy="50292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GDTF Members Believe Modeling the Entire Transmission System is Needed to Accurately Determine the Impact of a Geomagnetic Disturbance (GMD) Event on the ERCOT System.  Even if the GICs Are Not Large Enough to Cause Thermal Heating Issues for the Transformers, the Increased Reactive Power Losses Could Cause Unacceptable Loading on the Transformers and Unacceptable Voltage. The Voltage Analysis is Required by the Proposed Standard.</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29C9-012B-4595-A09B-D5384ECD8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iance Implications </a:t>
            </a:r>
            <a:endParaRPr b="0" lang="en-US" sz="4400" spc="-1" strike="noStrike">
              <a:solidFill>
                <a:srgbClr val="000000"/>
              </a:solidFill>
              <a:latin typeface="Calibri"/>
            </a:endParaRPr>
          </a:p>
        </p:txBody>
      </p:sp>
      <p:sp>
        <p:nvSpPr>
          <p:cNvPr id="525" name=""/>
          <p:cNvSpPr txBox="1"/>
          <p:nvPr/>
        </p:nvSpPr>
        <p:spPr>
          <a:xfrm>
            <a:off x="457200" y="1295280"/>
            <a:ext cx="8305920" cy="50292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GDTF Members Expressed Uncertainty Over Requiring More Modeling Than the Proposed Standard Requi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GDTF Members Stated NERC Standards are Minimum Requi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GDTF Members Stated the ERCOT Transmission Planning Criteria and SSWG Base Cases Go Beyond the Requirements in TPL-001-4.</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2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ke Juricek – 7/7/2016 ROS Meeting </a:t>
            </a:r>
            <a:endParaRPr b="0" lang="en-US" sz="1200" spc="-1" strike="noStrike">
              <a:solidFill>
                <a:srgbClr val="000000"/>
              </a:solidFill>
              <a:latin typeface="Arial"/>
            </a:endParaRPr>
          </a:p>
        </p:txBody>
      </p:sp>
      <p:sp>
        <p:nvSpPr>
          <p:cNvPr id="5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82CC-7E68-41FE-B0FA-604B6F40B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Oncor</cp:lastModifiedBy>
  <dcterms:modified xsi:type="dcterms:W3CDTF">2016-07-06T14:27:37Z</dcterms:modified>
  <cp:revision>160</cp:revision>
  <dc:subject/>
  <dc:title>PGDTF Update to ROS</dc:title>
</cp:coreProperties>
</file>