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97388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973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2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0"/>
          </p:nvPr>
        </p:nvSpPr>
        <p:spPr>
          <a:xfrm>
            <a:off x="3949200" y="0"/>
            <a:ext cx="30229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407600" y="1153800"/>
            <a:ext cx="4157640" cy="3117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96960" y="4444560"/>
            <a:ext cx="5580000" cy="36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1"/>
          </p:nvPr>
        </p:nvSpPr>
        <p:spPr>
          <a:xfrm>
            <a:off x="0" y="8772480"/>
            <a:ext cx="3022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2"/>
          </p:nvPr>
        </p:nvSpPr>
        <p:spPr>
          <a:xfrm>
            <a:off x="3949200" y="8772480"/>
            <a:ext cx="30229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DC41-F2E6-43E1-A40B-77027E52F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407960" y="1154160"/>
            <a:ext cx="4157640" cy="31179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96960" y="4444560"/>
            <a:ext cx="558000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49560" y="8772480"/>
            <a:ext cx="3022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B23D-2FBA-4C50-9641-1AC8673A6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407960" y="1154160"/>
            <a:ext cx="4157640" cy="31179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96960" y="4444560"/>
            <a:ext cx="558000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49560" y="8772480"/>
            <a:ext cx="3022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CA41-C8E4-474D-B8E8-2458E2C20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E9B0-AA1D-478D-96BC-D4B0D727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F0EC-D6DC-471A-94AB-4FC220BF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3557-A96D-48DE-9E25-57DD049E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771B-8CED-442A-BF65-4BBE240B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1B11-49A9-4440-86A5-7456192F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46D6-5EC6-41E4-937E-22D4D285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FCA06-3792-4DE1-A2AC-522C5C7BCA2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937FE-D1EF-44FE-AE36-D9947727D9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D4B9D-6E11-4E89-955C-5C9CC70F7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6DD7-9FFF-4AFC-8AC4-B4C208A5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0A71B-F134-4C30-8685-3D81007103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FD228-8A55-4D60-97F1-306B6326651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6B919-0847-4727-8951-64DD644F44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D797D-A808-4110-8E14-406E24C6D28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E0016-DBB8-48D6-BB83-E28F4937241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B2A46-6E19-40BC-965B-4D58C5CD9D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7FEC7-7F54-4DC7-B326-DCAC8E9F721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1A405-B3DF-4EB7-92AE-EDD88C569A6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99825-8677-4699-AB4D-6FDC0F301CD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3478C0-72EC-46EB-A8AE-1E4519628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CF69-21A4-41D8-959B-75F198D7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53953A-8674-46B5-AD4B-DDFE321A2CD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D06988-9EB3-400A-864D-983E93A6CD4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474A0E-BA9E-44F1-B953-5D5E09D619B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9C1816-CA19-444A-8328-0542F94B2CE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317833-AEBD-4DA6-AC68-40BF37499DE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552CB4-8857-44DD-A9F0-B22E2585FB2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4E218A-CC02-4BA7-A9F9-7ECCEBC43E2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AAE288-BF6E-4AD0-BD47-0EDB2EE6737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5D27F1-654A-4A60-AD9B-01D19B7814E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EA67FC-92FC-4611-B375-4800CCAEC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E58C-A5D4-484C-ADDB-BA530780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FB8197-C612-4014-8DDB-27E32F9F69D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FA553-FACE-411B-9CE7-7D9DA50011B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3BAE2-4F39-4674-AE8A-F5B6FEE21D7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E113A-E21C-4A0E-9433-86169617A69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41048-CF4B-4D38-8AB0-FF9780030AB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69375-6A79-415D-949F-D17C3BFF5CD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30C0E-B15E-4307-8DA2-0FBD1E5049B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E1A54-5D4F-46B7-9858-05F97B189A6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AE1CD-2AF7-40C9-B6A2-48DEB942F6C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5C6EA-C9E6-4D35-A15B-473691E3D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EB82-2644-427A-9039-BC352336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FB7D3-5F83-47DD-A05A-5ED2C0EB352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B51EB-5894-4324-8EB9-A04F74C955B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1A9C9-AC52-474A-887A-0E54835AD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0D8-4BCF-4D0C-8344-7DA0B641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2E3-0855-42EE-890A-F014011A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D6ED-E992-482F-A722-17C277F9A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34308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ftr" idx="4"/>
          </p:nvPr>
        </p:nvSpPr>
        <p:spPr>
          <a:xfrm>
            <a:off x="2743200" y="6552720"/>
            <a:ext cx="403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Footer text goes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5"/>
          </p:nvPr>
        </p:nvSpPr>
        <p:spPr>
          <a:xfrm>
            <a:off x="8534160" y="6560640"/>
            <a:ext cx="5331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CD64-0321-4B7C-AC1F-5AF09E36EB1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traight Connector 6"/>
          <p:cNvSpPr/>
          <p:nvPr/>
        </p:nvSpPr>
        <p:spPr>
          <a:xfrm>
            <a:off x="76320" y="6477120"/>
            <a:ext cx="59364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traight Connector 7"/>
          <p:cNvSpPr/>
          <p:nvPr/>
        </p:nvSpPr>
        <p:spPr>
          <a:xfrm>
            <a:off x="2193840" y="6477120"/>
            <a:ext cx="685800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9" descr=""/>
          <p:cNvPicPr/>
          <p:nvPr/>
        </p:nvPicPr>
        <p:blipFill>
          <a:blip r:embed="rId2"/>
          <a:stretch/>
        </p:blipFill>
        <p:spPr>
          <a:xfrm>
            <a:off x="838080" y="6248520"/>
            <a:ext cx="1181160" cy="4572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8"/>
          <p:cNvSpPr/>
          <p:nvPr/>
        </p:nvSpPr>
        <p:spPr>
          <a:xfrm>
            <a:off x="54000" y="65530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traight Connector 6"/>
          <p:cNvSpPr/>
          <p:nvPr/>
        </p:nvSpPr>
        <p:spPr>
          <a:xfrm>
            <a:off x="76320" y="6477120"/>
            <a:ext cx="59364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traight Connector 7"/>
          <p:cNvSpPr/>
          <p:nvPr/>
        </p:nvSpPr>
        <p:spPr>
          <a:xfrm>
            <a:off x="2193840" y="6477120"/>
            <a:ext cx="685800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2"/>
          <a:stretch/>
        </p:blipFill>
        <p:spPr>
          <a:xfrm>
            <a:off x="838080" y="6248520"/>
            <a:ext cx="1181160" cy="4572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8"/>
          <p:cNvSpPr/>
          <p:nvPr/>
        </p:nvSpPr>
        <p:spPr>
          <a:xfrm>
            <a:off x="54000" y="65530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ftr" idx="6"/>
          </p:nvPr>
        </p:nvSpPr>
        <p:spPr>
          <a:xfrm>
            <a:off x="2743200" y="6552720"/>
            <a:ext cx="403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ooter text goes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ldNum" idx="7"/>
          </p:nvPr>
        </p:nvSpPr>
        <p:spPr>
          <a:xfrm>
            <a:off x="8610480" y="656064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A818-3855-4DE3-A4DD-4268A29A7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traight Connector 6"/>
          <p:cNvSpPr/>
          <p:nvPr/>
        </p:nvSpPr>
        <p:spPr>
          <a:xfrm>
            <a:off x="76320" y="6477120"/>
            <a:ext cx="59364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traight Connector 7"/>
          <p:cNvSpPr/>
          <p:nvPr/>
        </p:nvSpPr>
        <p:spPr>
          <a:xfrm>
            <a:off x="2193840" y="6477120"/>
            <a:ext cx="685800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9" descr=""/>
          <p:cNvPicPr/>
          <p:nvPr/>
        </p:nvPicPr>
        <p:blipFill>
          <a:blip r:embed="rId2"/>
          <a:stretch/>
        </p:blipFill>
        <p:spPr>
          <a:xfrm>
            <a:off x="838080" y="6248520"/>
            <a:ext cx="1181160" cy="457200"/>
          </a:xfrm>
          <a:prstGeom prst="rect">
            <a:avLst/>
          </a:prstGeom>
          <a:ln w="0">
            <a:noFill/>
          </a:ln>
        </p:spPr>
      </p:pic>
      <p:sp>
        <p:nvSpPr>
          <p:cNvPr id="204" name="TextBox 8"/>
          <p:cNvSpPr/>
          <p:nvPr/>
        </p:nvSpPr>
        <p:spPr>
          <a:xfrm>
            <a:off x="54000" y="65530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304920" y="244440"/>
            <a:ext cx="75960" cy="517680"/>
          </a:xfrm>
          <a:prstGeom prst="rect">
            <a:avLst/>
          </a:prstGeom>
          <a:solidFill>
            <a:srgbClr val="5b67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traight Connector 9"/>
          <p:cNvSpPr/>
          <p:nvPr/>
        </p:nvSpPr>
        <p:spPr>
          <a:xfrm>
            <a:off x="304920" y="244440"/>
            <a:ext cx="99036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ftr" idx="8"/>
          </p:nvPr>
        </p:nvSpPr>
        <p:spPr>
          <a:xfrm>
            <a:off x="2743200" y="6552720"/>
            <a:ext cx="403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ooter text goes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ldNum" idx="9"/>
          </p:nvPr>
        </p:nvSpPr>
        <p:spPr>
          <a:xfrm>
            <a:off x="8610480" y="656064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A504-AC41-48DD-8B39-09FCC9799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75960" y="152280"/>
            <a:ext cx="88390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Resource Cost Working Gro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July 6, 20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WMS Up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ng-Term Solution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l Index Pri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316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CWG continuing work on comprehensive NPRR and companion VCMR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FIP”  Coal Fuel Index Price: “Delivered to ERCOT” index price based on PRB 8400 coal plus rail transpor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0/MMBtu fuel adder for coal and lign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ing Emissions Costs to include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NOx price indices for CSAPR allowances used in verifiable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im solution for a $1.10 fuel adder for coal and lignite resources sunsets 6/1/18 (per VCMRR01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VCMRR013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rifications to Verifiable Cost Appeals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8284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CWG reviewed the timelines for VCMRR013, per WMS 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ed providing the option to utilize either the proposed Verifiable Cost appeals process or AD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COT to provide revised language for review at the next RCWG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tional RCWG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xed Cost Components in the Fuel 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l-time mitigation during exceptional fuel events (NPRR 664, NPRR71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RCWG meeting on Tuesday July 26,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ND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6"/>
          <p:cNvSpPr/>
          <p:nvPr/>
        </p:nvSpPr>
        <p:spPr>
          <a:xfrm>
            <a:off x="3809880" y="2413080"/>
            <a:ext cx="50292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CMRR 013 Time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Ru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W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23,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cc8"/>
                </a:solidFill>
                <a:latin typeface="Arial"/>
              </a:rPr>
              <a:t>VCMRR 013 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8763120" y="6561000"/>
            <a:ext cx="228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BBC5-9537-4E1A-8233-3145E6963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480" y="1066680"/>
            <a:ext cx="792504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MRR013, “Clarifications to Verifiable Cost Appeals Process”, proposes changes to the verifiable costs appeals process.  Accompanying NPRR 769 clarifies that verifiable cost Filing Entities may file an ADR subsequent to a rejected verifiable cost appe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l must be submitted no more than 20 Business Days after rejection of a submitted verifiabl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view meeting may be held no more than 20 Business Days after filing the app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sition paper must be submitted no more than 20 Business Days after filing the app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must make a determination no more than 40 Business Days after the appeal is f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verifiable costs will be effective no more than five Business Days after approval of app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8763120" y="6561000"/>
            <a:ext cx="228600" cy="21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F70D-ECC6-40FF-A69B-7B2ABD84B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Group 20"/>
          <p:cNvGrpSpPr/>
          <p:nvPr/>
        </p:nvGrpSpPr>
        <p:grpSpPr>
          <a:xfrm>
            <a:off x="990720" y="2259000"/>
            <a:ext cx="6251400" cy="1913040"/>
            <a:chOff x="990720" y="2259000"/>
            <a:chExt cx="6251400" cy="1913040"/>
          </a:xfrm>
        </p:grpSpPr>
        <p:sp>
          <p:nvSpPr>
            <p:cNvPr id="266" name="Pentagon 2"/>
            <p:cNvSpPr/>
            <p:nvPr/>
          </p:nvSpPr>
          <p:spPr>
            <a:xfrm>
              <a:off x="3029040" y="3241800"/>
              <a:ext cx="1384200" cy="457200"/>
            </a:xfrm>
            <a:custGeom>
              <a:avLst/>
              <a:gdLst>
                <a:gd name="textAreaLeft" fmla="*/ 0 w 1384200"/>
                <a:gd name="textAreaRight" fmla="*/ 1384560 w 1384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34" y="0"/>
                  </a:lnTo>
                  <a:lnTo>
                    <a:pt x="21600" y="10800"/>
                  </a:lnTo>
                  <a:lnTo>
                    <a:pt x="180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x 20 Business Days after rejectio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Rectangle 4"/>
            <p:cNvSpPr/>
            <p:nvPr/>
          </p:nvSpPr>
          <p:spPr>
            <a:xfrm>
              <a:off x="3013200" y="2259000"/>
              <a:ext cx="1400040" cy="503280"/>
            </a:xfrm>
            <a:prstGeom prst="rect">
              <a:avLst/>
            </a:prstGeom>
            <a:solidFill>
              <a:srgbClr val="45e5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le appea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Rectangle 7"/>
            <p:cNvSpPr/>
            <p:nvPr/>
          </p:nvSpPr>
          <p:spPr>
            <a:xfrm>
              <a:off x="4408560" y="2762280"/>
              <a:ext cx="1387440" cy="473040"/>
            </a:xfrm>
            <a:prstGeom prst="rect">
              <a:avLst/>
            </a:prstGeom>
            <a:solidFill>
              <a:srgbClr val="45e5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Optional) Request review meeting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Rectangle 8"/>
            <p:cNvSpPr/>
            <p:nvPr/>
          </p:nvSpPr>
          <p:spPr>
            <a:xfrm>
              <a:off x="4411800" y="2259000"/>
              <a:ext cx="1380960" cy="509400"/>
            </a:xfrm>
            <a:prstGeom prst="rect">
              <a:avLst/>
            </a:prstGeom>
            <a:solidFill>
              <a:srgbClr val="45e5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bmit position pap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Rectangle 9"/>
            <p:cNvSpPr/>
            <p:nvPr/>
          </p:nvSpPr>
          <p:spPr>
            <a:xfrm>
              <a:off x="5791320" y="2259000"/>
              <a:ext cx="1444320" cy="509400"/>
            </a:xfrm>
            <a:prstGeom prst="rect">
              <a:avLst/>
            </a:prstGeom>
            <a:solidFill>
              <a:srgbClr val="45e5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RCOT determinatio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Rectangle 10"/>
            <p:cNvSpPr/>
            <p:nvPr/>
          </p:nvSpPr>
          <p:spPr>
            <a:xfrm>
              <a:off x="1609560" y="2259000"/>
              <a:ext cx="1403280" cy="503280"/>
            </a:xfrm>
            <a:prstGeom prst="rect">
              <a:avLst/>
            </a:prstGeom>
            <a:solidFill>
              <a:srgbClr val="45e5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C submission rejected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Rectangle 11"/>
            <p:cNvSpPr/>
            <p:nvPr/>
          </p:nvSpPr>
          <p:spPr>
            <a:xfrm>
              <a:off x="990720" y="2259000"/>
              <a:ext cx="617400" cy="982800"/>
            </a:xfrm>
            <a:prstGeom prst="rect">
              <a:avLst/>
            </a:prstGeom>
            <a:solidFill>
              <a:srgbClr val="c1f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Rectangle 12"/>
            <p:cNvSpPr/>
            <p:nvPr/>
          </p:nvSpPr>
          <p:spPr>
            <a:xfrm>
              <a:off x="990720" y="3241800"/>
              <a:ext cx="618840" cy="930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lin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Pentagon 13"/>
            <p:cNvSpPr/>
            <p:nvPr/>
          </p:nvSpPr>
          <p:spPr>
            <a:xfrm>
              <a:off x="4411800" y="3230640"/>
              <a:ext cx="1384200" cy="457200"/>
            </a:xfrm>
            <a:custGeom>
              <a:avLst/>
              <a:gdLst>
                <a:gd name="textAreaLeft" fmla="*/ 0 w 1384200"/>
                <a:gd name="textAreaRight" fmla="*/ 1384560 w 1384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34" y="0"/>
                  </a:lnTo>
                  <a:lnTo>
                    <a:pt x="21600" y="10800"/>
                  </a:lnTo>
                  <a:lnTo>
                    <a:pt x="180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x 20 Business Day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Pentagon 14"/>
            <p:cNvSpPr/>
            <p:nvPr/>
          </p:nvSpPr>
          <p:spPr>
            <a:xfrm>
              <a:off x="4411800" y="3676680"/>
              <a:ext cx="2819160" cy="476280"/>
            </a:xfrm>
            <a:custGeom>
              <a:avLst/>
              <a:gdLst>
                <a:gd name="textAreaLeft" fmla="*/ 0 w 2819160"/>
                <a:gd name="textAreaRight" fmla="*/ 2819520 w 281916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76" y="0"/>
                  </a:lnTo>
                  <a:lnTo>
                    <a:pt x="21600" y="10800"/>
                  </a:lnTo>
                  <a:lnTo>
                    <a:pt x="1977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x 40 Business Days after appeal filing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Straight Connector 17"/>
            <p:cNvSpPr/>
            <p:nvPr/>
          </p:nvSpPr>
          <p:spPr>
            <a:xfrm flipV="1">
              <a:off x="1609560" y="3230640"/>
              <a:ext cx="56214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Straight Connector 18"/>
            <p:cNvSpPr/>
            <p:nvPr/>
          </p:nvSpPr>
          <p:spPr>
            <a:xfrm flipV="1">
              <a:off x="1620720" y="4158000"/>
              <a:ext cx="56214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cc8"/>
                </a:solidFill>
                <a:latin typeface="Arial"/>
              </a:rPr>
              <a:t>VCMRR 013 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480" y="1066680"/>
            <a:ext cx="79250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 graph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uel Cost Components in the Fuel Ad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53352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5181480"/>
                <a:gridCol w="1143000"/>
                <a:gridCol w="917640"/>
                <a:gridCol w="9874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tural Gas Cost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l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cl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ural gas commodity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peline fuel lo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peline commodity char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peline capacity reservation demand char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peline balancing 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peline minimum requirement char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peline penal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age injection and withdrawal fuel lo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age injection and withdrawal commodity char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age capacity reservation demand char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er Char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dging gains/lo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2:55:06Z</dcterms:created>
  <dc:creator>john</dc:creator>
  <dc:description/>
  <dc:language>en-US</dc:language>
  <cp:lastModifiedBy>Vinson, Paul T.</cp:lastModifiedBy>
  <cp:lastPrinted>2016-01-27T22:16:08Z</cp:lastPrinted>
  <dcterms:modified xsi:type="dcterms:W3CDTF">2016-07-01T20:19:34Z</dcterms:modified>
  <cp:revision>172</cp:revision>
  <dc:subject/>
  <dc:title>PowerPoint Presentation</dc:title>
</cp:coreProperties>
</file>