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710F-A8C3-4772-8897-5D651D83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CBAB-C120-46D7-BBFF-B7D6945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E62C-BD2F-4138-B248-111087B1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94BF-117D-4642-997B-76BE9B74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9291-945E-451F-8F14-9F370641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C46B-94BB-4DD1-821D-38386A0A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D7A-C70A-4C38-BA22-BC1915A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63C6-3A5F-4EC1-99B0-DB51191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567D-B0A9-4E5E-9095-40331AA7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BCF3-E323-4EB1-9065-8DD44BA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BA0-2515-4D2B-A6EA-5A1EA06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0A1B-8E54-47C8-BE4F-B1AB649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CE9-15C8-457E-B8E1-C49BB9E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F02-886B-48E3-9B8C-4457931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8D5-6895-486C-AEEE-5C8C880C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4DE9-3904-45B7-9FDE-6D17B68E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A412-202C-454F-996B-C5191A49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BC9C-74D3-4002-BC37-F759B00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9C9A-FA7F-4F8F-9C4F-98A4BA9B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7BC0-45E4-424D-ADBB-09F1CD02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D4BB-5CF0-49FB-9A94-6FEC5D39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C309-9535-4202-9E1C-FF2DA71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76F7-AB7A-4AB2-A7E1-805A9FF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0C49-A923-48BC-975E-4D18D8C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701-F363-49FB-AC96-60C43E91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C46F-E4D1-4878-9AA2-F20CF86E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803C4-4FD9-4810-BFC9-23AFA79833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58F3E-93AF-4D3C-93D7-CED4A651B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48924-B79D-448C-B230-A364BDC4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/26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4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s to Market Notice Communication Proces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4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 to COPS Organizational Structure, Creation of MDWG and Updates to PWG Responsibilitie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G Repor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6 Q1 Non-Registered DG Installed Capacity and Current DG Registration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epor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 format will be revised per NPRR719 and COPMGRR040 and is under development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3880" y="2438280"/>
          <a:ext cx="5765760" cy="1847880"/>
        </p:xfrm>
        <a:graphic>
          <a:graphicData uri="http://schemas.openxmlformats.org/drawingml/2006/table">
            <a:tbl>
              <a:tblPr/>
              <a:tblGrid>
                <a:gridCol w="1003320"/>
                <a:gridCol w="1001880"/>
                <a:gridCol w="1209600"/>
                <a:gridCol w="2550960"/>
              </a:tblGrid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h_Exported_Prior_12_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7,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,7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LC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10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2,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RAY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98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9,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30,5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84 – Daily Grid Operation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language to present to the Executive Review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OGRR and IA to be reviewed at OWG and 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preparing wireframes for review at next MD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OGRR language ~ 2-3 month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-Day Disclosur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the offer curves is published as zero when should be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o be deployed in R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Market Data Transparency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WG and CSWG have reviewed the document and provided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COPS voting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igital Certificates and Windows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on’t play well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DGE browser does not support ActiveX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: Market Notice with instructions was sent out 5/2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C users must run Internet Explorer 11 in compatibilit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leted Load Profiling Guide and Protocol Section 18 Review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approved draft NPRR and LPG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dits to draft NPRR and LPGRR will be compared to exis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olume of revisions necessitates thorough review prior to submitting to ERCOT Market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June 15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 021616</cp:lastModifiedBy>
  <cp:lastPrinted>2016-05-12T17:27:11Z</cp:lastPrinted>
  <dcterms:modified xsi:type="dcterms:W3CDTF">2016-05-12T19:53:36Z</dcterms:modified>
  <cp:revision>1558</cp:revision>
  <dc:subject/>
  <dc:title>Instructions</dc:title>
</cp:coreProperties>
</file>