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dt" idx="3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ftr" idx="3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 type="sldNum" idx="3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4B550E-5CD2-4B77-9AEB-6B41F3CAC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D50DB9-493D-41FD-939A-0461164B6D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939055-E14F-4F9F-9284-34F2585643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1EE231-FC9E-4E66-90B2-15EE50B801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3D4DB0-EA3F-4151-9C11-A85FF76D24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F19C-D06F-4DD5-ADA7-D07FB0D89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F25D-5060-4B7F-9847-BEA656DE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3F9C72-703D-4680-870C-5D80A4F9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E65700-E3A9-443E-AADA-8429D02E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128F60-0A63-4B4A-BF71-EE19D345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253062-083C-4A16-9251-9A6BDD1F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C2F63A-2C05-48C4-AE5C-929DC72D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E047DB-AF2F-458D-B3BB-4E5B9C1C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8AA48E-2F36-46BA-8A09-9E8A913A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0413B3-A2E1-4F2D-BC7F-07A90E16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1C2EBD-2F3F-4BE4-89D0-B89304D63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BFDDE1-7047-4C18-BD59-D1994CC6F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4665-5F1C-49CB-B43C-F99545A96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D2A797-60A4-4A7A-A250-33877179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BC73DE-0137-4A08-89E4-2518DBB6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BFD527-46C7-46AD-848A-BE939BD6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6CF89B-A348-4999-A655-F9051140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F0CD5C-C629-4BE4-A96A-CDCD8FF4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704787-8460-49E7-A01D-0BD219ED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A6C102-4F27-4630-A66F-DAD42295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8542FA-46D8-4373-8642-AA90F3C4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ACA832-F213-4931-9C3F-A3A3F52B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01D3DD-E73E-4C86-96B9-4E11E65D3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B00B-B9FC-4DAD-8B50-38466E43F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4A67DA-B5D5-4EFA-A750-221FE64BF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795C-AB9D-4832-A21E-7F8C1167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8683-B5BF-4053-A4EC-A7B13727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2912-BE1F-4DE8-8389-CBA341C8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E94E-C077-49F7-A5C1-4B87A4EE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E551-0B4B-45ED-A098-E17C8742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6635-6DEF-4D45-BECC-CB856950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0874-5F6F-483A-823B-2910FFEB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78ED-8EE2-44A0-9EF3-E02395E1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898B-45B2-45DB-852B-0AB47189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82C6-DCE2-43C1-953B-7BAFEE0B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47F6-01E7-4892-B563-56AECC1C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4425-6EE9-4EA7-A462-BBBA7F3E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9BB2-C19B-440D-9DCB-EE95F394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DDE6-0E7F-496A-8934-D15A9BDA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18A5-D54C-4C8D-A021-A75CE74D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9557FD-F04C-44F3-BA33-4009CBAEF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0676-5A06-49BD-91FE-41B8184B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78208C-E58D-4DE6-A23C-89DA856F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DB2B84-A17B-4D4C-A49D-12789DD7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A975A6-35AF-4E95-8605-B8BE079D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A988D2-4652-45AA-9E1B-C1424449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951F03-A827-44B9-98C2-DD8B7499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CD5BC3-63F0-4711-BA69-39359BAA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42FB69-886A-4147-9E6F-580BD1F2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1A3CAD-AA3C-4E0B-A834-22D505C1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18485C-D2DB-45CE-BAB6-7ABD0C2D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ED45F2-B89B-4B47-9387-A1691715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357A-53F1-4D34-A1A4-6384D416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7D2B80-AFAF-4370-92D4-7E60E089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2F58A0-B912-4A22-8F0F-3DEE57DC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686CE6-EDCD-4B2D-9090-C210FAA6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4B7F1A-EEB3-4F20-AE79-3C511343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F4CF4F-DDAB-49D9-98FE-1C174CE4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69F544-CFAF-4C90-B769-6A38CAC0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A5C82A-1466-4BAF-8F95-B79BA674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3D1E21-A2BE-444F-86C6-2792D76E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68CA35-DF49-496F-9767-A93DAEE5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D40053-CBA0-4446-87BA-60310138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F2BB-0676-4EF7-813E-0756C921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B3A6EF-0788-47CC-AE83-8B554CF1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79BB61-2B2F-40DB-90D5-C1241CB51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6328BF-6975-4C7E-AECC-61D32EA08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FF3837-BA2D-418F-8293-EE059C2C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A445DF-420A-49A9-9271-B8BCCA0C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BB4B8C-062B-46AD-B311-9137EA76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8E3A31-D785-4A1C-B4B8-4CE498F3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F3A6A2-B99B-409F-A12C-D14F4B51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229C9B-E052-4EBF-822E-76685F32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8A942A-E40A-464B-9DEF-3C28E703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ED9C-4696-4A83-B3C5-197C2930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3250FB-C74C-4C72-9DFF-40F6A8F7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F4CAE7-0861-46D8-B8DF-78413E92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702618-D3E6-46D1-B4F8-0C5B380A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425A86-1FC5-4266-A306-A73D1113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6A5D38-207B-45F1-86E7-424D0876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1E50C0-FC2A-480D-8D23-B3DC819D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1F467B-BDCB-42A9-BF41-955B1F7D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6851A5-BCB8-467E-B702-C446C810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8957A8-47C6-4D4C-A28A-1634ED83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0F8951-AD99-4EC7-AB4D-DE8F7C8C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152D-4DEA-4299-9C39-3000A41D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72D6FF-95FF-4BB5-8354-1973C84C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23E722-DD5A-4D19-A6A5-391C651C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4E743C-161C-441D-9761-7A51C224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44CB32-9AC6-46D5-8D8F-DC0FD5E1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EC5A7C-1FFB-44C1-9CAB-A0CC1694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0422F7-7460-445A-BA4F-C5317E1B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9C331C-7EE3-435E-BE0C-B5957BDA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7B9563-0731-4BE1-8361-C246F67F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AFA098-D3F4-4D43-84CA-D4F26B6B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573F95-7433-41E2-9414-4A8F6FA7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92BA9A-F47F-4B3A-B977-C9EBADFCC41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ay 26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5FB2F9-0BE9-4417-90A4-BBA7A80051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832780-B3AE-480F-BB12-76010D70EBD2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AY 26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2F7BFC-8DCF-47AD-A992-34184427AF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D1C296-AEBC-4CC1-9AFD-CABC7FEBB4AD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ftr" idx="2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Y 26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2F288D-668D-47A6-A2BC-98CBF65A1944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2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Y 26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DF4C57-19A4-4252-AEA4-430DB9BE6B49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Y 26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189695-2399-4380-9E4C-61162CFA0B91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ftr" idx="3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Y 26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A91349-AC65-494E-AA14-FD5B71951F14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3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Y 26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718C3B-B9FE-44C1-9033-1086683F7BD8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ftr" idx="3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Y 26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0159E1-83BC-41E5-9705-AF318753D69E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Y 26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0088FB-CA3E-4C30-B399-065014031996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3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Y 26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9D0396-7A90-414D-BF74-730927E1B3DB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AY 26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84CCBE-06C6-435B-980A-9948C2D6DB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ay 26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E773F4-5D1C-49AD-8DBD-1A8A3DE81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ay 26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312222-C36F-4601-ABFC-CA4464359325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AY 26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9774A8-EDFB-40B6-91D1-66B63045E8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96E312-2D52-4A9D-9835-3DC9782829B6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AY 26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C65EA1-3F95-4282-87DB-EFF2DFEF59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5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50E058-87F6-4007-9EDA-DED72D4836F5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6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AY 26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7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8B4F29-5BE9-4196-B51E-81F9B02875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8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806073-4EC9-464B-8601-276BFD07B4F3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9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4068"/>
                </a:solidFill>
                <a:latin typeface="Times New Roman"/>
              </a:rPr>
              <a:t>MAY 26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0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F428BA-0FE7-4EF4-B152-E4A80CD6DE38}" type="slidenum">
              <a:rPr b="0" lang="en-US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4595C4-C4ED-4A9E-9678-021BC5839961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AY 26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260A43-03C2-4E04-B551-F8EE7E9847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Group 13"/>
          <p:cNvGrpSpPr/>
          <p:nvPr/>
        </p:nvGrpSpPr>
        <p:grpSpPr>
          <a:xfrm>
            <a:off x="787320" y="2804760"/>
            <a:ext cx="7543800" cy="2871720"/>
            <a:chOff x="787320" y="2804760"/>
            <a:chExt cx="7543800" cy="2871720"/>
          </a:xfrm>
        </p:grpSpPr>
        <p:sp>
          <p:nvSpPr>
            <p:cNvPr id="784" name="TextBox 9"/>
            <p:cNvSpPr/>
            <p:nvPr/>
          </p:nvSpPr>
          <p:spPr>
            <a:xfrm>
              <a:off x="787320" y="3082680"/>
              <a:ext cx="7543800" cy="25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holesale Market Subcommittee (WM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eremy Carpe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6 WM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ical Advisory Committee (TAC) Meeting Re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584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Y 26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Meeting Schedule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ast WMS mee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May 4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, 2016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Next WMS mee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June 8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, 2016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9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Y 26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TAC Voting Item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8000"/>
          </a:bodyPr>
          <a:p>
            <a:pPr lvl="1" marL="1958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VCMRR 009 – Calculation of the Minimum Requirements Fe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58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Motion to approve with 4/26 RCWG commen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58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d (Unanimously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58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Option 3 allocates minimum fuel purchase costs over usage from the resource, from any 3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rd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 party transactions, and from any storage volum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58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VCMRR 014 – Revise Fuel Adder Factor for Coal and Lignite Resources (Urgent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58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Motion to grant urgent statu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58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d (1 Abstention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58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Motion to approv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58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d (1 Abstention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58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dds $1.10/MMBtu for coal/lignite fired resources in verifiable costs as a result of increase in coal pric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58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onsidered a temporary solution until a long term resolution can be determined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58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2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Y 26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WMS Voting Item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NPRR 759 – Segmentation of the Total New Capacity in the ERCOT CDR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Referred to SAW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NPRR 696 – Price Correction Following a SCED Failure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abled for one more month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NPRR 738 – ERS Performance Calculations During TPSP Outag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uthorized and endorsed with DSWG and WMS commen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VCMRR 013 – Clarifications to Verifiable Cost Appeals Proces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abled until NPRR 769 is reviewed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5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Y 26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WMS Other Busines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Joint ROS/WMS Workshop on RMR and Regional Haz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           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8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Y 26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Carpenter, Jeremy</cp:lastModifiedBy>
  <cp:lastPrinted>2016-05-25T12:38:50Z</cp:lastPrinted>
  <dcterms:modified xsi:type="dcterms:W3CDTF">2016-05-25T13:03:20Z</dcterms:modified>
  <cp:revision>871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  <property fmtid="{D5CDD505-2E9C-101B-9397-08002B2CF9AE}" pid="4" name="Vault">
    <vt:lpwstr>0</vt:lpwstr>
  </property>
</Properties>
</file>