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F18-9005-4845-8988-6E9565AD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A86B-555C-4768-A99D-59C298D4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FDD-210E-479A-B0D3-37732632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9D3-2712-4813-80CD-75EE924B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E00-3D80-42F8-9855-ACDBBD16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104-71D8-46F0-9B56-6849D6C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89D-34C3-416B-B165-2A7A302E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EB7-44D5-49E4-AA81-9703D482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53D-DCA3-4E65-92BC-742C1A89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BB24-C312-43D6-B993-E869E4D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092E-6E27-440D-A1BA-18349C9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3A20-9491-482C-85A3-4E3708A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41A-704E-47A9-B309-68169B3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02AA-9A8E-49C1-A7BA-F7F9C56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7833-F4B1-44AB-AB25-B5DD2EE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CF1-DCCD-432D-8BFB-952854D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62F-CBC2-4FDF-A942-6670552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296A-8B7E-4D79-8442-58FDEB4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6205-B312-422C-AA99-3FEBEB4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4E99-EBD7-475C-93CF-DF2C0CAC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6AC-869D-4328-9E05-D2635D1C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D3C4-0EE9-4504-9E2A-60EBFDED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CAE0-C0B6-43FD-BF88-31DE480D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B6BD-A89D-43B3-B746-7F3854F9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BE48-3E83-4870-92D1-9637574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D000-B431-487F-93EE-8EC9A20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5DA-D154-444A-9424-17B2DD4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A88A-061D-4F65-8337-9AFC8B5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E446-3B8C-4ACC-8EE1-B21F3B0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F28A-7FF2-483A-BE9B-92901AB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1A33-4A60-4554-AB10-C5C8FA1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D21C-F518-48DA-8437-6A8C41A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5112-8721-4471-B4FF-A37E970C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53C0-55F3-41B6-9EF9-E8CE375F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E31B-7139-4847-92DE-02301F20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8380-560A-45FA-8E6F-9821C75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A539-BA51-4A1E-B74F-70517CC2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0A8-0E0E-4717-AD00-3FD3AE72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D879-B8B3-450F-97D0-7F72588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4721-854D-48F9-A97D-E7CEDF4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1BCB-9552-4F3D-942C-EF50C96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C691-E398-4EA2-960E-45B16122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BF72-E9F1-4A3C-AFF2-51C547B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0416-951C-4962-9CA6-DAEB594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4943-325E-48CD-BB76-E86DA98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CD9F-2F7D-45F6-A318-81F0AC2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D232-B3EE-4FC3-AB2F-B28E70B1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BCCC-E7E1-4A5E-BF76-024A70CB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A1B-1461-4C43-B9D2-30861BC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D785-3029-415D-8E88-AB85AE1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D621-3281-440B-B56B-0365CEA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29B5-E544-4896-8319-BC380B1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D932C-321C-4B95-B6EA-E007392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B49D-869D-44AE-9F52-52FBA04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DE1F-759B-4B5F-91E9-C917DE3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A257-38F9-443F-93B7-2256BBE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092E6-0706-44E8-8C5E-B41CC38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5DC3-4163-4C3D-B6BC-135ECFC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01F0-1E3A-43F0-BAAF-D27842F8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042-373E-4471-AF7D-060649E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9E922-701C-4B62-A69C-D00046CC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8770-F043-4C48-AE50-C1A80E94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5C83-EFA6-4306-A0EF-FE8AE85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DB36-4A84-4BF0-A1CD-E4BBF1A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9E86-97A9-4159-8E49-81BDCCB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FF54-B6C3-4CF3-ACA4-A7E8FFF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9335-5BB0-4F94-9100-C58E9150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6715E-051F-41BC-B851-4339968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A723-0805-459E-9303-F98158A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B95D-B905-49AA-BBD2-74812E1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8A9-0124-4407-91DE-F6F8C8D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DEC60-5246-4E6E-AB5B-D8BF235C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9CA7-11B4-4ADA-B89F-3E21F48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41C1E-BDB2-4B7D-8F3A-5FADAE10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11A9-8327-4306-B603-18E8DB92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85C8F-91E9-4D5B-82A9-024CE5A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7FEF-D3D4-42F6-8A80-F77EBC0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DEC9-BA58-46F7-B8F2-282D90F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B9C2-ACC6-4BDA-A69E-F0C4A578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3E0C-593C-45F8-8299-C25736D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0105-20B7-43F7-86B9-71E1C95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A28-490F-4FEE-82FF-5A13FA3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B072-59C2-47ED-8E8A-7D0C1F5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62193-7A57-43BF-99D2-C019182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2A7E6-7621-4A24-9763-F09C948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76D4-D601-4A9D-A469-B960BD9F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5CC1-39CF-4CAB-8462-EDB702D9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362-FFB3-493B-A86E-A536E27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4AA-7876-4BC2-B3EB-D55B9BB5A7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2E9D-B255-4995-BD64-962696DB80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20B-2437-42DE-AE4D-4B1C352C5B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DC1-C265-4CD4-B079-6D3FFAA690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67E-3F61-4EE8-B4AE-EE784EE86F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1D48-BBD8-4F42-A5CD-5042F2D255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B85A-126C-4BED-BFEB-E7C699C953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7532/13.__Inadvertent_Stats___February_2016.pptx" TargetMode="External"/><Relationship Id="rId2" Type="http://schemas.openxmlformats.org/officeDocument/2006/relationships/hyperlink" Target="http://ercot.com/content/wcm/key_documents_lists/77532/13.__May_RMS_2016_IAG_Numbers.ppt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May 3, 2016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 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946F-0FA6-4DDF-BFCF-1CD2031C14C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Announcement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9237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MS Cancelled our July 5</a:t>
            </a:r>
            <a:r>
              <a:rPr b="1" lang="en-US" sz="28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Meeting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e to Leadership’s concerns abou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fety with MPs traveling to and from Austin on Jul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oliday wee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for flights and overnight hotel stays during the holiday wee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ablishing and/or maintaining quorum in order to conduct voting on key document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58DD-7652-46D2-B8B6-3835D6214DA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F1EC-5BF6-4FAF-B6F7-EBDF3F70606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,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C:\Users\00015621\AppData\Local\Microsoft\Windows\Temporary Internet Files\Content.IE5\FALW4JXL\question 1[1].jpg"/>
          <p:cNvPicPr/>
          <p:nvPr/>
        </p:nvPicPr>
        <p:blipFill>
          <a:blip r:embed="rId1"/>
          <a:stretch/>
        </p:blipFill>
        <p:spPr>
          <a:xfrm>
            <a:off x="1697040" y="838080"/>
            <a:ext cx="6705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RMS Voting Recommendations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MGRR136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witch Hold Removal Process Clarifications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(Vo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arifies supporting documentation requirements submitted by CRs when requesting removal of a switch hold by the TDS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Recommends TAC’s  Approval of RMGRR136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However,  TAC should also consider AEP’s RMGRR136 Comments dated May 18, 2016 for inclusion into TAC’s motion for Approval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MGRR137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imeline and Completion Process for Correcting Customer Billing Contact Information Files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(Vo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Recommends TAC’s  Approval of RMGRR137.  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C8E-8BD9-4537-BBD0-EED3E0D870C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Texas Data Transport and MarkeTrak  (TDTMS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DTMS EDM Data Transport Implementation Guide Revis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hanges were needed due to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ile name changes that are being implemented in July with approved RMGRR126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rformed final review of SCR786 – 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ail Testing Environmen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iness Require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ject number assigned by ERCOT is </a:t>
            </a: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“192-01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50D2-1844-43D3-A1B4-941CDCDD0E4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evision Requests Tabled at RM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MGRR132, NOIE Disconnect and Reconnect Process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Burke (submitter) provided status report that RMGRR132 may be replaced by draft NPRR being submitted by Taylor Woodruff (Oncor)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also stated he will know more later after the NPRR works its way through the approval process if the RMGRR needs to be re-written to synch with new Protocol language or withdraw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Taylor’s assistance, Tom will take the lead in guiding  this new NPRR through the approval process at RMS, WMS and PRS, and if still needed new RMGRR langua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FE92-D016-47EB-BB3E-7DAF8B415C3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MS Voting Recommendation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PRR753 and RMGRR134 (Vote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Revisions Request Allows an AMS Data Submittal Process for TDSP Read Non-Modeled Generato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5/03/16 RM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NPRR753 received Unanimous Endorsement,    however, the associated RMGRR134 was Approved with 5 Abstentions coming from Consumer and IOU Segments.  The IOU segment’s concerns are violating Customer’s data confidentiality and privacy by providing their generation data to Smart Meter Texa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/12/16 P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  Approved NPRR753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/7/16 RM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   Review and voting consideration of RMGRR134’s Impact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4F9-150B-44ED-91CD-46CE82504AE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9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84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0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12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dential =              279 (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-6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 access issues =          69  (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ration issues =       139  (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5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8,43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  1,78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144,755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(+15,22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77,241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15,740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March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02F-4EC4-48B7-BF71-6F647BA54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142640" y="914040"/>
            <a:ext cx="79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Acti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,731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(4/1/16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*Tot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2,286 (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-21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*Active and Pend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EPN = 0; CNP = 574; Oncor = 1,7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486   (+9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9,681  (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-6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86   (NC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09    (+1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4,85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rt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March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33C1-1125-445F-82D1-84B9EB33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RCOT Learning Management System (LMS)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ine Training Modules completed b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0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rket Participant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ross all market segment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Market Training Roadsho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COT and MPs Instructor Led Classe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XU Energy hosted this training at 200 W John Carpenter Freeway  Irving,  TX  75039 (offic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tail 101:      Thursday,    May 5,  20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arkeTrak:   Friday,      May 6,  2016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tendance Updat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Classroom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7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WebEx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Total 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1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 Classroom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WebEx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2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Total 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B5B-E94D-41CB-BAAC-2AF8CC2BBE0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advertent Gain Statistics Repor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7532/13.__Inadvertent_Stats___February_2016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ercot.com/content/wcm/key_documents_lists/77532/13.__May_RMS_2016_IAG_Numbers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P 76 had bad enrollment file that pushed their numbers up.  These ESI IDs were corrected through MarkeTrak IAG Proc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616 Upd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begins 05/11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deadline is 05/18/16 (Adhoc, 06/24/16 for Current MPs Only,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subject to Flight Administrator and TDSPs’ Approval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nectivity testing begins 05/24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ay 1 transactions begins 06/13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concludes on 06/24/16 (Contingency/Adhoc Period until 08/12/16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transactions to be sent or received the week of July 4 (7/4 – 7/8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mulated (SIM) Dates will no longer be used starting with Flight 06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: First time the market will not be using  SIM Dates during flight test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15E-573F-4430-B5AB-AD185EFF7E6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5-19T22:41:13Z</dcterms:modified>
  <cp:revision>1377</cp:revision>
  <dc:subject/>
  <dc:title>Instructions</dc:title>
</cp:coreProperties>
</file>