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CF137-9C35-48DD-BF89-41D096E0D3E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24F80-DEDD-4B92-BE6B-F25BEDBBF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8D132-500A-47B5-A530-1823CDFAB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5CF45-ABEA-451E-870A-FDD8B738E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03F1A-E921-4C68-B764-5B2330BED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5A834-C6BC-4E6A-ACFA-ACE850BE6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84F9F-DAA6-4752-BB7E-793A81BDB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9ADCF-C465-48DD-902C-89E518F54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4DD52-250F-4168-8B9E-30CA346B7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0E55B-BAB6-4219-84D9-6C3ECFB00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6A4A4-C0D1-4AFC-8716-CDAF7B245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56F66-1331-4878-8C7E-3FFEFA4A2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00449-241C-41BA-A888-C46615BD3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FB443-601F-4F9D-ACB7-B628B7FA8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9DAA3-2972-4337-896D-E50CC14EF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5465-237D-4212-9C55-1DF0A5CAB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08080" y="-6480"/>
            <a:ext cx="8727840" cy="1372896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8B3E9-2AFD-47EC-AC69-C285D28B7B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08080" y="-6480"/>
            <a:ext cx="8727840" cy="1372896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08080" y="-6480"/>
            <a:ext cx="8727840" cy="1372896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3A161-5254-4629-AA1D-EEADC60AE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08080" y="-6480"/>
            <a:ext cx="8727840" cy="1372896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A16D0-E5B1-4B87-B285-6FB99289C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3: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y 26,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2, Removal of Language Related to Responsive Reserve Provided by DC Ties [ERCOT]</a:t>
            </a:r>
            <a:endParaRPr b="0" lang="en-US" sz="1800" spc="-1" strike="noStrike">
              <a:solidFill>
                <a:srgbClr val="000000"/>
              </a:solidFill>
              <a:latin typeface="Arial"/>
            </a:endParaRPr>
          </a:p>
        </p:txBody>
      </p:sp>
      <p:sp>
        <p:nvSpPr>
          <p:cNvPr id="191" name="Rectangle 2"/>
          <p:cNvSpPr/>
          <p:nvPr/>
        </p:nvSpPr>
        <p:spPr>
          <a:xfrm>
            <a:off x="487440" y="879480"/>
            <a:ext cx="8157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references to the provision of Responsive Reserve (RRS) across the Direct Current Ties (DC Ties).  These references existed in the Zonal Protocols, and similar references have existed in the Operating Guides from at least 1997.  However, to date, there are no ERCOT systems or procedures in place to award RRS to the DC Ties, and no project to add this functionality has ever been proposed.  Without any funding for the necessary system changes, ERCOT has no mechanism for allowing the provision of RRS over the DC Ti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unanimously voted to recommend approval of NPRR762 as submitted.  On 5/12/16, PRS unanimously voted to endorse and forward to TAC the 4/14/16 PRS Report and the Impact Analysis for NPRR7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3, As-Built Clarification to NPRR553, Monthly BLT Payment and Charge for Presidio Exception [ERCOT]</a:t>
            </a:r>
            <a:endParaRPr b="0" lang="en-US" sz="1800" spc="-1" strike="noStrike">
              <a:solidFill>
                <a:srgbClr val="000000"/>
              </a:solidFill>
              <a:latin typeface="Arial"/>
            </a:endParaRPr>
          </a:p>
        </p:txBody>
      </p:sp>
      <p:sp>
        <p:nvSpPr>
          <p:cNvPr id="193" name="Rectangle 2"/>
          <p:cNvSpPr/>
          <p:nvPr/>
        </p:nvSpPr>
        <p:spPr>
          <a:xfrm>
            <a:off x="487440" y="879480"/>
            <a:ext cx="8157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orrects the formula for the calculation of the Load-Allocated Monthly BLT Amount per Qualified Scheduling Entity (QSE) </a:t>
            </a:r>
            <a:r>
              <a:rPr b="0" i="1" lang="en-US" sz="1800" spc="-1" strike="noStrike">
                <a:solidFill>
                  <a:srgbClr val="000000"/>
                </a:solidFill>
                <a:latin typeface="Arial"/>
              </a:rPr>
              <a:t>(</a:t>
            </a:r>
            <a:r>
              <a:rPr b="0" lang="pt-BR" sz="1800" spc="-1" strike="noStrike">
                <a:solidFill>
                  <a:srgbClr val="000000"/>
                </a:solidFill>
                <a:latin typeface="Arial"/>
              </a:rPr>
              <a:t>LAMBLTAMT)</a:t>
            </a:r>
            <a:r>
              <a:rPr b="0" lang="en-US" sz="1800" spc="-1" strike="noStrike">
                <a:solidFill>
                  <a:srgbClr val="000000"/>
                </a:solidFill>
                <a:latin typeface="Arial"/>
              </a:rPr>
              <a:t> in paragraph (3)(c) of Section 6.6.3.5 to reflect a charge, rather than a payment, to comport with the facial intent of NPRR553, Monthly BLT Payment and Charge for Presidio Exception, and with the system implementation of that charge.  The title of NPRR553 references a charge (in addition to a payment) and the language preceding the formula expresses an intention to impose a charge.  For these reasons, ERCOT believes that the omission of the required “-1” at the beginning of the formula was inadvertent and should be correc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unanimously voted to recommend approval of NPRR763 as submitted.  On 5/12/16, PRS unanimously voted to endorse and forward to TAC the 4/14/16 PRS Report and the Impact Analysis for NPRR7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4, QSE Capacity Short Calculations Based on an 80% Probability of Exceedance (P80) [ERCOT]</a:t>
            </a:r>
            <a:endParaRPr b="0" lang="en-US" sz="1800" spc="-1" strike="noStrike">
              <a:solidFill>
                <a:srgbClr val="000000"/>
              </a:solidFill>
              <a:latin typeface="Arial"/>
            </a:endParaRPr>
          </a:p>
        </p:txBody>
      </p:sp>
      <p:sp>
        <p:nvSpPr>
          <p:cNvPr id="195" name="Rectangle 2"/>
          <p:cNvSpPr/>
          <p:nvPr/>
        </p:nvSpPr>
        <p:spPr>
          <a:xfrm>
            <a:off x="487440" y="879480"/>
            <a:ext cx="8157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36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55k and $75k; no impacts to ERCOT staffing; impacts to Settlements and Billing (S&amp;B), EMS, and Commercial Systems Integration (CSI);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proposes to base Reliability Unit Commitment (RUC) capacity short calculations on the Wind-powered Generation Resource Production Potential (WGRPP) for a Wind-powered Generation Resource (WGR) and the PhotoVoltaic Generation Resource Production Potential (PVGRPP) for a PhotoVoltaic Generation Resource (PVGR)–i.e., an 80% probability of exceedance (P80).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voted to recommend approval of NPRR764 as revised by PRS.  There was one abstention from the Municipal Market Segment.  On 5/12/16, PRS voted to endorse and forward to TAC the 4/14/16 PRS Report as revised by PRS and the Impact Analysis for NPRR764 with a recommended priority of 2016 and rank of 1365.  There was one abstention from the Municipal Market Se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5, Remove Vendor Names for Fuel Indices from the Protocols [ERCOT]</a:t>
            </a:r>
            <a:endParaRPr b="0" lang="en-US" sz="1800" spc="-1" strike="noStrike">
              <a:solidFill>
                <a:srgbClr val="000000"/>
              </a:solidFill>
              <a:latin typeface="Arial"/>
            </a:endParaRPr>
          </a:p>
        </p:txBody>
      </p:sp>
      <p:sp>
        <p:nvSpPr>
          <p:cNvPr id="197"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6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eliminates the name of the publisher of the Fuel Index Price (FIP), Fuel Oil Price (FOP), and Waha Fuel Price (WFP) from the Protocols, and provides additional clarifying language regarding the use of a substitute source for daily fuel prices in the event that one is needed.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unanimously voted to recommend approval of NPRR765 as submitted.  On 5/12/16, PRS unanimously voted to endorse and forward to TAC the 4/14/16 PRS Report and Impact Analysis for NPRR76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6, Alignment of System-Wide Discount Factor Description with Operational Adjustments to RDF - URGENT [ERCOT]</a:t>
            </a:r>
            <a:endParaRPr b="0" lang="en-US" sz="1800" spc="-1" strike="noStrike">
              <a:solidFill>
                <a:srgbClr val="000000"/>
              </a:solidFill>
              <a:latin typeface="Arial"/>
            </a:endParaRPr>
          </a:p>
        </p:txBody>
      </p:sp>
      <p:sp>
        <p:nvSpPr>
          <p:cNvPr id="199"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Less than $10k (O&amp;M); no impacts to ERCOT staffing; impacts to MIS and EMS;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the Protocol description of the system-wide discount factor with the proposed operational adjustment to the Reserve Discount Factor (RDF) in the Physical Responsive Capability (PRC) calculation, and aligns the posting for RDFs applicable to both Generation Resources and Load Resour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5/12/16, PRS unanimously voted to grant NPRR766 Urgent status; to recommend approval of NPRR766 as submitted; and to forward to T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CR790, Wind Resource Power Production and Forecast Transparency [DC Energy]</a:t>
            </a:r>
            <a:endParaRPr b="0" lang="en-US" sz="1800" spc="-1" strike="noStrike">
              <a:solidFill>
                <a:srgbClr val="000000"/>
              </a:solidFill>
              <a:latin typeface="Arial"/>
            </a:endParaRPr>
          </a:p>
        </p:txBody>
      </p:sp>
      <p:sp>
        <p:nvSpPr>
          <p:cNvPr id="201"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66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0k and $40k; no impacts to ERCOT staffing; impacts to EMS, Current Day Reports (CDR), and dashboard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SCR requires ERCOT to implement an additional level of spatial granularity to the existing reporting of wind power production and forecasts.  The additional area is the Panhandle/North area, which is to be reported along with the stand-alone West Load Zone and the current system-wide and South/Houston Load Zone aggregation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unanimously voted to recommend approval of SCR790 as amended by the 4/8/16 ERCOT comments.  On 5/12/16, PRS unanimously voted to endorse and forward to TAC the 4/14/16 PRS Report and the Impact Analysis for SCR7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54, Revise Load Distribution Factors Report Posting Frequency</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NPRR758, Improved Transparency for Outages Potentially Having a High Economic Impact</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1, As-Built Clarification to NPRR515, Day-Ahead Market Self-Commitment of Generation Resource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2, Removal of Language Related to Responsive Reserve Provided by DC Tie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3, As-Built Clarification to NPRR553, Monthly BLT Payment and Charge for Presidio Exception*</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4, QSE Capacity Short Calculations Based on an 80% Probability of Exceedance (P80)</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5, Remove Vendor Names for Fuel Indices from the Protocol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766, Alignment of System-Wide Discount Factor Description with Operational Adjustments to RDF – URGENT</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R790, Wind Resource Power Production and Forecast Transparency</a:t>
            </a:r>
            <a:endParaRPr b="0" lang="en-US" sz="1800" spc="-1" strike="noStrike">
              <a:solidFill>
                <a:srgbClr val="000000"/>
              </a:solidFill>
              <a:latin typeface="Arial"/>
            </a:endParaRPr>
          </a:p>
          <a:p>
            <a:pPr>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Arial"/>
              </a:rPr>
              <a:t>(* denotes no impact)</a:t>
            </a:r>
            <a:endParaRPr b="0" lang="en-US" sz="14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 Implementation Costs &gt;$100k</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8, Improved Transparency for Outages Potentially Having a High Economic Impact</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09, Revisions to Alternative Dispute Resolution Procedure*</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jected by P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67, Ancillary Service Redesign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1, Clarifications for Distributed Generation Resources </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58, Improved Transparency for Outages Potentially Having a High Economic Impact</a:t>
            </a:r>
            <a:endParaRPr b="0" lang="en-US" sz="2000" spc="-1" strike="noStrike">
              <a:solidFill>
                <a:srgbClr val="000000"/>
              </a:solidFill>
              <a:latin typeface="Arial"/>
            </a:endParaRPr>
          </a:p>
        </p:txBody>
      </p:sp>
      <p:graphicFrame>
        <p:nvGraphicFramePr>
          <p:cNvPr id="179" name=""/>
          <p:cNvGraphicFramePr/>
          <p:nvPr/>
        </p:nvGraphicFramePr>
        <p:xfrm>
          <a:off x="379440" y="714240"/>
          <a:ext cx="8380440" cy="5585040"/>
        </p:xfrm>
        <a:graphic>
          <a:graphicData uri="http://schemas.openxmlformats.org/drawingml/2006/table">
            <a:tbl>
              <a:tblPr/>
              <a:tblGrid>
                <a:gridCol w="1217520"/>
                <a:gridCol w="7162920"/>
              </a:tblGrid>
              <a:tr h="892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Purpose</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ERCO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NPRR introduces language to identify Outages that have historically resulted in high congestion costs, as adjusted through a stakeholder review process to account for upgrades and other changes that would affect the fidelity of this list as an indicator of Outages that might cause future congestion.  Specific items proposed within this NPRR include identification and posting of High Impact Transmission Elements (HITEs) and High Impact Outages (HIOs); and introduction of a Rescheduled Outage type.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0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PRS Vot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n 4/14/16, PRS voted to recommend approval of NPRR758 as submitted.  There were two abstentions from the Independent Retail Electric Provider (IREP) Market Segment.  On 5/12/16, PRS unanimously voted to endorse and forward to TAC the 4/14/16 PRS Report and the Impact Analysis for NPRR758 with a recommended priority of 2017 and rank of 1800.</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4129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Effective Date/Priority</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pon system implementation – Priority 2017; Rank 1800</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411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ERCOT Impac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etween $300k and $400k; no impacts to ERCOT staffing; impacts to Outage Scheduler (OS), Enterprise Information Services (EIS), and EI; no impacts to ERCOT business functions; no impacts to ERCOT grid operations and practic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3138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Business Case Highlight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NPRR was developed by ERCOT following a year of work by the Outage Coordination Improvements Task Force (OCITF).  OCITF began meeting at the behest of the Reliability and Operations Subcommittee (ROS) in February of 2015 and held eight meetings during the year.  As a part of this effort, OCITF identified specific options on certain non-consensus issues and submitted these options to the Wholesale Market Subcommittee (WMS) and ROS for guidance.  This guidance was then used to prepare a draft of this NPRR.  OCITF reviewed this draft at its 12/1/2015 meeting and changes proposed by the participants in that meeting were included in this filed NPRR.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mplementation of this NPRR will:</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Improve the market’s ability to hedge against congestion that is due to transmission Outag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ncourage earlier submission of Outages,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Increase visibility of Outages to Market Participants, and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llow more efficient and transparent rescheduling of transmission Outag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urthermore, implementation of this NPRR may:</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llow Market Participants to make more informed decisions about their forward positions in ERCOT, particularly those that relate to the transactions that are submitted as part of monthly Congestion Revenue Right (CRR) Monthly Auctions; and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Improve the accuracy of the network models that are developed for the CRR Monthly Auctions and, as a result, improve the probability that CRRs whose value is impacted by a specific Planned Outage are sufficiently funded.</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09, Revisions to Alternative Dispute Resolution Procedure</a:t>
            </a:r>
            <a:endParaRPr b="0" lang="en-US" sz="2000" spc="-1" strike="noStrike">
              <a:solidFill>
                <a:srgbClr val="000000"/>
              </a:solidFill>
              <a:latin typeface="Arial"/>
            </a:endParaRPr>
          </a:p>
        </p:txBody>
      </p:sp>
      <p:graphicFrame>
        <p:nvGraphicFramePr>
          <p:cNvPr id="182" name=""/>
          <p:cNvGraphicFramePr/>
          <p:nvPr/>
        </p:nvGraphicFramePr>
        <p:xfrm>
          <a:off x="285840" y="700200"/>
          <a:ext cx="8585280" cy="547668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modifies Section 20, Alternative Dispute Resolution Procedure, and clarifies certain related subsections in Section 9.14, Settlement and Billing Dispute Process.  Additional revisions streamline and clarify the ADR process and improve language to align better with actual practice and updated industry standard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3/10/16, PRS voted to recommend approval of NPRR709 as amended by the 2/10/16 TCPA comments and as revised by PRS.  There was one opposing vote from the Consumer Market Segment, and two abstentions from the Independent Power Marketer (IPM) and Independent Retail Electric Provider (IREP) Market Segments.  On 5/12/16, PRS voted to endorse and forward to TAC the 4/14/16 PRS Report as amended by the 4/25/16 Reliant comments and Revised Impact Analysis for NPRR709.  There was one abstention from the Consumer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uly 1, 2016</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8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e NPRR will provide Market Participants in all segments additional opportunities to provide input on market-wide issues, and will increase transparency.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54, Revise Load Distribution Factors Report Posting Frequency [ERCOT]</a:t>
            </a:r>
            <a:endParaRPr b="0" lang="en-US" sz="1800" spc="-1" strike="noStrike">
              <a:solidFill>
                <a:srgbClr val="000000"/>
              </a:solidFill>
              <a:latin typeface="Arial"/>
            </a:endParaRPr>
          </a:p>
        </p:txBody>
      </p:sp>
      <p:sp>
        <p:nvSpPr>
          <p:cNvPr id="185" name="Rectangle 2"/>
          <p:cNvSpPr/>
          <p:nvPr/>
        </p:nvSpPr>
        <p:spPr>
          <a:xfrm>
            <a:off x="487440" y="879480"/>
            <a:ext cx="8157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65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5k and $45k; no impacts to ERCOT staffing; impacts to Energy Management System (EMS), Enterprise Integration (EI), Market Information System (MIS), and ERCOT.com;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vises two provisions addressing the posting frequency for the Load forecast distribution factors report to require posting of the report only when the factors are chang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4/14/16, PRS unanimously voted to recommend approval of NPRR754 as submitted.  On 5/12/16, PRS unanimously voted to endorse and forward to TAC the 4/14/16 PRS Report and Impact Analysis for NPRR754 with a recommended priority of 2016 and rank of 16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58, Improved Transparency for Outages Potentially Having a High Economic Impact [ERCOT]</a:t>
            </a:r>
            <a:endParaRPr b="0" lang="en-US" sz="1800" spc="-1" strike="noStrike">
              <a:solidFill>
                <a:srgbClr val="000000"/>
              </a:solidFill>
              <a:latin typeface="Arial"/>
            </a:endParaRPr>
          </a:p>
        </p:txBody>
      </p:sp>
      <p:sp>
        <p:nvSpPr>
          <p:cNvPr id="187" name="Rectangle 2"/>
          <p:cNvSpPr/>
          <p:nvPr/>
        </p:nvSpPr>
        <p:spPr>
          <a:xfrm>
            <a:off x="487440" y="879480"/>
            <a:ext cx="8157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80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00k and $400k; no impacts to ERCOT staffing; impacts to Outage Scheduler (OS), Enterprise Information Services (EIS), and EI;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introduces language to identify Outages that have historically resulted in high congestion costs, as adjusted through a stakeholder review process to account for upgrades and other changes that would affect the fidelity of this list as an indicator of Outages that might cause future congestion.  Specific items proposed within this NPRR include identification and posting of High Impact Transmission Elements (HITEs) and High Impact Outages (HIOs); and introduction of a Rescheduled Outage typ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voted to recommend approval of NPRR758 as submitted.  There were two abstentions from the Independent Retail Electric Provider (IREP) Market Segment.  On 5/12/16, PRS unanimously voted to endorse and forward to TAC the 4/14/16 PRS Report and the Impact Analysis for NPRR758 with a recommended priority of 2017 and rank of 18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61, As-Built Clarification to NPRR515, Day-Ahead Market Self-Commitment of Generation Resources [ERCOT]</a:t>
            </a:r>
            <a:endParaRPr b="0" lang="en-US" sz="1800" spc="-1" strike="noStrike">
              <a:solidFill>
                <a:srgbClr val="000000"/>
              </a:solidFill>
              <a:latin typeface="Arial"/>
            </a:endParaRPr>
          </a:p>
        </p:txBody>
      </p:sp>
      <p:sp>
        <p:nvSpPr>
          <p:cNvPr id="189"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NPRR515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 (no additional impacts to implement this NPRR beyond what is captured in the Impact Analysis for NPRR51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that a Resource will not be eligible for Day-Ahead Make-Whole Payment Startup Cost compensation when the DAM considers the Resource as having no cost to startup, per NPRR51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4/14/16, PRS unanimously voted to recommend approval of NPRR761 as submitted.  On 5/12/16, PRS unanimously voted to endorse and forward to TAC the 4/14/16 PRS Report and the Impact Analysis for NPRR7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ory Phillips</cp:lastModifiedBy>
  <cp:lastPrinted>2013-01-30T23:16:36Z</cp:lastPrinted>
  <dcterms:modified xsi:type="dcterms:W3CDTF">2016-05-18T02:10:54Z</dcterms:modified>
  <cp:revision>303</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