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52EF4-343F-48D3-947B-934634403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A2976-3439-4B94-B18D-47670C397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239E1-0DB4-49B4-86A3-86BEBE9C5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88B74-C9FA-4153-A759-B883183FA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BAF14-C28A-40EE-B39C-2A698EBE1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34E-656A-4836-8A75-8769F5EA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3DB-BFAE-43C7-8344-FF4024E2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9840F4-507E-46C3-A1CC-B61F4FF5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95DAB-EC3D-49CD-BC49-75CB1501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D18A8A-14DD-41A8-896C-0ECD8F72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0C7867-41BE-4A3F-BC65-38ACFB91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AF818-708C-4C89-812C-B518847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3DD37-8B2E-487D-8A5E-5D6104E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C49EC1-5E45-47C8-A9CC-16DD953B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949A4-2DB9-4758-8AD0-38BB644D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335EF-2498-453C-A755-909E7FD7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EF9601-C55F-4BFE-84E9-6CB82983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CC5-BC27-41D3-A98F-BF5C1D1B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2A5810-7787-4619-B1F9-B10188D1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75F6B2-A798-4161-8302-5AF9FA05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444B36-24BD-4638-B54F-6065554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AE5C31-83C4-4202-9F9B-2A6CDD64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F72BC3-50A3-435B-BB4C-71B1BA2C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A686DE-ADD3-4FDC-BEB4-C3F21E97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67BAB8-0229-4215-849C-3025A5C6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B73692-9404-4D8D-B3FF-B64FE12C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398510-721A-4788-96A5-B298B985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A040AA-319B-420C-8645-DA57ECB0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3D0-3B7D-4996-A5DB-5D5BD193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DCA09-8C7A-46EB-9BEA-584DE296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7DE4-0D7E-44A7-B126-E955DCD9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3F8A-D41B-458A-9CA2-1DC4B3A1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8E62-BB77-4602-A8E2-652D5165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C93B-8FEB-467A-8249-B1DA9F5B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8650-AC2E-4B1F-8AA2-F6CCC7C3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31BC-913F-44FC-887C-DCF71CCF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3AA8-3884-4FA3-9B6D-A53BFE4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84D-90E1-4C9F-82C5-505EC669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D87F-4EB8-42BB-8DFD-82AE79A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6A1A-F13C-46C2-B268-1FB17DE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D3E9-3CAF-490B-904D-41F312B2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8C95-B9A0-4BAE-A7DF-1E7673BA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2189-EF52-46FF-A710-8AE20544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4E9-10FC-46B5-B294-AC34B323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6ED-3475-4436-A217-F8328DE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B9916-064D-4C60-9E36-74D17C02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F5D-DFF1-421B-9575-7F5A0A72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44D59-CE83-46EE-AEDC-52A3AF47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11980-ACF5-4967-BE7D-97BCF22A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80374-76AD-44F0-A49B-792BB599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51657-24FE-45F3-8D82-49FAFCD0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31BAB-627C-41EB-B1C3-461818D6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C4108-F5B8-44AF-A4F7-FE5AFED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AC1B1-FD44-4151-85F4-5781074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FC117-E68F-46F3-99C6-452F6852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6B986-6203-4276-9E41-6BA689EC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77D3D-A04D-485D-946D-6175E769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6E0-A07C-4D7A-844F-DFE74016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45569-1E2E-4E08-B840-525BF4AD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98D0A-44CB-4FA1-B0AD-405288A1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65772-57F0-4B43-AF9B-14E1892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B10FE-B717-491F-9EE7-610303E0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6641B-0FE1-4EA8-97DC-AA8AB9E8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8295A-62C1-442B-AF4E-FD03B2FA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95D0F-AD84-45F6-A2B1-213DB429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71863-1CB8-4896-9761-36B6D399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DB464-BC7A-4BF0-AF26-05CA96A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20709-E5B8-4491-BCBA-03AA88EA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1B9-DB86-4231-B31F-CE61BF7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27639-1702-4B8E-9089-29FA5B41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B338B-AFAF-4FAB-8B50-4D06284E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EA5D0-78C4-4E2E-B49F-DC475366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8FE9F-BCDD-4D8A-82F0-A7E8D487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8CEDC-4C1A-448C-88CF-747B7D8C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BACC6-CDD2-4F11-823C-0D5D7260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E2248-0D7D-41C0-8DA2-1D2917E7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ACBA3-069D-4670-85DC-6AF49557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636C0-0FB3-42EB-9DF0-19CC5400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485ED-56FF-4F29-B6AA-33C63A7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435-A044-4BCB-9077-F62DE6E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DC686-C6A0-40C9-B8FB-382D6025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402CE-68F3-47B2-9254-0A873FA5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CAB60-13AE-4332-8533-EFF3EB24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CC177-EE25-40A2-A392-23FD4441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A3756-D075-47B7-AD90-D4D9C5DA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FC4B8-77F8-4744-9555-9996CB8C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D111D-2030-4787-8CC0-D121A0D6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87A78-B691-4F48-B2D3-FD5DD0D7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0CC2A-BDBB-4759-8CB8-6EBE0736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F0D39-C5F7-42F7-AB7E-CD94CC4E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2B8-E038-4410-B3EE-E67682FF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72110-911A-40E7-9EEC-00B611CD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A5D90-9D4F-4B27-9E9F-F2EB6B5C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25F4D-00A8-42FE-B0D4-7FA5757A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40412-786A-437A-8BC5-9C6B2E9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B9827-9829-40EC-9F98-DB1928DC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BE4C7-09A5-452F-907F-D7F31D40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7E51C-6CAE-4A2B-A800-8E1E3969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BACE8-7A9C-4607-9C6D-96532C22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B6BD6-EA99-4FB0-B63B-0D9F4E21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604F5-21E4-44DB-B27C-31F134A1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0281C-78C4-4B35-AA72-A0F46F62CFE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FBC8F-D99E-4405-B63D-FA1AC9A35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E8B89-2E9E-4163-883C-43C32CFE104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09DE8-94C4-4279-992E-262CD168B3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8F13C-12BD-4DA2-8946-0A63422C45B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3E137-8903-456C-9EBF-FDCF6AD19F2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F4204-6D90-46E2-B01E-91C2FFCCA02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08C34-3D5B-48D7-9E7A-FD4DD4A4816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2413B-78D5-471E-BAFD-DFCCD88B301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D61E8-C649-49ED-9263-5DC13F20184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BCBCF-E80B-42E6-95FB-DFEEA5C6C2D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C5E5C-E443-404A-8EE0-897D15DF885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74438-3E4F-49D4-A16D-BB9D90769AA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22398-F947-43FF-B5BA-DE8451741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C9DC0-EF2F-43AF-B523-2457E31C9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E1052-37E2-4F3C-9F57-BBDD43F0B07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1C957-1C0D-486D-A495-18FA2001B0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ECB2A-0F70-426D-BCFD-1AF56383437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5964B-F7DE-48CA-8521-01A8D54BB5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7E0B0-ACDB-4B7E-BAE2-67BBE9410C2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C7193-1654-4376-B7F0-329C2F199A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67058-4003-4357-981A-B5FA6A068A8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09683-839A-4A8A-8B36-F1CE7A18A75A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28F66-182C-4DD2-97E7-309FE0CAA8C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B2BFE-3635-42F0-A2D3-4017BF02B8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y 4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June 8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VCMRR 009 – Calculation of the Minimum Requirements Fe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otion to approve with 4/26 RCWG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Unanimous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ption 3 allocates minimum fuel purchase costs over usage from the resource, from any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party transactions, and from any storage volum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VCMRR 014 – Revise Fuel Adder Factor for Coal and Lignite Resources (Urgen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otion to grant urgent statu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1 Abstention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otion to approv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1 Abstention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dds $1.10/MMBtu for coal/lignite fired resources in verifiable costs as a result of increase in coal pr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nsidered a temporary solution until a long term resolution can be determin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PRR 759 – Segmentation of the Total New Capacity in the ERCOT CD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ferred to SA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PRR 696 – Price Correction Following a SCED Failur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abled for one more mon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PRR 738 – ERS Performance Calculations During TPSP Outag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uthorized and endorsed with DSWG and WMS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VCMRR 013 – Clarifications to Verifiable Cost Appeals Pro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abled until NPRR 769 is review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Other Busines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Joint ROS/WMS Workshop on RMR and Regional Haz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           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5-25T12:38:50Z</cp:lastPrinted>
  <dcterms:modified xsi:type="dcterms:W3CDTF">2016-05-25T13:03:20Z</dcterms:modified>
  <cp:revision>871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