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0B0E-7C55-42E7-B08B-00932986B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9CD8-EE15-4E7C-89CF-4DEBF6EFD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9539-399D-4630-94A8-64EF9085B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F204-702B-4088-8892-507491227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0595-1F63-4F63-9BB2-B5061CDB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A9E6-EB39-4BF5-B133-2FDE7F73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9E81-2716-45A5-A057-1CC77455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63AE-F177-4AFB-A34D-6FB38224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6B06-49D6-4E06-B75B-7E6EA23F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EA68-086F-4B58-A9F7-AA94B3A1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4E71-9AFC-468A-8170-75553AA5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4E9C-81FB-42F4-92E4-598E4884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DBAC-5C71-427D-AA20-0099AFA2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8FD0-EA6A-4523-B20D-1E7D8092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4460-9065-46A9-A7D3-185FCBFB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534A-9DA0-4A88-84AC-E8BCE8BA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231D-5F9E-4A0E-9C8A-94ACB880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0537-CDF8-4BCF-8043-123DD665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682C-1C41-4CC9-8B48-0031AE87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8F74-4C3B-4213-9F42-72AE4579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EC03-6C48-4CA0-ADCC-7DEBB6B9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A0960-0D6C-4A12-B123-D3EA6473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7D470-6A95-44D0-ADB6-6F1FD27C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B113A-8CA8-49CF-93CD-5A7173B6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D0AB0-0A16-4510-9E93-95E097E3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333B6-A659-4699-A2D0-50B313BF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80F2-C1A4-4677-A88F-796A3988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43053-F27B-4011-B10F-6946EE37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B1511-28D7-4FDB-BDF8-56535693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CF69E-956B-4C23-83D9-CB2DDCF9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A576E-E6C4-41B8-B60B-EF2E058A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3AAAC-46B1-4723-B9B7-36ACADBA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148E4-42B2-444C-B2F1-00F8B7CE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D637E-081D-422B-AA95-2F3350BD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3954A-F39B-4562-B9D1-79442F1C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84DD7-D2C5-4028-8CF9-300A8BA3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F43EC-F3F9-4D4B-ADF0-B6AAA946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3272-8408-4617-9766-356B6AB9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D8082-2C31-440E-AA9D-09D9415E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D0294-C23E-4FE3-B237-1E3BAA1B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C4638-7517-4655-BF9E-777AA9FA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AC986-8EA4-43C0-B5D2-BAD3D7AD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18AE5-A60F-4804-B5CF-3D0E9D82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2B8F4-2399-4BDA-B707-A4859A68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A9B97-9AD2-4582-B7C9-D71F52FA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5FB78-E98F-4FCA-9CF1-78E44C6E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345C2-6954-4B86-8A66-CBEB3854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93E08-F594-4518-B2F2-D81BBDE5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A964-F7AB-4BE1-A7CD-EE749582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FE39C-B3B6-4F39-A872-FEE802B6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72226-3744-4580-A75E-1841D283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03266-0FA4-49E2-B729-E365E75F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22810-9648-42C6-B361-12B7BB80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6EE8D-A963-4B90-B495-B525D148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BC0B4-6381-46E4-965E-36070B3B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1B110-89CB-448E-BF8E-7AEE001C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FA8CD-2CC0-4C31-A5B6-1610596F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4836D-A936-4F70-8E2C-3C15F5D0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9D41D-B61E-4F90-B1D2-954A46CF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9752-6A9E-41DE-BDCB-AF99D8AA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5430C-CC64-492E-9CC3-94F6A7EE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92DF8-F150-4178-BF0F-1956DB08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4A98A-6B5C-4B85-8F39-2389DEF2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9C0E1-04B4-4886-8CE1-EE1977A1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11167-C6A2-43C7-A3F7-5536CC63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14361-ACD4-4117-A51A-0C58C580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F0DD8-5891-4122-8830-6B1324CC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A07A1-BD77-4C24-B9EF-CEB0CDD3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45213-D56D-493A-9F3E-40975DB4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7EE56-AB25-446C-8823-C8993A00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D55E-1F4A-4739-B9B9-169C307F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11C1C-0395-4AEA-9EBC-D3A2F3CC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AFE74-5864-4F13-8186-DA81001A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7776D-2944-49AA-96EC-C6E10F57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3A485-4A0E-4A52-A7F9-02A96185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D3F45-724E-4720-878D-E14305E0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724B9-2F63-4672-AA1F-8C27B5B7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9B923-7F29-40F2-83E8-4306051B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68FBA-7FBD-4CEC-8007-8852AA1B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A85CB-60ED-4582-80F2-5EAA2366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51C51-3A46-4FDE-8BB2-A2350C72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5FFD-E072-4C60-B6F7-0F2C19B1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74B87-183B-430D-91A1-DE81969E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C414E-47BC-43CD-82B9-941A1999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6137D-B8BB-43EE-9CD8-F25A473C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014DD-CA7B-4A55-864B-DD342AE7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E046B-44EC-440C-AA01-A1596A2B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83A8-1ED2-4424-BB75-037AF218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CDED-2361-4A92-A0BB-98F8DB007FC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4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Oval 15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62" name="Oval 15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Oval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749A-366E-4667-97CC-C51F20C1DB5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1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10" name="Oval 1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val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383F-724A-4BCD-816B-F70DFE3259C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C6E4-6630-4721-A528-5F72904D0CD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809C-F2EE-4FFA-B974-11EFCD44F07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1AFE-2E63-4435-9FD2-7188276CEC1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Rectangle 15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80" name="Rectangle 15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Flowchart: Process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lowchart: Process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86A1-9C70-4185-921D-0AD6F74AE88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rcot.com/content/wcm/key_documents_lists/77532/13.__Inadvertent_Stats___February_2016.pptx" TargetMode="External"/><Relationship Id="rId2" Type="http://schemas.openxmlformats.org/officeDocument/2006/relationships/hyperlink" Target="http://ercot.com/content/wcm/key_documents_lists/77532/13.__May_RMS_2016_IAG_Numbers.pptx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0" y="2114280"/>
            <a:ext cx="665784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May 3, 2016</a:t>
            </a: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Retail Market Subcommittee </a:t>
            </a: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Update to TAC 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2361960" y="327636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20e04"/>
                </a:solidFill>
                <a:latin typeface="Gill Sans MT"/>
              </a:rPr>
              <a:t>Kathy Scot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26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E2B8-E5FB-4D4E-A4F1-A1BAFADB398F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264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Announcements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066320" y="6858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9237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9237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RMS Cancelled our July 5</a:t>
            </a:r>
            <a:r>
              <a:rPr b="1" lang="en-US" sz="2800" spc="-1" strike="noStrike" baseline="30000">
                <a:solidFill>
                  <a:srgbClr val="c00000"/>
                </a:solidFill>
                <a:latin typeface="Gill Sans MT"/>
              </a:rPr>
              <a:t>th</a:t>
            </a: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 Meeting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e to Leadership’s concerns about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afety with MPs traveling to and from Austin on July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oliday week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st for flights and overnight hotel stays during the holiday week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stablishing and/or maintaining quorum in order to conduct voting on key documents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y 26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DAE8-F52D-4F98-9333-D1C760D7476D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95280" y="-152640"/>
            <a:ext cx="7499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Questions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Slide Number Placeholder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748B-6FAC-4BA1-9878-E4EA24E41618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y 26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,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7" descr="C:\Users\00015621\AppData\Local\Microsoft\Windows\Temporary Internet Files\Content.IE5\FALW4JXL\question 1[1].jpg"/>
          <p:cNvPicPr/>
          <p:nvPr/>
        </p:nvPicPr>
        <p:blipFill>
          <a:blip r:embed="rId1"/>
          <a:stretch/>
        </p:blipFill>
        <p:spPr>
          <a:xfrm>
            <a:off x="1697040" y="838080"/>
            <a:ext cx="67057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264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Gill Sans MT"/>
              </a:rPr>
              <a:t>RMS Voting Recommendations 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144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RMGRR136,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witch Hold Removal Process Clarifications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(Vote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arifies supporting documentation requirements submitted by CRs when requesting removal of a switch hold by the TDSP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RMS Unanimously Recommends TAC’s  Approval of RMGRR136.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However,  TAC should also consider AEP’s RMGRR136 Comments dated May 18, 2016 for inclusion into TAC’s motion for Approval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RMGRR137,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imeline and Completion Process for Correcting Customer Billing Contact Information Files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(Vote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RMS Unanimously Recommends TAC’s  Approval of RMGRR137.   </a:t>
            </a:r>
            <a:r>
              <a:rPr b="0" lang="en-US" sz="2000" spc="-1" strike="noStrike">
                <a:solidFill>
                  <a:srgbClr val="c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Gill Sans MT"/>
              </a:rPr>
              <a:t>  </a:t>
            </a:r>
            <a:endParaRPr b="0" lang="en-US" sz="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y 26, 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67E3-0B7E-4FBA-8156-B88F432E609B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22860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264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72314"/>
                </a:solidFill>
                <a:latin typeface="Gill Sans MT"/>
              </a:rPr>
              <a:t>Texas Data Transport and MarkeTrak  (TDTMS)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914040" y="6858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DTMS EDM Data Transport Implementation Guide Revisio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ese changes were needed due to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file name changes that are being implemented in July with approved RMGRR126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RMS Unanimously Approv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erformed final review of SCR786 – 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ail Testing Environment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”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siness Requirement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roject number assigned by ERCOT is </a:t>
            </a:r>
            <a:r>
              <a:rPr b="1" i="1" lang="en-US" sz="2200" spc="-1" strike="noStrike">
                <a:solidFill>
                  <a:srgbClr val="000000"/>
                </a:solidFill>
                <a:latin typeface="Gill Sans MT"/>
              </a:rPr>
              <a:t>“192-01”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Gill Sans MT"/>
              </a:rPr>
              <a:t>  </a:t>
            </a:r>
            <a:endParaRPr b="0" lang="en-US" sz="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y 26, 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D1E5-CF65-4973-9192-FFD20CC8D92B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22860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Revision Requests Tabled at RMS: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9144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MGRR132, NOIE Disconnect and Reconnect Process: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m Burke (submitter) provided status report that RMGRR132 may be replaced by draft NPRR being submitted by Taylor Woodruff (Oncor).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m also stated he will know more later after the NPRR works its way through the approval process if the RMGRR needs to be re-written to synch with new Protocol language or withdrawn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th Taylor’s assistance, Tom will take the lead in guiding  this new NPRR through the approval process at RMS, WMS and PRS, and if still needed new RMGRR language.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y 26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5926-47CA-45E7-A91E-2B0DCAC3D264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RMS Voting Recommendations: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144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PRR753 and RMGRR134 (Vote)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th Revisions Request Allows an AMS Data Submittal Process for TDSP Read Non-Modeled Generator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05/03/16 RM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  NPRR753 received Unanimous Endorsement,    however, the associated RMGRR134 was Approved with 5 Abstentions coming from Consumer and IOU Segments.  The IOU segment’s concerns are violating Customer’s data confidentiality and privacy by providing their generation data to Smart Meter Texas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5/12/16 PR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    Approved NPRR753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6/7/16 RM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     Review and voting consideration of RMGRR134’s Impact Analys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y 26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F0EC-B967-4A0A-A82C-46FE327E72BB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990720" y="9140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MT Help Desk Call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359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-84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MT Help Desk Ticket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350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-126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idential =              279 (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-67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UI access issues =          69  ( </a:t>
            </a:r>
            <a:r>
              <a:rPr b="0" lang="en-US" sz="2000" spc="-1" strike="noStrike">
                <a:solidFill>
                  <a:srgbClr val="c00000"/>
                </a:solidFill>
                <a:latin typeface="Gill Sans MT"/>
              </a:rPr>
              <a:t>- 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gistration issues =       139  (</a:t>
            </a:r>
            <a:r>
              <a:rPr b="0" lang="en-US" sz="2000" spc="-1" strike="noStrike">
                <a:solidFill>
                  <a:srgbClr val="c00000"/>
                </a:solidFill>
                <a:latin typeface="Gill Sans MT"/>
              </a:rPr>
              <a:t>-5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MT Registered Users (Res)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68,43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(+  1,780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SIs in SM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7,144,755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(+15,229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tive Meters in SM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7,077,241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(+15,740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-228960"/>
            <a:ext cx="786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SMT Statistics for March 2016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B0FD-9631-40F1-A6DE-F1144DE14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y 26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1142640" y="914040"/>
            <a:ext cx="7986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ill Sans MT"/>
              </a:rPr>
              <a:t>Active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Energy Data Agreements       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1,731</a:t>
            </a:r>
            <a:r>
              <a:rPr b="1" lang="en-US" sz="2700" spc="-1" strike="noStrike">
                <a:solidFill>
                  <a:srgbClr val="c00000"/>
                </a:solidFill>
                <a:latin typeface="Gill Sans MT"/>
              </a:rPr>
              <a:t> (4/1/16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ill Sans MT"/>
              </a:rPr>
              <a:t>*Total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Energy Data Agreements       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2,286 (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-210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1" lang="en-US" sz="2700" spc="-1" strike="noStrike">
                <a:solidFill>
                  <a:srgbClr val="c00000"/>
                </a:solidFill>
                <a:latin typeface="Gill Sans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352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*Active and Pend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352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AEPN = 0; CNP = 574; Oncor = 1,71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HAN Device Agreements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486   (+97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HAN Devices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                   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9,681  (</a:t>
            </a:r>
            <a:r>
              <a:rPr b="1" lang="en-US" sz="2700" spc="-1" strike="noStrike">
                <a:solidFill>
                  <a:srgbClr val="c00000"/>
                </a:solidFill>
                <a:latin typeface="Gill Sans MT"/>
              </a:rPr>
              <a:t>-60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Parties Registered @ SMT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              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86   (NC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REPs Registered @ SMT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109    (+1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On Demand Read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352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ustomer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                4,85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52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P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52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Party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720" y="-22896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SMT Statistics for March 2016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0508-B947-4585-809C-EF6B6039F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y 26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264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Retail Market Training Taskforce (RMTTF)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66320" y="609480"/>
            <a:ext cx="80773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RCOT Learning Management System (LMS) –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line Training Modules completed by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403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arket Participants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ross all market segments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tail Market Training Roadshow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RCOT and MPs Instructor Led Classes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XU Energy hosted this training at 200 W John Carpenter Freeway  Irving,  TX  75039 (office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18960" indent="-17136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Retail 101:      Thursday,    May 5,  201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18960" indent="-171360">
              <a:spcBef>
                <a:spcPts val="55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MarkeTrak:   Friday,      May 6,  2016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31040" indent="-16272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ttendance Updat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18960" indent="-17136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etail 101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Classroom: 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7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WebEx: 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4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Total  </a:t>
            </a: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18960" indent="-17136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arkeTrak 101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   Classroom: 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WebEx: 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2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Total  </a:t>
            </a: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y 26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26C5-9260-468F-86DD-33FEFA12F5DD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264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ERCOT Updates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066320" y="6858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nadvertent Gain Statistics Reporting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ercot.com/content/wcm/key_documents_lists/77532/13.__Inadvertent_Stats___February_2016.pptx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ercot.com/content/wcm/key_documents_lists/77532/13.__May_RMS_2016_IAG_Numbers.pptx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NOTE: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EP 76 had bad enrollment file that pushed their numbers up.  These ESI IDs were corrected through MarkeTrak IAG Process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Flight 0616 Updat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light 0616 signup begins 05/11/16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light 0616 signup deadline is 05/18/16 (Adhoc, 06/24/16 for Current MPs Only, 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subject to Flight Administrator and TDSPs’ Approval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Connectivity testing begins 05/24/16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Day 1 transactions begins 06/13/16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light 0616 concludes on 06/24/16 (Contingency/Adhoc Period until 08/12/16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No transactions to be sent or received the week of July 4 (7/4 – 7/8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Simulated (SIM) Dates will no longer be used starting with Flight 0616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NOTE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: First time the market will not be using  SIM Dates during flight testing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y 26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523A-C4DF-466B-A608-768297A78E84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evill, Rob</dc:creator>
  <dc:description/>
  <dc:language>en-US</dc:language>
  <cp:lastModifiedBy>Kathy Scott </cp:lastModifiedBy>
  <dcterms:modified xsi:type="dcterms:W3CDTF">2016-05-19T22:41:13Z</dcterms:modified>
  <cp:revision>1377</cp:revision>
  <dc:subject/>
  <dc:title>Instructions</dc:title>
</cp:coreProperties>
</file>