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1F77-30DC-4C59-9A20-20DC01B9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B05F-BD13-4AED-AC40-090360CE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8CCA-9651-4A1D-9EE3-37150853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F970-630F-417E-B987-3894972F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D4B9-4FEE-4B6F-9D55-68508B0A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514F-54E9-4C2F-B75D-BA7CD9B9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36F9-4563-44EA-BAF6-0F988115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F615-18B4-4906-9C72-EFC37570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5633-884F-45CD-B365-572F23F1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0BE1-38D7-4FB1-9299-37851A54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FC26-D398-4FE9-8D82-A33C77A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A5C0-62D7-42DB-BABD-5F2E8549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6451-1027-445B-A284-F636C65D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985A-1EC5-4357-9F22-0731A8BC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D560-B679-4DF8-B316-023DCC62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37CD-EDD6-4B29-8E94-4D209A3E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102C-365C-4E77-B1A4-154D9070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032F-0D4D-4B96-B810-0F69589C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C268-0069-4709-9A21-4A0AE121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EC12-0E51-4CF9-9D3E-50C9AF56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0742-9DD6-4066-9F11-57FD6963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D901-509A-4120-9BCB-8683A275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7818-32C5-4C30-A26B-7E72AD9D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BD74-B3E8-42A9-8432-87C222E4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A3C9-B13C-4FC9-923E-123CE460D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37D5-ED9F-4048-884C-9FF7B6D30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3E4CC-0DA4-462B-B291-DD9E93B1BA4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AF09E-2EF0-4197-A062-52FA3D941E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F8F4B-642E-4ADD-9589-8ACD3C60C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5/26/20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520" y="6858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MGRR04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Updates to Market Notice Communication Process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Approv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MGRR04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Update to COPS Organizational Structure, Creation of MDWG and Updates to PWG Responsibilities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Approv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G Report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6 Q1 Non-Registered DG Installed Capacity and Current DG Registration Thresh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repor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2 format will be revised per NPRR719 and COPMGRR040 and is under development at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523880" y="2438280"/>
          <a:ext cx="5765760" cy="1847880"/>
        </p:xfrm>
        <a:graphic>
          <a:graphicData uri="http://schemas.openxmlformats.org/drawingml/2006/table">
            <a:tbl>
              <a:tblPr/>
              <a:tblGrid>
                <a:gridCol w="1003320"/>
                <a:gridCol w="1001880"/>
                <a:gridCol w="1209600"/>
                <a:gridCol w="2550960"/>
              </a:tblGrid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_Z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regate_M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h_Exported_Prior_12_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A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77,7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C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HOUST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97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,7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0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LC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NOR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108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02,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RAYB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0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SOU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98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79,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W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9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30,5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D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GRR084 – Daily Grid Operation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has language to present to the Executive Review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NOGRR and IA to be reviewed at OWG and 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s preparing wireframes for review at next MDW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NOGRR language ~ 2-3 months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-Day Disclosur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the offer curves is published as zero when should be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to be deployed in R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Market Data Transparency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WG and CSWG have reviewed the document and provided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COPS voting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Data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D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Digital Certificates and Windows 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on’t play well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EDGE browser does not support ActiveX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-up: Market Notice with instructions was sent out 5/2/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DC users must run Internet Explorer 11 in compatibility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filing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leted Load Profiling Guide and Protocol Section 18 Review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approved draft NPRR and LPG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edits to draft NPRR and LPGRR will be compared to existing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volume of revisions necessitates thorough review prior to submitting to ERCOT Market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32004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533520" y="9144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June 15, 20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Schatz, John 021616</cp:lastModifiedBy>
  <cp:lastPrinted>2016-05-12T17:27:11Z</cp:lastPrinted>
  <dcterms:modified xsi:type="dcterms:W3CDTF">2016-05-12T19:53:36Z</dcterms:modified>
  <cp:revision>1558</cp:revision>
  <dc:subject/>
  <dc:title>Instructions</dc:title>
</cp:coreProperties>
</file>