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6E39-926C-41CA-8EAB-1A460283B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68F9-61B5-488C-9433-555B7C0E5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2543-1E74-4E42-A353-FC0B79000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9931-6065-4450-AE38-AAF9A1A99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777-646E-4F57-BDFC-F145512F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0540-52F1-4CC8-A4EE-4028AE0C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9B6-C81C-4F42-A4B1-212FE519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C99-DF39-4DA0-835F-8BA3D0D3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2190-D98E-4472-B03F-E94536F1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85F1-4D56-4037-8F09-91BFA563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D45D-253D-4085-9FC6-64630A07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E4B5-058C-4048-AA0B-98D6E149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6AD5-C579-49B9-B648-4EC59404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7276-0899-41E8-B5EE-3A962024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667A-744F-4DDB-B40D-1C22B7F6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8604-C07F-4DED-8616-1D127F26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5F4D-2938-4D61-9F37-86AEB35D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371E-E860-41DA-A9C4-CE7052C3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C83A-9EA2-4927-A3D6-05D2CFA6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F232-CAAA-4384-A94D-4D6F3E88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00E8-E5FF-459D-AB8D-EF0AA1A7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B3C0F-AD7F-4161-AB0C-EDC4887CC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C6D64-FF94-4DA8-AB35-6CF6787A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DEE84-7E81-44E1-8217-0BA6DF21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7CEF8-4A9C-4974-8426-300FF436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232AF-841B-485F-B8C2-930177D1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5BAB-E94F-4EEE-A9E1-6C2DD44B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22BFF-E78C-4B73-AC9B-FB182242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11B19-D050-405C-B373-8B0CA929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464CE-55B9-4EAB-B49B-AC1633CE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F1A3C-4E28-43AF-B871-64C57C69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3B053-A788-4F18-B26B-25164506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E259C-A1DD-430E-9F88-64BC8673A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58C07-9EDC-48C0-A76D-B0FF141B7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E28C0-B0D3-4465-9F06-3791C36E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53A1E-314E-4CA0-AC81-4EB2FB799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375AD-AD26-4129-9512-2BD4571A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D6F-DD48-46BE-BEFD-C7775FBB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EF78-5844-4EF6-8AD2-D072E2DB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5E28C-483F-4EAC-BF96-4F4FC9F1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4C4EC-111F-4005-9273-565A0C10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F62C4-81A8-4E34-800B-70AA4BDC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5CE92-1ED0-4059-935F-FF63163F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E11DF-4D3A-45B4-9494-BC58BAFF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7AC11-C2C3-4429-83EE-ECB022A4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46CF4-3E8B-4494-9215-F699E8ED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D1DF7-B1DC-4B4B-97B4-490C9B46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D2461-20C5-4649-A6B5-F6FD6AFF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EB2C-E2EB-4060-B88B-5CBC8333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B6CD5-3235-46A1-8B9F-0A6FC6CA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697F5-020E-4280-8B38-660E5770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0BD31-5F04-4B02-9308-2F1BD1A3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6910F-4765-4465-AFAC-5B2FCAD6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DA87D-265F-467A-8A35-731A726B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D404E-9FE2-4DC5-B02B-3F606AFB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3EDAA-0290-4F5A-8775-6B9D03CB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0070E-3FC2-4985-BA9B-87C70F84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C4A19-2121-4979-A3FA-032AAEE0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3B7CA-8BA4-4987-B10A-8427899C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579-5E10-482E-A768-EDA87313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86750-596F-4FD2-A724-69E4A823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3E02C-4121-40E5-9773-1F88251FB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8B884-5D1C-41E2-AB48-1DA9A5F3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D5607-6082-4E92-A278-36C4855A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C1269-5934-4CFD-AF31-A4725ADF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66F52-BBFA-49B0-B87A-A48006AA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E658E-C218-4EBA-996E-5EADC472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1C174-2A0E-4258-BC85-1406EDDD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966CB-EDB9-4063-A2D0-9E41D7EA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5C25D-D19F-4151-9EA7-A8171586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7804-7077-4949-9588-2D0725EA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B0FA5-D5E1-49CB-A676-682A6BE8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22F953-088B-4497-9CFD-A544FE98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0B91F-6A7C-4EBE-8A82-4D792DBA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8853B-3A4F-43A3-BD0F-C3955779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93D0A-B3CE-4427-909D-C7C824D5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9A66E-C9C6-401D-9564-46AC0DEE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9FE88-90F9-4972-BF7D-C8CBC2A5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53123-9CA4-4766-A02E-0AB541AA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120A4-A4D9-4535-A8C4-E7AC3CBB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754C2-329C-4341-908E-7C780F89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B28B-949B-4CF0-9456-CE5A6A08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1C79A-E9C6-4735-95C7-14B8D788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74DCF-959D-4EAC-BF50-EE718596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09AFE-7308-44C3-86BB-9535D0A3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855230-27F9-40E7-9A6D-71267223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C5AF4-F1CD-4AC4-AB5C-4941B308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6F75-C82A-4109-B4D4-766CEED1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783E-E58C-4386-A546-3C262B677ED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4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val 15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62" name="Oval 15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D8B1-685D-4DEC-BF4C-C6E10F64190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1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Oval 1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1229-AD82-4AFF-B022-8DA4A07B25E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CEA1-C79B-4747-B203-EC8B9FD458F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8573B-6121-40F1-862F-E1A4FE647FE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107E-525B-478C-AB51-DFB3D050549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Rectangle 15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80" name="Rectangle 15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Flowchart: 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lowchart: 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FD11-B128-49C8-A724-2AF86F1C66C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77532/13.__Inadvertent_Stats___February_2016.pptx" TargetMode="External"/><Relationship Id="rId2" Type="http://schemas.openxmlformats.org/officeDocument/2006/relationships/hyperlink" Target="http://ercot.com/content/wcm/key_documents_lists/77532/13.__May_RMS_2016_IAG_Numbers.pptx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0" y="2114280"/>
            <a:ext cx="6657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May 3, 2016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Retail Market Subcommittee 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Update to TAC 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361960" y="327636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20e04"/>
                </a:solidFill>
                <a:latin typeface="Gill Sans MT"/>
              </a:rPr>
              <a:t>Kathy Scot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11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FFDC-5A5B-4861-B3DA-89093F6A1AB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Announcements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066320" y="6858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T Requirements Workshop “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Save The D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”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ate:        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Monday, May 23, 2016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ime:       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10:00 AM – 4:00 PM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Location: 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ERCOT Met Center Conf. Room 20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85760" indent="-1713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85760" indent="-1713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RMS Cancelled our July 5</a:t>
            </a:r>
            <a:r>
              <a:rPr b="1" lang="en-US" sz="2400" spc="-1" strike="noStrike" baseline="30000">
                <a:solidFill>
                  <a:srgbClr val="c00000"/>
                </a:solidFill>
                <a:latin typeface="Gill Sans MT"/>
              </a:rPr>
              <a:t>th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 Meeting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ue to RMS Leadership’s concerns about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afety with MPs traveling to and from Austin on July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holiday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Cost for flights and overnight hotel stays during the holiday week,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Establishing and/or maintaining quorum in order to conduct voting on key documents.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76960" indent="-226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3240" indent="-2340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3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D817-5489-4216-B10B-5A1043AE2D2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9528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DC3D-1E73-4979-874F-71A7FAB22B3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3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,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7" descr="C:\Users\00015621\AppData\Local\Microsoft\Windows\Temporary Internet Files\Content.IE5\FALW4JXL\question 1[1].jpg"/>
          <p:cNvPicPr/>
          <p:nvPr/>
        </p:nvPicPr>
        <p:blipFill>
          <a:blip r:embed="rId1"/>
          <a:stretch/>
        </p:blipFill>
        <p:spPr>
          <a:xfrm>
            <a:off x="1697040" y="838080"/>
            <a:ext cx="67057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Revision Requests Tabled at RMS: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RMGRR132, NOIE Disconnect and Reconnect Process: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Burke (submitter) provided status report that RMGRR132 may be replaced by draft NPRR being submitted by Taylor Woodruff (Oncor)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m also stated he will know more later after the NPRR works its way through the approval process if the RMGRR needs to be re-written to synch with new Protocol language or withdrawn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 Taylor’s assistance, Tom will take the lead in guiding  this new NPRR through the approval process at RMS, WMS and PRS, and if still needed new RMGRR language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11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0518-25FE-4BB0-825F-0E76AE89ACE7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RMS Voting Recommendations: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NPRR753 and RMGRR134 (Vote)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th Revisions Request Allows an AMS Data Submittal Process for TDSP- Read Non-Modeled Generato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04/05/16 RM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 Both were ‘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able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’ at RMS due to data privacy and data confidentiality concerns that were identified by the Joint TDSPs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05/03/16 RM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NPRR753 received Unanimous Approval the associated RMGRR134 was Approve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 5 Abstentions from Consumer and IOU Segments.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6/7/16 RMS will review and consider the Impact Analys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11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77B5-4F79-4095-B70F-0CCF8CD6F5DA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TX Data Transport &amp; MTK Systems (TDTMS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14040" y="6858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MGRR136, Switch Hold Removal Process Clarifications (Vot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arifies supporting documentation requirements submitted by CRs when requesting removal of a switch hold by the TDS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RMS Unanimously Approved RMGRR136 and Impact Analysis (IA)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both will require TAC approval on 5/26/16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TDTMS EDM Data Transport Implementation Guide Revis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se changes were needed due to file name changes that are being implemented in July with RMGRR12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32680" indent="-21456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RMS Unanimously Approve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Performed final review of SCR786 – 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ail Testing Environment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siness Requirements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roject number assigned by ERCOT is </a:t>
            </a:r>
            <a:r>
              <a:rPr b="1" i="1" lang="en-US" sz="2000" spc="-1" strike="noStrike">
                <a:solidFill>
                  <a:srgbClr val="000000"/>
                </a:solidFill>
                <a:latin typeface="Gill Sans MT"/>
              </a:rPr>
              <a:t>“192-01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Gill Sans MT"/>
              </a:rPr>
              <a:t>  </a:t>
            </a: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11, 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4623-E81E-48F5-8114-6E283EC9E0D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22860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Texas SET Working Group (TX SET)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914040" y="6858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raft NPRR,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arifications to New ESI ID Creation Process (Vot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Unanimous Approval for Submittal to Revision listserv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raft NPRR,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difications to Date Change and Cancellation Evaluation Window (Vot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Unanimous Approval for Submittal to Revision listserv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Draft RMGRR,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date Retail Market Guide to align with NPRRXX (Vot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Unanimous Approval for Submittal to Revision listserv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MGRR137,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line and Completion Process for Correcting Customer Billing Contact Information Fil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Unanimous Approval of Language Revisions with an Urgent Status.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pproval is needed during May or NLT the June TAC mtg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2680" indent="-208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Gill Sans MT"/>
              </a:rPr>
              <a:t>  </a:t>
            </a:r>
            <a:endParaRPr b="0" lang="en-US" sz="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11, 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82AB-81FB-4EDF-A3EF-2D9A3DA3A06E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22860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990720" y="9140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T Help Desk Call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359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-84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T Help Desk Ticket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350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-126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idential =              279 (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-67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GUI access issues =          69  ( 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- 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gistration issues =       139  (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-5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MT Registered Users (Res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68,43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(+  1,780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SIs in SM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7,144,755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(+15,229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tive Meters in SM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7,077,241</a:t>
            </a:r>
            <a:r>
              <a:rPr b="0" lang="en-US" sz="2800" spc="-1" strike="noStrike">
                <a:solidFill>
                  <a:srgbClr val="c00000"/>
                </a:solidFill>
                <a:latin typeface="Gill Sans M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(+15,740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320" y="-228960"/>
            <a:ext cx="786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SMT Statistics for March 2016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97F7-0FD8-49DD-8B4C-DD6CABDF1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April 28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T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142640" y="914040"/>
            <a:ext cx="7986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ill Sans MT"/>
              </a:rPr>
              <a:t>Active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Energy Data Agreements    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1,731</a:t>
            </a:r>
            <a:r>
              <a:rPr b="1" lang="en-US" sz="2700" spc="-1" strike="noStrike">
                <a:solidFill>
                  <a:srgbClr val="c00000"/>
                </a:solidFill>
                <a:latin typeface="Gill Sans MT"/>
              </a:rPr>
              <a:t> (4/1/16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Gill Sans MT"/>
              </a:rPr>
              <a:t>*Total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Energy Data Agreements    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2,286 (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-210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)</a:t>
            </a:r>
            <a:r>
              <a:rPr b="1" lang="en-US" sz="2700" spc="-1" strike="noStrike">
                <a:solidFill>
                  <a:srgbClr val="c00000"/>
                </a:solidFill>
                <a:latin typeface="Gill Sans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*Active and Pend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EPN = 0; CNP = 574; Oncor = 1,71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AN Device Agreements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      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486   (+97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HAN Devices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9,681  (</a:t>
            </a:r>
            <a:r>
              <a:rPr b="1" lang="en-US" sz="2700" spc="-1" strike="noStrike">
                <a:solidFill>
                  <a:srgbClr val="c00000"/>
                </a:solidFill>
                <a:latin typeface="Gill Sans MT"/>
              </a:rPr>
              <a:t>-60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Parties Registered @ SMT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         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86   (NC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REPs Registered @ SMT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109    (+1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On Demand Reads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ustomer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                 4,85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P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352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arty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1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-22896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SMT Statistics for February 2016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BD3A-4E3A-434C-9BBD-2A81D4507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3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Retail Market Training Taskforce (RMTTF) 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66320" y="609480"/>
            <a:ext cx="80773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24720" indent="-2512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Retail  Market Training Roadshow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Instructor Led Classes by ERCOT and MP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0000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Hosted by TXU Energ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975960" indent="-154080">
              <a:spcBef>
                <a:spcPts val="55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Gill Sans MT"/>
              </a:rPr>
              <a:t>200 W John Carpenter Freeway  Irving,  TX  75039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1000080">
              <a:spcBef>
                <a:spcPts val="55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Retail 101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:   </a:t>
            </a: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Thursday,  May 5,  2016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1000080">
              <a:spcBef>
                <a:spcPts val="55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</a:rPr>
              <a:t>MarkeTrak:  Friday,       May 6,  2016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975960" indent="-15408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ttendance Upd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5, 2016:   Classroom: 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37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Ex: 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  Total 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6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6, 2016:   Classroom: 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Ex: 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22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  Total 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62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88400" indent="-2034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9160" indent="-210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3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8F08-F511-4E8A-BAAB-64426478021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ERCOT Updates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66320" y="6858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advertent Gain Statistics Reporting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ercot.com/content/wcm/key_documents_lists/77532/13.__Inadvertent_Stats___February_2016.pptx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ercot.com/content/wcm/key_documents_lists/77532/13.__May_RMS_2016_IAG_Numbers.pptx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REP 76 had bad enrollment file that pushed their numbers up.  These ESI IDs were corrected through MarkeTrak IAG Process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Flight 0616 Upd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light 0616 signup begins 05/11/16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light 0616 signup deadline is 05/18/16 (Adhoc, 06/24/16 for Current MPs Only, </a:t>
            </a: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subject to Flight Administrator and TDSPs’ Approval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Connectivity testing begins 05/24/16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Day 1 transactions begins 06/13/16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light 0616 concludes on 06/24/16 (Contingency/Adhoc Period until 08/12/16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No transactions to be sent or received the week of July 4 (7/4 – 7/8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imulated (SIM) Dates will no longer be used starting with Flight 0616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NOTE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: First time the market will not be using  SIM Dates during flight testing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y 3,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E045-DEDC-482A-9E24-1D7686F50CD8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Kathy Scott </cp:lastModifiedBy>
  <dcterms:modified xsi:type="dcterms:W3CDTF">2016-05-10T15:41:17Z</dcterms:modified>
  <cp:revision>1361</cp:revision>
  <dc:subject/>
  <dc:title>Instructions</dc:title>
</cp:coreProperties>
</file>