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631-ED2B-416F-88DA-E2543144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C82-6774-4A6B-B40A-1A25502C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F09-9C32-4086-9C33-ED5B5D45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E8A-FA8A-4307-8967-5DDEFE00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9F6-1B5E-4F91-AA27-0DB7BC0E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39A-665C-407A-BC63-94438250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4F2-EBF1-4EC3-AB7D-6402D9B8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A72-B698-4032-80CE-D160BA9A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217-B55E-4CD1-B458-4AFDEAD9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F58-EBA6-4AD3-A077-DDB2C45A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0FB2-576D-4727-AA98-CD09D642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287-32A8-4D40-A3CB-C1423F3B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1C42-9D72-4867-A1FF-6E681F300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SWG Update to W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/4/201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PRR 738 ERS Performance Calculations During TDSP Ou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tor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S, November 12,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dback regarding concerns of unequal treatment with other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MS, December 2,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t to DS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SWG, January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2016 (discu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SWG, February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2016 (revision revie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SWG, April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2016 (minor revis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king for WMS approval today of NPRR 73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PRR 738 ERS Performance Calculations During TDSP Ou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we are Now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Weather Sens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d protection from Availability reductions due to outages (reduces payment during all outages, whether or not an ev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s suffering outage have no event obl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t of portfolio has event performance calc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ther-Sens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d protection from Availability reductions due to outages (reduces payment during all outages, whether or not an ev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% or more of sites suffering outage have no event obl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t of portfolio has event performance calc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ads in SCED v2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process with significant effort expe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proven as at least as difficult as anticip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umber of issues identified, including needed PUCT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ocates are re-assessing strategies and resources required to move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4:24:30Z</dcterms:created>
  <dc:creator>Tim Carter</dc:creator>
  <dc:description/>
  <dc:language>en-US</dc:language>
  <cp:lastModifiedBy>Tim Carter</cp:lastModifiedBy>
  <dcterms:modified xsi:type="dcterms:W3CDTF">2016-05-02T21:13:30Z</dcterms:modified>
  <cp:revision>135</cp:revision>
  <dc:subject/>
  <dc:title>Slide 1</dc:title>
</cp:coreProperties>
</file>