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59A1-7F49-4301-A051-8C88A16E3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ED31-AF40-43EA-9152-19EECF602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51CC-EB2E-4A0D-84AB-DE7798377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018-754D-4C78-A977-05196E44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5B0F-B4C7-449C-94D1-2D7B648F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171-EDCC-4429-BD22-24CE3C75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3A97-FE9A-4D32-87FB-CE721988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B119-7332-484C-9EFB-3EE292CA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BFFD-1944-4770-A32D-0D171634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A39B-2F9F-475F-A593-3B161D09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4571-8F9F-4654-AD1C-10B0E354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2534-6A23-4B98-B63F-2C20AE3F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AC6C-EF76-412B-A3A8-A90C4931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EAA7-BDEE-4BEE-944A-5A7B36BB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5BAA-D9F7-46AF-AC3E-0A6F3406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FB12-E4CC-42F6-A553-A88A6842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FA6B-F620-4AB4-B058-2841EACF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8903-D578-4CF6-8FED-E2F00183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404B-EF35-4131-9AD9-4E090FEC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89F4-8298-4D2E-ABD9-5A75A376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2EF24-F33F-4421-8492-4EADA54B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496FC-6497-44A8-B18B-41306DC4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F0C6B-FDFD-4903-ABC0-237D6863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093B9-0022-49F2-8519-4DA8D34E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84089-5C2B-4B1D-A238-43E987A9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D51-CD65-43F3-B596-AE930352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887BA-6E27-4D9B-A1A4-755042F4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F697E-0083-400F-94B9-D4068C36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3A6F4-6790-40BE-BF17-587AF089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7ED19-88D3-4EB8-8A6E-45CC7B01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F2CD4-F1F7-4BCE-B206-CAF71EB5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800E6-9E05-4E60-AEA0-FCAE2947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94488-1CD1-484C-B43B-6A58615B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636AB-788F-49DD-9728-D9678B95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B1C31-EB8F-4B50-B390-928F8FDF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B9537-CA62-4D71-8307-16BE8C3C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16AF-09CE-4889-BB34-55D25144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C0D2E-8CC5-42CD-897D-DB38003B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BEAF4-9EEC-4CD5-AAA5-672D680D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E64AD-B0D2-4B0E-8FB7-604EF5C0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A41EB-459E-4C2D-8CA6-AFBBAB68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A3E15-4EB3-4EA0-BF62-34156E63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7B720-6AF2-4A38-AD98-8D9C897F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59F56-F193-4FDC-8AE1-8332ED90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326A1-AAFD-4828-86E6-E5CE813E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559E7-4F00-4400-8BDE-9068FCEB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9BEF0-51E2-4AEB-8AC8-CC653C99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F154-25AB-4714-B9E5-78768010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7EC65-0372-4E32-A5C6-0F290DF9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C0DED-E4A2-4CB9-95FB-3D67F8CA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5DE32-DD49-42E7-9090-3BEAD352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103C6-293B-412E-9073-09FF147C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9F82F-F344-4775-8F2D-4952D816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B75E6-9A7D-4930-84B3-9054288C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799B7-C8A5-443D-A414-01A89186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8D051-FF6F-4ABB-B818-9B44D9BA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613CF-6D09-4280-ABE7-BA315BAE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41B9E-7568-4F43-BA62-C22D1527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6529-FA10-4ECE-A93B-1B6032AC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AABD4-B3B5-4FDF-9F90-33227341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31140-6581-4B83-AB51-024F14C5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9A08C-FB52-4F31-96B5-B5246A3A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BD32B-6FFA-4CC0-B02A-77C342D4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E45FA-DC58-4774-95C4-34DBB246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E8193-98EE-44A9-98F0-06D9E7EF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54FCE-4D6B-4C2D-954D-0F942A7D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F04DB-B966-4877-A881-412652D5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8C864-C72C-4015-A48A-3E00AD32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FCBBF-BDCB-4AD0-B477-3AD62C82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8626-10A5-4045-8D53-751493BE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94AE2-66CA-45F3-A0CD-935C6C5A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95C88-D180-4A49-A53E-853EFBB6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3A3D5-4619-4A83-AA4F-3B5DF71F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40F1A-C3F7-4F18-BDF3-E3FC91E5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91474-927C-4FE7-85E4-6F70B9A0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04D5F-F5C9-462F-BF35-8DEFEB4F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B2B7D-88BE-4F74-A85C-BE20C4E2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1A48C-78C9-443B-8470-351F2CED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A003A-C943-4190-B59E-670E4C8E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98030-1A5E-4D24-879E-93A97B4C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22B8-C029-4BC4-B44F-49D6B38B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26622-418E-4F5D-A471-A9D6069F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83069-3466-4334-A41F-3B9F8B4A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3AF0D-19C1-403E-8B2D-1D22D9B4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B1C9D-CBAC-408A-95DE-35DE29AD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8BD4A-703F-4BE3-A9B8-BB397755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78CE-DA5D-4445-A23E-18882F29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EEA2-69D0-40C0-80D8-83ECFC8C4EE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4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Oval 15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62" name="Oval 15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6360-D302-4174-967C-F08135EFD48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1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0" name="Oval 1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26C4-A7F0-4459-85C4-35B3DA6E5E3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1BDC-6314-4B18-A216-16B2E7659C7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19CE-0A1C-4015-BC66-F16870471AB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6707-A5B6-4593-A1C4-1DEA206262E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Rectangle 15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80" name="Rectangle 15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Flowchart: 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lowchart: 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A0A9-2C57-4A66-8C33-1271F53556C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content/wcm/key_documents_lists/81381/AMSR_Cycle_Read_Analysis_Dec15_v2.pptx" TargetMode="External"/><Relationship Id="rId2" Type="http://schemas.openxmlformats.org/officeDocument/2006/relationships/hyperlink" Target="http://www.ercot.com/content/wcm/key_documents_lists/81381/AMS_Volume_and_Count_Report_ERCOT_Feb16.xls" TargetMode="External"/><Relationship Id="rId3" Type="http://schemas.openxmlformats.org/officeDocument/2006/relationships/hyperlink" Target="http://www.ercot.com/content/wcm/key_documents_lists/81381/867_vs._AMS_Dec15.xlsx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0" y="2114280"/>
            <a:ext cx="66578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April 5, 2016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Retail Market Subcommittee 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Update to TAC 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2361960" y="327636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20e04"/>
                </a:solidFill>
                <a:latin typeface="Gill Sans MT"/>
              </a:rPr>
              <a:t>Kathy Scot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28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0EC4-9333-4F72-9749-B8475BE9C72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Revision Requests Tabled at RMS: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144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PRR753 and RMGRR134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ows an AMS Data Submittal Process for TDSP- Read Non-Modeled Generator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03/1/16 RM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 Additional time needed to review ERCOT’s 2/29/16  Comments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04/5/16 RM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 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Both continued to be ‘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Tabled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’ at RMS due to data privacy and data confidentiality concerns that were identified by the Joint TDSPs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April 28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B7BD-FA4E-42EA-ACBC-3464BFE7FE6D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Advanced Metering Working Group (AMWG)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914040" y="6858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MWG Procedure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03/01/16 RM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 Referred back to the Advanced Metering Working Group (AMWG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752760" indent="-19404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MS member requested additional clarifications were necessar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04/05/16 RM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 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RMS Unanimously Approved the AMWG Procedures with the 3/22/16 AMWG edits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MS Data vs 867_03 Usage Data Reporting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ercot.com/content/wcm/key_documents_lists/81381/AMSR_Cycle_Read_Analysis_Dec15_v2.pptx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www.ercot.com/content/wcm/key_documents_lists/81381/AMS_Volume_and_Count_Report_ERCOT_Feb16.xl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http://www.ercot.com/content/wcm/key_documents_lists/81381/867_vs._AMS_Dec15.xlsx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Gill Sans MT"/>
              </a:rPr>
              <a:t>  </a:t>
            </a:r>
            <a:endParaRPr b="0" lang="en-US" sz="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April 28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BC4D-39F2-467C-8348-2FDA6B51A07F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Advanced Metering Working Group (AMWG)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66320" y="83808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Reminder April 2016 SMT Planned Release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AY AFFECTED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Friday,  April 2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9:00 P.M. until Saturday,  April 3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at 9:00 A.M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ability Defect in SMT and SMT Maintenance that will Require a (6-hour) Outage Affecting Certain SMT Portal Services: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New Functionality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ill allow users to open SMT in multiple tabs in the same browser without having to re-enter login information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ystem Impac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ortal, Home Area Network (HAN) and On-Demand Reads (ODR) affect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 impact on LSE files and FTPS fold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April 28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808E-93EA-46DB-AA38-D18B77B17600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990720" y="9140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MT Help Desk Call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443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  +37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MT Help Desk Ticket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426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   +9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idential =              346  (+ 3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UI access issues =          72  ( </a:t>
            </a: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- 31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gistration issues =       191  (+ 18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MT Registered Users (Res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66,65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(+  1,183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SIs in SM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7,129,456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(+12,354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tive Meters in SM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7,061,501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(+12,613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-228960"/>
            <a:ext cx="786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SMT Statistics for February 2016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ACE5-F8BB-43B6-AF0B-182AE70DB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April 28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142640" y="914040"/>
            <a:ext cx="7986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ill Sans MT"/>
              </a:rPr>
              <a:t>Active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Energy Data Agreements         </a:t>
            </a:r>
            <a:r>
              <a:rPr b="1" lang="en-US" sz="2700" spc="-1" strike="noStrike">
                <a:solidFill>
                  <a:srgbClr val="c00000"/>
                </a:solidFill>
                <a:latin typeface="Gill Sans MT"/>
              </a:rPr>
              <a:t>993 (3/1/16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ill Sans MT"/>
              </a:rPr>
              <a:t>*Total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Energy Data Agreements      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2,496 (+1,331)</a:t>
            </a:r>
            <a:r>
              <a:rPr b="1" lang="en-US" sz="2700" spc="-1" strike="noStrike">
                <a:solidFill>
                  <a:srgbClr val="c00000"/>
                </a:solidFill>
                <a:latin typeface="Gill Sans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352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*Active and Pend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352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AEPN = 0; CNP = 596; Oncor = 1,899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AN Device Agreements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389   (NC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AN Devices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                   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9,741  (</a:t>
            </a:r>
            <a:r>
              <a:rPr b="1" lang="en-US" sz="2700" spc="-1" strike="noStrike">
                <a:solidFill>
                  <a:srgbClr val="c00000"/>
                </a:solidFill>
                <a:latin typeface="Gill Sans MT"/>
              </a:rPr>
              <a:t>-44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Parties Registered @ SMT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              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86   (+1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REPs Registered @ SMT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108   (+1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On Demand Read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352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ustomer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          4,7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52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P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52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Party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-22896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SMT Statistics for February 2016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353B-EF85-4B39-9C3E-68D6208EE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April 28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Retail Market Training Taskforce (RMTTF)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66320" y="609480"/>
            <a:ext cx="80773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Reminder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tail  Market Training Roadshow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nstructor Led Classes by ERCOT and M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123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Hosted by TXU Energy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55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Gill Sans MT"/>
              </a:rPr>
              <a:t>200 W John Carpenter Freeway  Irving,  TX  75039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1123920">
              <a:spcBef>
                <a:spcPts val="55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Retail 101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:  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Thursday,  May 5,  2016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1123920">
              <a:spcBef>
                <a:spcPts val="55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MarkeTrak:  Friday,       May 6,  2016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Sign-up for Classroom or Webinar: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//www.ercot.com/services/train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April 28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E544-2227-4478-8F62-650429D38220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ERCOT Updates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66320" y="6858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nadvertent Gain Statistics Reporting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D. Michelse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 MT"/>
              </a:rPr>
              <a:t>http://www.ercot.com/content/wcm/key_documents_lists/77528/13.__April_RMS_2016_IAG_Numbers.pptx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 MT"/>
              </a:rPr>
              <a:t>http://www.ercot.com/content/wcm/key_documents_lists/77528/13.__Inadvertent_Stats___January_2016.pptx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T Incident Repor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D. Pagliai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ervice Availability –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ch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- Retail Market IT systems met all SLA targe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ncidents &amp; Maintenance –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ch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-   None to Repor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April 28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842F-F867-49EB-8D2D-572DD4466A13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-15264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Questions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34DE-7765-4B86-8161-ACDF24CC85E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April 28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,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7" descr="C:\Users\00015621\AppData\Local\Microsoft\Windows\Temporary Internet Files\Content.IE5\FALW4JXL\question 1[1].jpg"/>
          <p:cNvPicPr/>
          <p:nvPr/>
        </p:nvPicPr>
        <p:blipFill>
          <a:blip r:embed="rId1"/>
          <a:stretch/>
        </p:blipFill>
        <p:spPr>
          <a:xfrm>
            <a:off x="1697040" y="838080"/>
            <a:ext cx="67057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evill, Rob</dc:creator>
  <dc:description/>
  <dc:language>en-US</dc:language>
  <cp:lastModifiedBy>Kathy Scott </cp:lastModifiedBy>
  <dcterms:modified xsi:type="dcterms:W3CDTF">2016-04-22T04:33:50Z</dcterms:modified>
  <cp:revision>1330</cp:revision>
  <dc:subject/>
  <dc:title>Instructions</dc:title>
</cp:coreProperties>
</file>