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dt" idx="35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ftr" idx="3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 type="sldNum" idx="37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87CD86-F704-4A96-8A44-F51954ADDA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A6349F-12A8-4595-B525-09B3406F0F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AA104E-3B00-4179-B5A6-DC6FE0BCC9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16F68F-EAA2-4C8A-88AA-A3BF9C58EF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8B28-FD95-45C1-B30C-462497C67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8F3B-0836-452D-8334-FD4669DB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142FEA-AE0E-4B15-936F-C1A83B9C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983D92-360F-47A8-A2FB-65E324BE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FA6CF8-8D9D-41D6-AEDA-84B21A86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746B26-93CA-4D35-8529-F4894155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1A396B-3C31-45C5-BD13-37864ED1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9DB6A9-8B8E-4919-B60B-AB098C87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56A825-F5C9-4AB3-BACE-A97C9912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DDF8D9-81F4-4186-A800-CE22B5A68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0740ED-C975-4514-BF09-5655E042C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D2D137-630B-438A-A25F-803BEB200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2D5A-7B12-4433-B0D8-EBC625EC3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D57B45-644F-430F-B478-C79DFD83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FC62BD-401D-423E-B0C1-1EC45A2A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8AF315-D66A-452C-B004-9E052954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6F2147-66C4-450F-B90E-4AC58FEC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7B14F7-CD83-480D-997B-B729233D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9C3CB9-C231-427E-A1C3-9C1EE9D4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4002A9-1A16-414E-A097-1C289972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25A5CB-26CA-4DAA-A731-DF736EDD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1ABF44-1591-4922-AB75-E17E3DAE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9F4947-7802-4217-B76F-A6B4088C5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D86F-BB8D-40BD-B0A5-3BA6711DB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2ECCE1-409D-4A36-B66F-ECB00D451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0DE6-A89C-4BA9-931B-706310701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1487-FD00-4DC7-B8D1-9F688FC5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AADF-356C-458F-9ADE-86EDA4CC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A5D4-1DDB-4CC2-95CD-0FAAA28E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49F3-6ADE-4716-92F7-49CAC0DA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3D5B-A554-4322-A9AA-99A16D0B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F690-33F0-4BA2-9FE5-269B23DB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849A-562E-46FD-8794-0EC297F8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FFDD-9734-491C-B46A-4DFCA173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CEDC-EF57-403C-83E7-07F89A7D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BA8B-3EBA-48A6-9A59-5C049651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769E-CF5C-4F81-BF54-BE7FB7BE9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7796-4B5B-4D34-9AF6-7575B08FF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5ACE-2994-4BC2-9BE4-9580ABD3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86C3-8A15-48E6-82A7-A892ED22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0E2364-6207-4D6D-BCDE-173100DAE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68B3-B135-49C4-82CE-E0CB0A6C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560E39-1E87-4FE4-BD86-B13DB843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3A35E6-1EDF-4271-9B52-46A7ECB8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AB17B0-72DC-4654-BCDC-2BC58ED0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6F6512-DD2B-477A-A2EC-422DA11E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375FC4-4768-4BEF-856D-432B1275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84D050-EF0F-4EC8-A4B1-08B3C7B1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610B17-9C3C-462F-96E2-412AD1DC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F286A5-9BCB-49C4-B511-77455CA8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E350E2-6B47-4A97-8E8B-219A9048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7688C1-E409-40AF-BA10-2FDAFB7A1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B891-1F2E-43DB-924D-9883FC23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9255F0-DAE5-4001-8033-4A56E086D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CE1685-545A-43F1-AEB2-A033015F6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8E96DB-D9C4-4B03-B158-993E3EFB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61D366-CAB0-4C8A-9D05-CE2E94CB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3E2BEA-7FC5-4F8B-8662-BA7915C6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E658A2-ED9A-44E2-98EE-EF05C1CA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8346C1-5AEB-49CC-A4A2-36F23C2E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0168F3-9341-4B79-8423-A311A19A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A69D04-30A3-4D0C-B224-46E55E31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5862A3-9847-4DF5-B2EC-2196D7CD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1FD3-8F03-4A7B-89FC-DB44EB5F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9A460A-70C8-406F-BC10-B728D666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194F68-2EF7-49E3-9474-8B60A7EE2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1AE926-EC77-4EEC-9594-629148E60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A71D61-FC62-45B7-94A7-FBDA39C5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DF6E0B-17C9-4059-968E-25B4815F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44CA01-D796-4777-A925-0CD02BA5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84C24A-8A12-4C6E-945C-2F70D33C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ACAA70-D556-41D3-B248-8D2F6598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17E4DA-3E47-49C9-A840-1134DE64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65ACFC-3808-4B0F-A142-06799384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AEBB-9D43-4DBC-8C91-B3571E8F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4ACF26-FC1A-4416-B4B9-AF35B482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6018FB-BCF2-4B6E-929B-BE018D57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0E07D4-C39E-4E04-91C2-105F8DDD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E29222-F941-44BA-A515-71B3C0AFA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ED9731-7108-4766-8883-51C7ABBE8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A80FF3-6116-4730-8012-E8BA10E3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291D00-8FE5-4752-A4B7-CEAFE6BA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5DBB74-6C38-49B4-9D30-09DCDDDE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CE6D04-8892-453E-9F9C-A498DA84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C98065-CD2A-40E4-BD40-A9C8C61E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5D01-7346-4745-82A5-E42CBADD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A613A3-B68A-4F51-AD11-321D5EA8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3F7C53-7460-4A38-B713-E39E7ED8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E09592-2F1F-43BD-9F4E-10928BBE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3B7207-06E4-401F-BAB6-47C4CC21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E72388-DA6B-4520-9943-0D86C0EB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556CC2-AC91-477D-A653-C5E84DC2B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A91FB4-FCA0-4A26-9541-734C05628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83E650-E633-484B-AB80-0B1C1D69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15C323-1A1D-4CEE-95E9-8C7EC82F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C8BECF-B714-4201-A013-E80F50AD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DCA8BD-5653-4CE1-B106-501166108C2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pril 28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7A267E-0B41-475F-944C-8D686D3267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3D30C1-5F05-4EFD-BE30-FE3BB3454F62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APRIL 28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5C4DFA-B01F-4A92-8188-46D06A9333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F4645D-379C-4023-B742-E27CEE231DE6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ftr" idx="2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PRIL 28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999A9C-EFD3-4827-84E3-ED1418C13236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2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PRIL 28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27B2EF-CA1A-4C78-A428-F825998C15C9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2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PRIL 28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427365-8CEF-42E9-A74F-21FC2717810E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ftr" idx="3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PRIL 28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A9F53D-5C65-4A1A-AF75-4FF4F9DC1214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ftr" idx="3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PRIL 28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2657FF-9178-492E-B18E-37387C8A1710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ftr" idx="32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PRIL 28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8BB439-49C8-40CC-B725-24298337EA6C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ftr" idx="3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PRIL 28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18FD1B-9772-4BA7-ACB1-60B3A946929E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ftr" idx="3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PRIL 28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5494E3-9240-48AB-8EA0-C27A9973FC3C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APRIL 28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462307-643B-448D-8A77-6F7A59EE16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ftr" idx="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pril 28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52F8FD-8220-4509-A670-95FF56150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ftr" idx="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pril 28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8473BD-D1E0-4398-B45A-55747FD64991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APRIL 28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1CEE2F-716D-4839-956E-4880B12B76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2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DEA09B-BAA3-4F2F-B4C2-B85420464486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3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APRIL 28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4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AB39F3-85C2-4B90-BF14-F2867230A2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5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BAC015-C6AD-410D-9F76-D17D0AC7E46B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6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APRIL 28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7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833801-994E-4AAB-A4C3-9A62A5E8E5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8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4640BE-6E23-422F-9A2E-41CB4273D608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9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4068"/>
                </a:solidFill>
                <a:latin typeface="Times New Roman"/>
              </a:rPr>
              <a:t>APRIL 28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0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027F08-3B95-488E-A323-3BDBBC297332}" type="slidenum">
              <a:rPr b="0" lang="en-US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B93E6A-E758-4257-AC70-B0014F4863D0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APRIL 28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06707D-5EF1-42D1-90DE-AA9C2BF903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Group 13"/>
          <p:cNvGrpSpPr/>
          <p:nvPr/>
        </p:nvGrpSpPr>
        <p:grpSpPr>
          <a:xfrm>
            <a:off x="787320" y="2804760"/>
            <a:ext cx="7543800" cy="2871720"/>
            <a:chOff x="787320" y="2804760"/>
            <a:chExt cx="7543800" cy="2871720"/>
          </a:xfrm>
        </p:grpSpPr>
        <p:sp>
          <p:nvSpPr>
            <p:cNvPr id="784" name="TextBox 9"/>
            <p:cNvSpPr/>
            <p:nvPr/>
          </p:nvSpPr>
          <p:spPr>
            <a:xfrm>
              <a:off x="787320" y="3082680"/>
              <a:ext cx="7543800" cy="25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holesale Market Subcommittee (WM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eremy Carpe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6 WMS 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hnical Advisory Committee (TAC) Meeting Repo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1584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Footer Placeholder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RIL 28TH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Meeting Schedule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ast WMS mee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pril 6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, 2016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Next WMS mee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May 4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, 2016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9" name="Footer Placeholder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RIL 28TH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WMS Vote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RCOT Recommendation of 200MW increase to RRS for HE 15-18 in July and August 2016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ndorsed (Roll Call - 70% Yes, 30% No, 1 Abstention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llocation Option 3 for VCMRR009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ndorsed (1 Opposed, 4 Abstentions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Option 3 allocates minimum fuel purchase costs over usage from the resource, from any 3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alibri"/>
              </a:rPr>
              <a:t>rd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 party transactions, and from any storage volum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2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RIL 28TH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Other Busines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Joint ROS/WMS Workshop on RMR and Regional Haz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entatively scheduled for Tuesday, May 24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alibri"/>
              </a:rPr>
              <a:t>th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RCOT is seeking agenda items from Market Participant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           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5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RIL 28TH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Carpenter, Jeremy</cp:lastModifiedBy>
  <cp:lastPrinted>2013-01-30T23:16:36Z</cp:lastPrinted>
  <dcterms:modified xsi:type="dcterms:W3CDTF">2016-04-20T18:27:11Z</dcterms:modified>
  <cp:revision>866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4C4FFC4A894504CB30DBFB7150C9A36</vt:lpwstr>
  </property>
  <property fmtid="{D5CDD505-2E9C-101B-9397-08002B2CF9AE}" pid="3" name="Information Classification">
    <vt:lpwstr/>
  </property>
  <property fmtid="{D5CDD505-2E9C-101B-9397-08002B2CF9AE}" pid="4" name="Vault">
    <vt:lpwstr>0</vt:lpwstr>
  </property>
</Properties>
</file>