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7739-5EFD-44D7-ACF3-02C86ED8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4ED3-BB5C-4B5B-BEF1-82DDD26D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0E86-141E-41E6-8200-AB45EE0D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465B-4B96-47F9-A502-0DFD899B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FBAC-B3FD-4783-8145-9CFF91EB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BDA2-5185-467C-A407-C25E5EAE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5D41-6192-4615-89A0-5E4C073A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828A-937D-4202-AE25-832682B9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0C56-8DF1-497F-A85A-B3699DBB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F480-D3B5-4F35-8D73-6BDF09FF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FBA6-32FA-4D46-A7EC-695EF104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C592-0783-40DC-984F-55B533D0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3A3E-9EC8-43AA-989F-6705C2D6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887B-A60D-4E5D-B5AC-FD5448AE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0C2A-CF8A-4596-87D1-FC440EB6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5015-F054-4925-B65B-AD61C5D0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47E9-CA46-45C6-BD34-F0949DEF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8666-FCF6-4133-9288-EB85BCCB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6A21-433D-4442-A8AC-D65D85E5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F136-BA61-4C61-8254-2463BE40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A29A-D01D-44AF-888A-7E6597B9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CAD3-FA8E-4864-9F06-8CF76994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BC98-56C2-4095-A77B-6D4DE4B6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2A9E-8D23-47A9-BFDB-41EBD4D8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58E3-E535-4138-97E1-A5B4B3962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BB93-2A6A-4F8E-9F8F-E3673EAEE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72E8F-9007-4CB0-8545-2BD7DE7AA0A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1CE5C-FF4B-4C4D-807A-80D6F536AF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441D0-093B-4FF3-A363-BFF5D1C21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rcot.com/calendar/2016/4/5/90457-COPS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4/28/20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520" y="6858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WG Comments to COPMGRR042, Update to COPS Organizational Structure, Creation of MDWG and Updates to PWG Responsibilities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Approv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aft NPRR, Updates to Nodal Protocol Section 18, Load Profiling, to Align with Current Market Processes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Approved to Submit to Market Rul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aft LPGRR, Comprehensive Review of Load Profiling Guide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Approved to Submit to Market Rul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ettlements Upd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419, Revisions to RTEIAMT and RMRAA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ke Holt provided Release 2 (4/12/2016) implementation details for NPRR4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es the Real-Time Energy Imbalance equations to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vide intermediate bill determina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he Resource’s share of the generation site total revenue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es the Resource Node, Load Zone, and Hub Real-Time Energy Imbalance equations to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vide volumetric imbalance 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each QSE and Settlement Point;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es the Reliability Must-Run (RMR) Adjustment Charge to charge the QSE for the revenues paid in accordance with the energy imbalance calcu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termediate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Share Revenue Settlement Payment (RESR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Share Net Meter Real-Time Energy Total (RESME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Node Energy Imbalance Per QSE per Settlement Point (RNIMB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Zone Energy Imbalance per QSE per Settlement Point (LZIMB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b Energy Imbalance per QSE per Settlement Point (HBIMB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column added to RTMOUTPUT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d Data Definition Language and XSD for the XML are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munications and Settlements Working Group (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CSWG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sented 2016 CSWG Goals to CO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PRR746, Adjustments Due to Negative Load – </a:t>
            </a:r>
            <a:r>
              <a:rPr b="0" lang="en-US" sz="2300" spc="-1" strike="noStrike">
                <a:solidFill>
                  <a:srgbClr val="c00000"/>
                </a:solidFill>
                <a:latin typeface="Arial"/>
              </a:rPr>
              <a:t>Reviewed and Approv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PRR754, Revise Load Distribution Factors Report – </a:t>
            </a:r>
            <a:r>
              <a:rPr b="0" lang="en-US" sz="2300" spc="-1" strike="noStrike">
                <a:solidFill>
                  <a:srgbClr val="c00000"/>
                </a:solidFill>
                <a:latin typeface="Arial"/>
              </a:rPr>
              <a:t>Reviewed the report posting timing for PRS; Found no issues; PRS advised to proceed with consideration of NPRR75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PMGRR041 – Updates to Market Notice Communication Process - </a:t>
            </a:r>
            <a:r>
              <a:rPr b="0" lang="en-US" sz="2300" spc="-1" strike="noStrike">
                <a:solidFill>
                  <a:srgbClr val="c00000"/>
                </a:solidFill>
                <a:latin typeface="Arial"/>
              </a:rPr>
              <a:t>Tabled for additional changes; IA review reschedul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PMGRR042 – Update to COPS Organizational Structure, Creation of MDWG and Updates to PWG Responsibilities – </a:t>
            </a:r>
            <a:r>
              <a:rPr b="0" lang="en-US" sz="2300" spc="-1" strike="noStrike">
                <a:solidFill>
                  <a:srgbClr val="c00000"/>
                </a:solidFill>
                <a:latin typeface="Arial"/>
              </a:rPr>
              <a:t>Approved pending COPS approval of PWG Com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D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GRR084 – Daily Grid Operations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has language to present to the Executive Review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NOGRR and IA to be reviewed at OWG and 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s preparing wireframes for review at next MDW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0-Day Disclosure Dat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the offer curves is published as zero when should be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under development; Implementation expected in Release 3, June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view of CRR Balancing Account Extract User Gu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Data Services provided draft updates to improve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ent to MDWG ListS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s requested to review and provide com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D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Market Data Transparency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WG reviewed the document and provided updates to delineate between systems up time, application availability, and data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roposed the creation of a Missed Postings list and creation of Missed Postings listse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Efforts/Upcoming Ch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report link to be placed in MIS for Daily RUC Off-line Generation Resources Initial 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C adders will be added to the Real-Time Indicative LMPs Dash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ly Solar Power and Wind Report will have date/time split out by delivery date and hour 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419 adding new billing determinants for Real-Time Energy Imbalance and R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.com and dashboards re-skin – Look and Feel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mplemented April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day notice for R2 changes scheduled for April 12-14,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 is now scheduled for 6/21/2016 – 6/23/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4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filing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leted Load Profiling Guide and Protocol Section 18 Review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 approved draft NPRR and LPG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of NPRR changes available in the ’09. PWG update to COPS 20160405’ document located in the COPs April 5, 2016 Meeting Key Documents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rcot.com/calendar/2016/4/5/90457-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nual Validation Proposed Chang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nnual validation process on March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s opposed to June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both RES and BUS in March and still conclude in the 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tocol Compliance Report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Annual Validation activities are included in Protocols, it was agreed that any violations will fall under the normal Protocol violation repor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32004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9144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y 11, 20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Michelle Trenary</cp:lastModifiedBy>
  <cp:lastPrinted>2015-09-23T20:39:02Z</cp:lastPrinted>
  <dcterms:modified xsi:type="dcterms:W3CDTF">2016-04-22T16:17:45Z</dcterms:modified>
  <cp:revision>1554</cp:revision>
  <dc:subject/>
  <dc:title>Instructions</dc:title>
</cp:coreProperties>
</file>