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E83DFB-6ECC-4CB4-B7B3-45B0F5D5D11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81160" y="696960"/>
            <a:ext cx="4648320" cy="3486240"/>
          </a:xfrm>
          <a:prstGeom prst="rect">
            <a:avLst/>
          </a:prstGeom>
          <a:ln w="0">
            <a:noFill/>
          </a:ln>
        </p:spPr>
      </p:sp>
      <p:sp>
        <p:nvSpPr>
          <p:cNvPr id="1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49D77-8E4B-4E06-A2E2-D019C1F3A80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3F36AA-14EA-49BB-910F-98469082CF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81160" y="696960"/>
            <a:ext cx="4648320" cy="3486240"/>
          </a:xfrm>
          <a:prstGeom prst="rect">
            <a:avLst/>
          </a:prstGeom>
          <a:ln w="0">
            <a:noFill/>
          </a:ln>
        </p:spPr>
      </p:sp>
      <p:sp>
        <p:nvSpPr>
          <p:cNvPr id="1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DD6068-D5DA-43BD-8EC7-683ECC734A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9152D-56E3-47E0-91C0-68E793B1C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B741-7E17-4C5E-96CB-E0FF55D14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0CF1C-1D87-4FC7-99CB-8727307F0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66E4F-0675-4DCA-AE86-32D51009D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1364C-945F-4C76-B3EE-49EB81A59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A1209-A8AB-4EDB-A7B7-042D58FD5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48489-51EB-42D9-BE67-5C725CA0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8A35A-C67D-45D9-AFB2-29F47F999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9F0E-0F0D-426C-B1F1-06F8B35CB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5E5DB-ADBA-4F90-BB7F-6D5C69EF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5C6FC-CEB7-4606-AD56-CF4207861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F0343-7B84-421B-99D0-11BAEE508C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1A444-1ACF-4EBB-8CA8-71A6C7A6D41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5F10FD-2D4F-4AB4-B88F-67933A584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D0E35D-0339-48C3-A100-950AA1D39E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manda Frazie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6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pril 28, 2016</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379440" y="714240"/>
            <a:ext cx="845820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Unopposed (Vote):</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52, Clarification of Revision Request Proces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CR788, Addition of Integral ACE Feedback to GTBD Calculation</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379440" y="714240"/>
            <a:ext cx="838980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ERCOT Browser Support Roadmap Upda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RCOT provided an update to PRS on the upcoming end of support for browsers below IE11</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ll current User Interfaces will continue to work in IE8 and in IE11 in “Enterprise Mod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eginning with R5 2016, any project that develops or substantially redesigns the User Interface will be built to utilize IE11 or greater in native mode and will not work in any version of IE less than 11</a:t>
            </a:r>
            <a:endParaRPr b="0" lang="en-US" sz="20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ppend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79080" y="125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NPRR752, Clarification of Revision Request Process [ERCOT]</a:t>
            </a:r>
            <a:endParaRPr b="0" lang="en-US" sz="1800" spc="-1" strike="noStrike">
              <a:solidFill>
                <a:srgbClr val="000000"/>
              </a:solidFill>
              <a:latin typeface="Arial"/>
            </a:endParaRPr>
          </a:p>
        </p:txBody>
      </p:sp>
      <p:sp>
        <p:nvSpPr>
          <p:cNvPr id="179" name="Rectangle 2"/>
          <p:cNvSpPr/>
          <p:nvPr/>
        </p:nvSpPr>
        <p:spPr>
          <a:xfrm>
            <a:off x="487440" y="879480"/>
            <a:ext cx="81579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July 1, 2016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No budgetary impact; no impacts to ERCOT staffing; no impacts to ERCOT computer syst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NPRR clarifies Protocol language related to the revision request process to reflect current ERCOT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  </a:t>
            </a:r>
            <a:r>
              <a:rPr b="0" lang="en-US" sz="1800" spc="-1" strike="noStrike">
                <a:solidFill>
                  <a:srgbClr val="000000"/>
                </a:solidFill>
                <a:latin typeface="Arial"/>
              </a:rPr>
              <a:t>On 3/10/16, PRS unanimously voted to recommend approval of NPRR752 as amended by the 2/24/16 ERCOT comments.  On 4/14/16, PRS unanimously voted to endorse and forward to TAC the 3/10/16 PRS Report and the Impact Analysis for NPRR7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79080" y="134640"/>
            <a:ext cx="84582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Arial"/>
              </a:rPr>
              <a:t>SCR788, Addition of Integral ACE Feedback to GTBD Calculation [PDCWG]</a:t>
            </a:r>
            <a:endParaRPr b="0" lang="en-US" sz="1800" spc="-1" strike="noStrike">
              <a:solidFill>
                <a:srgbClr val="000000"/>
              </a:solidFill>
              <a:latin typeface="Arial"/>
            </a:endParaRPr>
          </a:p>
        </p:txBody>
      </p:sp>
      <p:sp>
        <p:nvSpPr>
          <p:cNvPr id="181" name="Rectangle 2"/>
          <p:cNvSpPr/>
          <p:nvPr/>
        </p:nvSpPr>
        <p:spPr>
          <a:xfrm>
            <a:off x="563400" y="785880"/>
            <a:ext cx="7998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oposed Effective Date:  </a:t>
            </a:r>
            <a:r>
              <a:rPr b="0" lang="en-US" sz="1800" spc="-1" strike="noStrike">
                <a:solidFill>
                  <a:srgbClr val="000000"/>
                </a:solidFill>
                <a:latin typeface="Arial"/>
              </a:rPr>
              <a:t>Upon system implementation - Priority 2016; Rank 1640</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RCOT Impact Analysis:  </a:t>
            </a:r>
            <a:r>
              <a:rPr b="0" lang="en-US" sz="1800" spc="-1" strike="noStrike">
                <a:solidFill>
                  <a:srgbClr val="000000"/>
                </a:solidFill>
                <a:latin typeface="Arial"/>
              </a:rPr>
              <a:t>Between $30k and $50k; no impacts to ERCOT staffing; impacts to Energy Management System (EMS); no impacts to ERCOT business functions; no impacts to ERCOT grid operations and practic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Description:  </a:t>
            </a:r>
            <a:r>
              <a:rPr b="0" lang="en-US" sz="1800" spc="-1" strike="noStrike">
                <a:solidFill>
                  <a:srgbClr val="000000"/>
                </a:solidFill>
                <a:latin typeface="Arial"/>
              </a:rPr>
              <a:t>This SCR updates the formula used by the Resource Limit Calculator to calculate the Generation To Be Dispatched (GTBD) value.  The update will include the addition of Area Control Error (ACE) Integral times a configurable factor that captures the long-term Dispatch trend to help minimize GTBD oscillations from one Security-Constrained Economic Dispatch (SCED) interval to the next.  The analysis further shows that having an Integral ACE feedback would reduce the amount of manual Time Error corrections performed.</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S Decision:</a:t>
            </a:r>
            <a:r>
              <a:rPr b="0" lang="en-US" sz="1800" spc="-1" strike="noStrike">
                <a:solidFill>
                  <a:srgbClr val="000000"/>
                </a:solidFill>
                <a:latin typeface="Arial"/>
              </a:rPr>
              <a:t>  On 3/10/16, PRS voted to recommend approval of SCR788 as submitted.  There was one abstention from the Consumer Market Segment.  On 4/14/16, PRS unanimously voted to endorse and forward to TAC the 3/10/16 PRS Report and the Impact Analysis for SCR788 with a recommended priority of 2016 and a rank of 16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ERCOT</cp:lastModifiedBy>
  <cp:lastPrinted>2013-01-30T23:16:36Z</cp:lastPrinted>
  <dcterms:modified xsi:type="dcterms:W3CDTF">2016-04-18T15:32:32Z</dcterms:modified>
  <cp:revision>295</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