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00-CDB0-4A77-BA95-FB928950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A10-7EE7-414E-83BF-86613814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451C0-BF10-4698-9680-46EEFCA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854F6-D92E-41B6-A312-0C5D295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E8982-BD6E-4813-9432-B0B48F7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3EBE-ECCD-42C1-8EE7-38045DA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F4B3-E37C-4D34-BB92-B7A63B7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B5E32-7E98-45B3-82A2-1F74D49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E51B4-86F6-4253-9AA0-1B73ADAA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7694B-30D1-4832-AA9E-BF36D89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C084D-44E2-476C-90B2-9437ACBD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F62B4-B732-485B-826C-E45B5B8A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EAA-DC20-4B4B-AC91-1495FA1A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5CBF1-7012-453E-8A2E-D4ADC5C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52EF1-EB8A-4C6D-982F-D3943C9F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8077-4B10-4BAB-BB8D-A05E5D9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1D0DA-A0AE-4C7B-BB5A-A7419A5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278FD-182F-401C-8F6E-DCC646E3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7581E-801E-4FF4-9ABC-6D4FF23B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B9D5D-FAC5-4922-AB24-38FA1DF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D33EE-5053-4693-B436-D74975D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4F32-4307-4346-909F-52C8715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CEE7C-AC1A-4F49-B53A-51B3C29E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B34-BA91-4002-A093-FE825367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A33F9-E288-44FE-9540-B9ADD027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E2F5F-0C4C-456E-8417-6FDFF624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F664-F16B-4CBF-B498-C878D30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A36DB-016D-48B1-8870-32D9806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B02F-51A9-48F7-B6F0-4E9EDAD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6425F-DDF9-4C3E-9C91-E25025C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581FB-D70B-40F6-95C1-03E9851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118F2-02AF-40D7-9C68-2C61068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6B998-1E12-4C82-9EA8-C445550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A223-0439-4107-AFBD-31CE479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0FF-D0DA-404A-B6CD-625D898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1067E-39A2-47B5-8592-F58618E8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E951A-C8D1-47EF-B90D-C49796DF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F7E3-5C05-4664-B70C-9AF05B41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66642-4FCE-494D-B409-202D38FF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4B7E1-ECBE-4C7C-A24E-23E31004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BDB64-6B26-4B35-B6ED-5EEBA47B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4D0AD-DDF6-403B-ABAD-2AB4076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3107A-DCEE-4170-BEB5-2238A61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CBEBF-1D56-4EB7-817B-D5CA589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06D3F-F848-4830-8792-4953F49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EF2-82B5-4899-96C3-3642AF14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F2BE3-CC84-4D33-BB2B-8A66854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7FD4D-119C-4DFA-8C9C-7156600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9AC73-658E-4E92-8223-85DC0182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DEFF-76B3-4D64-94EA-C221E868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8E435-68EA-4756-BC31-A4160B8F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D84-569D-4310-AF1F-0D39C92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DEC-7DC9-4133-90FF-90A6317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239-8701-400F-9B95-5413BF6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9584-16E3-4F3F-B0B3-DFC572A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FB47-140A-43C2-84F2-A9BF683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FFB-A75A-4D49-9813-F331C135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0FD-D0F9-40AD-B551-B9D4A8D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73BD-A137-480B-8091-31B6E231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D107-14AE-4ED0-8873-E275FA9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577-F2B6-463E-9199-B248A19B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A8F-5226-415C-B097-EA121432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2BB3-9654-41FA-8BDF-D7039972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1684-ABC9-4B5D-9B39-DFCC7E8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D131-B386-4EE8-B8C8-E52DA1E8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3E29-1D1E-4DFB-98EE-DCB41FD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5165-ECA0-4230-B26C-54B7DAD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B86-2755-46E9-8899-79602ED1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765A-93B4-4663-A8C1-E0CA484A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EDB8-45D9-4601-A7EF-99D61A10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A694-DE69-42EB-8C57-6745FFE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76F4-4A30-4AD8-AB64-ED7E65B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CB3C-1275-4938-B3A8-89B79D48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DE8B-4D2E-4380-B8FF-7B297606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FF9B-46AC-47AE-820C-D3B048B4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0046-C92F-417A-9C66-9C126B3F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4FB1-3A40-4E27-877C-C3EDD08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7357-5C51-4B52-89D7-22190193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8CB-466E-4732-A452-AA479E01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9232-34BC-46E6-89F1-CB9C793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A289-42F8-4B27-93AE-8811355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EEA4-CEDE-4BD7-BFEC-3E9A273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0A27-1979-4258-B4FF-77F4ACC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6CD1-42D4-4F2D-BE2C-A48746F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2141-60F3-4277-9F84-8569829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18F5-E824-4EF9-AC4D-13449533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6269E-CAC9-4F70-938E-AED2D4D6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BB10-AA9E-40C7-9EDB-54A2D03D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7FCD-2376-409A-89F8-E996FF73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DC0-6116-49A5-81EB-3839548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6637-1B7A-447B-B293-A627785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79B5-5165-4D5A-9FA6-2EB2EBD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4A8A-32C0-433E-974D-A481F33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7A2C-A054-4351-898E-A41CF69D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F73A-D93A-4588-A15C-D711A350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F67A-C4C8-4DF2-9498-E1199C2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5FAB-DE07-4CD1-B743-12891F5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17CC-42D3-42BE-857F-2BD8CD2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5555-BC9B-4843-97FE-09AA372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2390-CFD7-4354-8470-B7E4409F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C5B-D383-4FC5-A179-3ACBFD9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9DE2-D84E-4267-A6FE-C4EEB983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717BA-BB30-4457-80F0-87447D3F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F326-384E-4BC7-AE42-CC292CF4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A417-F591-43A5-B7C6-580256B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36A3-651D-4F23-82FD-C504E48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B0B2-ED47-401E-A363-1DD95B3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0F2E3-478D-40B3-8BDB-EEBC191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803C-904F-461C-A651-7821D77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3D0F-FFCD-4243-B38F-F2DB48D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D4310-348E-4786-8F1E-ABF6B02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68A-EB11-44EC-B91E-DA45E5F9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44366-FA7F-44AC-9A78-F658705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80B6-CED6-4231-BD49-90F58565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DAED-2D11-4766-A504-E5B34619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3C95-4D04-4621-B66C-EF61641A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29B2-99FB-4CCF-80C9-665C98C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8D2A-F7B0-49FF-950D-D658930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1D77-909B-4AF5-A4A3-4118EE2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474B-50FF-4C38-B729-01F5F2A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FE26-E538-4DBA-90EA-02B3AF6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7CC5-429B-4828-AFF1-A10E47F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8A6-1617-4210-8E93-CC8DCD3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EB16-A93D-4564-80AF-DAA30C1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5E99-8516-4A47-92BA-CFD2248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3851-FA8F-4FD4-B0F5-A3232BF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77169-AE5E-4508-830B-7CB7C620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9FC3-A54B-4763-86AB-E0F4E395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70BA-DE81-420D-A0F9-D64E08EA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1011-F121-44DF-96F8-B21180B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7404C-041A-4AF1-AB44-BB0F2D6C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810D-FCD4-461F-AF57-B092D35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6188-F009-4DCE-936E-112B8612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430-5B7A-4009-A501-A53F3DAB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2816-AC99-45F6-A8D6-5AD510C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9469-DA3E-4A0A-9661-A463FF1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BA39-E61E-41BA-8DD9-A8F7C36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46BE8-32C6-43FD-ABDD-4C9BB25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92F76-CEC2-4887-806A-6C23371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4F86A-6261-4360-B2A9-6F76EA69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0AF1-57DD-43EE-BDB5-83D0952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C2181-4E19-4C5A-B23B-FD4A9F81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5D786-1DA4-43F2-AB64-DFFD1DF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F0335-78A1-4D47-9435-6294D4F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41E-89BB-49A8-9477-30FA30D3A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53E07C12-2865-4F0B-83DA-A5732C37F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C1D-D491-4F7C-AFBD-70F77F7B8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3B44-5164-4673-A0E1-79C13EC05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1EC-53C0-4634-8B96-5DF656BB2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B7A5-A35B-4B51-BE9F-2BD7C4930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BA4-9BD4-41E3-B28C-08C07F65A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F94-7FE3-48C1-B47E-2CD4492A3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2C0-C093-4D4E-A817-1FEE99CAF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451-9124-4183-9E80-71F13233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536C-5B0D-45D8-949B-7BFD38291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E4E-C7A6-4500-B093-D132512F0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1B6-9E70-46CF-9E1A-2335D076B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248-8D80-48A2-8A9F-EB6C8A748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CBBC-07D4-42A4-B8B1-5EA000FCC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49B-110B-4994-9363-4F2053A79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8F8-2E58-4ACA-89A2-E4301BC4D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B39-2595-475E-B01C-41C6649D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B30-3336-4568-86BE-35D6DDF6A8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30C-8AE4-49F2-A191-8B066CE5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6FF-1DE7-4421-B61A-700630DD9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8307-753E-460A-9482-3BAF2643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A91-6E11-4195-8C21-1BED4B322F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AAC-6586-4C8E-A46A-9ED3C668B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GDTF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ril 7,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3C92-7E9B-452E-83DB-EE979838A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January 21, 2015, NERC filed a Petition for Approval of TPL-007-1 with FER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February 26, 2015, Foundation for Resilient Societies, Inc. Initiated a Level 2 Appeal which NERC is Proces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May 14, 2015, FERC Issued NOPR Proposing to Approve NERC TPL-007-1 and Directing NERC as Follo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the Benchmark GMD Event Definition and Transformer Thermal Impact Study Requir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 Installation of Monitoring Equip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Specific Deadlines for the Development of Corrective Action Plans and the Completion of  Plan Activ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GMD Topics and Make Informational Filings to FER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242-568C-408C-8A79-476FDF03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on FERC NOPR Due Before July 27,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erous Comments Fil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ents Ranged from Adopt as Filed to Start Ov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 August 17, 2015, NERC Notified the Foundation for Resilient Societies, Inc. the Level 2 Appeal Panel Had Decided the Foundation Was Afforded Fair and Equitable Treatment During the Development of the Proposed Standar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ERC Extended Deadline for Comments Until September 10, 2015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ore Comments Were Fil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o Published Deadline For Completion of FERC Review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ERC Technical Conference on Proposed Standard on March 1, 201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F59B-B78D-495A-BF47-50DA015E7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ory Activit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C Has Not Announced Their Schedule For Decision on Proposed Stand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C24-414F-44E5-9194-30F0C048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ch 21, 2016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RC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Data Required to Create the GIC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Next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4D4-D363-4873-94C1-3D1C71244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Activities for PGD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odel for GMD Vulnerability Assessment (12/2016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ndard Requires Model be Completed 18 Months After Approval of Standa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mbers are Reviewing PGRRO46 and Providing Comme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inue Development of Procedure Man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PGRR for Documenting GMD Planning Activiti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F09-BCB8-4B44-BCA2-3D85642A0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ril 29, 2016 in Room 2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it Draft Procedure Man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524-C07E-4897-A03C-CAE88F2FF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2" descr="question-mark3a.jpg"/>
          <p:cNvPicPr/>
          <p:nvPr/>
        </p:nvPicPr>
        <p:blipFill>
          <a:blip r:embed="rId1"/>
          <a:stretch/>
        </p:blipFill>
        <p:spPr>
          <a:xfrm>
            <a:off x="3230640" y="2200320"/>
            <a:ext cx="2682720" cy="3328920"/>
          </a:xfrm>
          <a:prstGeom prst="rect">
            <a:avLst/>
          </a:prstGeom>
          <a:ln w="0">
            <a:noFill/>
          </a:ln>
        </p:spPr>
      </p:pic>
      <p:sp>
        <p:nvSpPr>
          <p:cNvPr id="5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E789-C1D2-45F6-A7C8-36C73A84E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ke Juricek – 4/7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Mike Juricek</cp:lastModifiedBy>
  <dcterms:modified xsi:type="dcterms:W3CDTF">2016-03-31T20:44:59Z</dcterms:modified>
  <cp:revision>134</cp:revision>
  <dc:subject/>
  <dc:title>PGDTF Update to ROS</dc:title>
</cp:coreProperties>
</file>