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7388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E39D-3E75-475B-B7D6-7829BD40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907-BAFE-4F16-83E4-C602F8A4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F639-F8E6-448C-89B8-AF2155FE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F71-58C5-43D7-A012-B9547A89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A33-E93A-44D2-91EC-B596C071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9DA-328A-49D3-9DAD-D566B8A5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B53-58C1-40C3-8939-00955F03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7435-BAAA-43F7-B8E6-DC3AAB87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B4B-1B23-47EE-AA71-2A727E6E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02E0-538E-421C-8693-9729CEF7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0D8-701E-4DF3-AACA-E99718DB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5D98-655C-4C36-9498-57A9A648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5972-15C3-41E1-8A41-5142FFAA3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rcot.com/content/wcm/key_documents_lists/66774/009VCMRR_01_Calculation_of_the_Minimum_Requirements_Fee_060315.doc" TargetMode="External"/><Relationship Id="rId2" Type="http://schemas.openxmlformats.org/officeDocument/2006/relationships/hyperlink" Target="http://www.ercot.com/content/wcm/key_documents_lists/66774/009VCMRR_02_IMM_Comments_063015.doc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960" y="152280"/>
            <a:ext cx="88390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Resource Cost Working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April 6, 20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WMS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l Index Price for Verifiable Cost Calc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1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llel path strategy for addressing verifiable cost issues for coal and lignite resourc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ediate, low-impact chan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the $1.50 /MMBtu for coal and lignite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e work on comprehensive NPR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al Index Price: “Delivered to ERCOT” index price based on PRB 8400 coal plus rail transpor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0/MMBtu fuel ad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ng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NOx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MS Open Action Items for RCW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26D0-04A7-4F07-A67A-8CB727B8E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80880" y="1371600"/>
          <a:ext cx="8458200" cy="3657600"/>
        </p:xfrm>
        <a:graphic>
          <a:graphicData uri="http://schemas.openxmlformats.org/drawingml/2006/table">
            <a:tbl>
              <a:tblPr/>
              <a:tblGrid>
                <a:gridCol w="3600720"/>
                <a:gridCol w="1123920"/>
                <a:gridCol w="37335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 case examples in order to assess the potential dollar impact of utilizing separate MOCs for power augmentation and quick start unit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est WMS approval to drop due to lack of market inter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removal of PPA applied in Verifiable Cost from Proto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p existing PPA language until NPRR664 is final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on process for Fuel Index Vend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-prog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ove from RCWG list. ERCOT planning to submit NPRR to PR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65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ive to NPRR664 Fuel Index Price for Resource Definition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RR714 extended make-whole process for exceptional fuel events to 6/1/17.  Looking for long-term solution where LMP’s would reflect exceptional fuel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el Cost Components in the Fuel Add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ppealing Verifiable Cost Reje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CWG reviewed the draft VCMRR and NPRR for Appealing Verifiable Cost Rejections per Section 12 of the VC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ing Entity can initiate an appeal of rejected verifiable cost by submitting a Service Request within 20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Meeting between Filing Entity and ERCOT representatives not part of the ERCOT’s Verifiable Cost function within 20 days. 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ppeal is rejected by ERCOT representatives, Filing Entity can pursue ADR process per Section 20 of the protoc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COT will post the VCMRR and submit NPRR to P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CWG consensus in support of th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86868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VCMRR009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alculation of Minimum Fuel Requirements F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04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uel Adder Backgroun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el adder is used in calculation of Offer Caps and Make-whole pay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ault is $0.50/MMBtu, but a Resource can elect to submit an “actual” fuel ad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urce must submit documentation of actual fuel costs to ERCOT for ver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seeking clarification on allocating the “minimum requirement fee” incurred under a fuel contract for the purpose of calculating an “actual” fuel ad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7083-11F1-492D-8C2D-821E3FA18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86868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VCMRR009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alculation of Minimum Fuel Requirements F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749600"/>
            <a:ext cx="815328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inimum Requirement Fe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sion in a fuel contract that requires a customer to purchase or transport a minimum annual volume of gas or pay a fee for any volume which falls below the minimum volum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C36E-5929-422A-837B-CC1468F9C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4114800"/>
          <a:ext cx="7772400" cy="2523960"/>
        </p:xfrm>
        <a:graphic>
          <a:graphicData uri="http://schemas.openxmlformats.org/drawingml/2006/table">
            <a:tbl>
              <a:tblPr/>
              <a:tblGrid>
                <a:gridCol w="4800600"/>
                <a:gridCol w="2971800"/>
              </a:tblGrid>
              <a:tr h="841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EXAMPL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 Requirement F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20 per MMB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 Requirement 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00,000 MMB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ual Volu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800,000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MMB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rtage 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,000 MMB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 Requirement Char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40,000 ann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0040" y="29880"/>
            <a:ext cx="86868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VCMRR009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alculation of Minimum Fuel Requirements F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88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5F92-9E4B-44DD-AB09-00B3FAD34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685800" y="2801880"/>
            <a:ext cx="7777080" cy="2662200"/>
            <a:chOff x="685800" y="2801880"/>
            <a:chExt cx="7777080" cy="2662200"/>
          </a:xfrm>
        </p:grpSpPr>
        <p:sp>
          <p:nvSpPr>
            <p:cNvPr id="54" name="Right Arrow 3"/>
            <p:cNvSpPr/>
            <p:nvPr/>
          </p:nvSpPr>
          <p:spPr>
            <a:xfrm>
              <a:off x="685800" y="3824280"/>
              <a:ext cx="5181480" cy="627120"/>
            </a:xfrm>
            <a:prstGeom prst="rightArrow">
              <a:avLst>
                <a:gd name="adj1" fmla="val 50000"/>
                <a:gd name="adj2" fmla="val 70192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Min Vol Requirement – 1,500,000, Actual - 800,000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Left-Right-Up Arrow 5"/>
            <p:cNvSpPr/>
            <p:nvPr/>
          </p:nvSpPr>
          <p:spPr>
            <a:xfrm rot="5400000">
              <a:off x="5309640" y="3259080"/>
              <a:ext cx="1528920" cy="1757160"/>
            </a:xfrm>
            <a:custGeom>
              <a:avLst/>
              <a:gdLst/>
              <a:ahLst/>
              <a:rect l="l" t="t" r="r" b="b"/>
              <a:pathLst>
                <a:path w="2145987" h="1757387">
                  <a:moveTo>
                    <a:pt x="0" y="1318040"/>
                  </a:moveTo>
                  <a:lnTo>
                    <a:pt x="439347" y="878694"/>
                  </a:lnTo>
                  <a:lnTo>
                    <a:pt x="439347" y="1098367"/>
                  </a:lnTo>
                  <a:lnTo>
                    <a:pt x="853320" y="1098367"/>
                  </a:lnTo>
                  <a:lnTo>
                    <a:pt x="853320" y="439347"/>
                  </a:lnTo>
                  <a:lnTo>
                    <a:pt x="633647" y="439347"/>
                  </a:lnTo>
                  <a:lnTo>
                    <a:pt x="1072994" y="0"/>
                  </a:lnTo>
                  <a:lnTo>
                    <a:pt x="1512340" y="439347"/>
                  </a:lnTo>
                  <a:lnTo>
                    <a:pt x="1292667" y="439347"/>
                  </a:lnTo>
                  <a:lnTo>
                    <a:pt x="1292667" y="1098367"/>
                  </a:lnTo>
                  <a:lnTo>
                    <a:pt x="1706640" y="1098367"/>
                  </a:lnTo>
                  <a:lnTo>
                    <a:pt x="1706640" y="878694"/>
                  </a:lnTo>
                  <a:lnTo>
                    <a:pt x="2145987" y="1318040"/>
                  </a:lnTo>
                  <a:lnTo>
                    <a:pt x="1706640" y="1757387"/>
                  </a:lnTo>
                  <a:lnTo>
                    <a:pt x="1706640" y="1537714"/>
                  </a:lnTo>
                  <a:lnTo>
                    <a:pt x="439347" y="1537714"/>
                  </a:lnTo>
                  <a:lnTo>
                    <a:pt x="439347" y="1757387"/>
                  </a:lnTo>
                  <a:lnTo>
                    <a:pt x="0" y="131804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Oval 7"/>
            <p:cNvSpPr/>
            <p:nvPr/>
          </p:nvSpPr>
          <p:spPr>
            <a:xfrm>
              <a:off x="6939000" y="3757320"/>
              <a:ext cx="1523880" cy="682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Resour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500,00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Oval 12"/>
            <p:cNvSpPr/>
            <p:nvPr/>
          </p:nvSpPr>
          <p:spPr>
            <a:xfrm>
              <a:off x="4876920" y="4903920"/>
              <a:ext cx="1523880" cy="5601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200,00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Oval 13"/>
            <p:cNvSpPr/>
            <p:nvPr/>
          </p:nvSpPr>
          <p:spPr>
            <a:xfrm>
              <a:off x="4876920" y="2801880"/>
              <a:ext cx="1523880" cy="57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Calibri"/>
                </a:rPr>
                <a:t>rd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Par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100,00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TextBox 2"/>
          <p:cNvSpPr/>
          <p:nvPr/>
        </p:nvSpPr>
        <p:spPr>
          <a:xfrm>
            <a:off x="684360" y="1789200"/>
            <a:ext cx="777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should the $140,000 minimum requirement charge be allocated when the fuel contract delivered gas to the Resource, Storage and a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649440" y="53499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 the Resource volumes on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 the Resource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ty volum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 the Resource,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ty and Storage volum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86868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VCMRR009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alculation of Minimum Fuel Requirements F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88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DC17-2ABD-472A-B17D-9C174E0F8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47680" y="2585880"/>
          <a:ext cx="8572320" cy="2909880"/>
        </p:xfrm>
        <a:graphic>
          <a:graphicData uri="http://schemas.openxmlformats.org/drawingml/2006/table">
            <a:tbl>
              <a:tblPr/>
              <a:tblGrid>
                <a:gridCol w="1276200"/>
                <a:gridCol w="2057400"/>
                <a:gridCol w="3581640"/>
                <a:gridCol w="1657080"/>
              </a:tblGrid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ocation O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lc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uel Adder Impact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urce Volumes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40k/(500,000 MMBt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28/MMB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urce and 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arty Volu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40k/(500,000+100,000 MMBtu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23/MMB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urce, 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arty and Storage Volu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40k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500,000+100,000+200,000 MMBtu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175/MMB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1"/>
          <p:cNvSpPr/>
          <p:nvPr/>
        </p:nvSpPr>
        <p:spPr>
          <a:xfrm>
            <a:off x="380880" y="5762520"/>
            <a:ext cx="857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lects the impact of the minimum requirement fee on the Fuel Adder. The total actual fuel adder includes other cost component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304920" y="201924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act of allocation options on the fuel adder calc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86868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VCMRR009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alculation of Minimum Fuel Requirements F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120" y="18284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VCMRR009 Histo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MS initially endorsed Option 1 (May 201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CWG drafted and submitted VCMRR009 reflecting Option 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M submitted comments for Option 3 (Resource, Storage and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arty Volum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uminant submitted comments for Option 1 (Resource Volumes on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MS vote to approve VCMRR009 failed and remanded back to RCWG (July 201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C335-08C1-4344-9374-2708112E0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8088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CWG has been discussing the following issu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isting VCM language allows inclusion of minimum requirement fees, but doesn’t address volume allo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the fuel adder include only “incremental” and “variable” costs, to be consistent with the other components of  verifiable cost and market power mitig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Resources be able to recover their costs for providing the fuel supply, transportation and related services required to make the Resource available to the marke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including the minimum requirement fee result in the market bear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is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/or cost for Resource fuel contrac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margin from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arty volumes be included in the fuel add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market participants have visibility to the range of approved actual fuel adder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E050-C493-4E57-9CD0-96736F38E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86868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VCMRR009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alculation of Minimum Fuel Requirements F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86868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VCMRR009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alculation of Minimum Fuel Requirements F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88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525E-8168-4AC1-B39A-F73FD157C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04920" y="2262240"/>
          <a:ext cx="8572320" cy="2584440"/>
        </p:xfrm>
        <a:graphic>
          <a:graphicData uri="http://schemas.openxmlformats.org/drawingml/2006/table">
            <a:tbl>
              <a:tblPr/>
              <a:tblGrid>
                <a:gridCol w="1276200"/>
                <a:gridCol w="2057400"/>
                <a:gridCol w="3581280"/>
                <a:gridCol w="1657440"/>
              </a:tblGrid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ocation O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lc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uel Adder Impa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urce Volumes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40k/(500,000 MMBt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28/MMB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urce, 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arty and Storage Volu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40k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500,000+100,000+200,000 MMBtu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175/MMB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Box 1"/>
          <p:cNvSpPr/>
          <p:nvPr/>
        </p:nvSpPr>
        <p:spPr>
          <a:xfrm>
            <a:off x="304920" y="1706400"/>
            <a:ext cx="857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CWG requests WMS guidance for Option 1 or Option 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04920" y="4789440"/>
            <a:ext cx="85723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tion 1 language reflected in existing VCMRR009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rcot.com/content/wcm/key_documents_lists/66774/009VCMRR_01_Calculation_of_the_Minimum_Requirements_Fee_060315.do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tion 3 language is in IMM comments to VCMRR009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rcot.com/content/wcm/key_documents_lists/66774/009VCMRR_02_IMM_Comments_063015.do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2:55:06Z</dcterms:created>
  <dc:creator>john</dc:creator>
  <dc:description/>
  <dc:language>en-US</dc:language>
  <cp:lastModifiedBy>Vinson, Paul T.</cp:lastModifiedBy>
  <cp:lastPrinted>2016-01-27T22:16:08Z</cp:lastPrinted>
  <dcterms:modified xsi:type="dcterms:W3CDTF">2016-04-01T14:49:39Z</dcterms:modified>
  <cp:revision>127</cp:revision>
  <dc:subject/>
  <dc:title>PowerPoint Presentation</dc:title>
</cp:coreProperties>
</file>