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105B-D0FA-4134-B6A0-DA3128743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52E1-9DFE-4CFB-A477-6F989F21B2C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CB16F28-73BE-4EB3-8C0C-B3676F64F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3B2D4D-98DD-4F4F-9948-9A74CC888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62AAE68-D894-4A52-9F42-1D517945F78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41D37B5-3664-4A2A-9420-8ADC7415F4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7116BA7-C430-4A42-8C59-DDED751D04C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B1076D5-BC7C-46C9-9716-1E55FD9EE8F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7BE6A6-15B5-4064-BBA0-0777EAF8BEB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689BAD-308C-48F6-956A-B1B91032C7A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0038A02-4A25-423E-88CA-C77769F7935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76E353F-AE59-4076-AFB5-E3377E3A49A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EAEB01A-5004-47C4-8719-72B5534D069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C445A30-51E3-42B1-9637-506CDE4AB6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8156BEB-2148-418A-979A-56C65C088A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73181-41B2-49DA-9C7F-E18C7D002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B7154-2796-4C10-89C4-2785BFA79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F4CCF-7DC6-48F8-BE12-FF8F42918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32024-DE1B-4739-8D8D-1D2F7A33B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39C5C-14C9-4C90-B396-BB1854142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06F8B-5D8C-4E0D-A5AE-E72D68ED3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8FBB8-3C46-4F14-8950-5DA146FB5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CF1C5C6-9FAE-4847-ABD2-07657CE0A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DD760-A96C-4CD6-B79B-05846A419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35744-494F-4DED-B3EA-93FE5B4E6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7805F-37D6-4664-AFB2-CA199F4C5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928FB-2B70-4FB3-B392-79C2BF180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2147E-2334-4AED-81FB-BD2897094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F7D4BFC-9E54-4CBA-BE15-92E40EB8D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DE22433-2DCC-4D5F-ADB1-1B5F987A72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4976A6-5A63-4842-BA3F-991758855D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C115E0-65B2-429A-85C1-8DDB0D90A5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1CEC829-9188-418F-A9E8-2C19DBEBC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3D3881-5B58-49D9-9111-B490B138DB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FB87B0-7722-4AC0-944C-431CA3EFA3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8BC5B8-3C2B-4C6A-86C6-208991496C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054BAB-E506-4EEB-AEE8-33B39FA95D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2E9E67-119C-45F8-B575-C4AA2BADB0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AD473A-F5CD-4ECC-808A-36B1DF35CB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C0AC2F-E2FA-457D-9E42-59C4568DF8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DE8BC65-BC87-4C4A-A902-401AB3006F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59D9AAF-BBED-4D8C-B999-45B443903C5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DD58E2B-DA6B-49DD-AFFF-E5F97ADF103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B107ECC-C252-4809-A5AA-F935702BB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A51AB38-791E-4608-9E94-89AE95E6DD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0F06C1-622C-4539-BA32-380E3F55880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1AF673D-81C6-45CC-95F0-327F631D24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DEA4CE-8CC3-4E27-8F29-C9D3BEC60E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0325D0A-3FC2-420C-A411-259EDB5B708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FA1048-6896-4356-92D0-71A85696FB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5FAA62A-18B0-4CED-92DB-8D51111E7E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53E846-18CA-438F-83E8-78D7E2C02E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7D7025B-415B-4C35-B6CB-B14FBE88F6D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6B72FEF-5001-4E2A-AF28-E08C01AABF3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DB25957-A107-44AF-AD17-4017D868B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33D14A7-87E6-4788-BC44-623A4B0B98E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63A70D6-E93B-4821-8F91-C82F47F6AFD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B820A55-1546-4F3C-9E51-38EFA0A57FD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1B1EBF9-DEC6-4A5B-8FFC-066F05D0C65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9F07C15-47A4-483B-BA21-C60AAE0C702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61C3B9-777B-45B0-B2E3-3F7A633675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DBCD915-2422-48D5-94AF-36F298A0933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8B3EA8-71EF-4030-BBED-9A475CDA93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6D4783E-1A78-46FD-9004-53485C1CAA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47491C-6AE5-413D-9BC6-1CF0D39D206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E70AAD-642F-4A21-AA8C-AA2B58051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AA21E8B-82E4-4879-BEBE-0F62685C00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14336F6-C625-47EC-9FB1-D79EA09E4E4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941CD2F-0018-4E01-AB66-167D76D6FD9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92CB230-59BB-4EC7-B28E-F735887D6E2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9A8C858-A215-41B4-8AD1-D4177789310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59BF7C-784D-45B1-89CD-9BD345972B4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85F302B-5AB9-4318-963A-71C7E22B7E5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001037-7858-44C1-AE4C-4CDA7884865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1EF3A0-0AC2-43B1-ACB1-03B85CD496E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1EC05A-633A-44E6-9146-08EE2E99795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C6491A-F80E-4814-8E45-CD07A7CAF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8C89F85-F483-4182-A1E3-59D6D34119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9DD9CE5-AC38-489D-B86C-EB9CE3C9AA2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9B4C2CD-F579-4998-9614-09017DFCB16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4ACF4F5-6C52-4435-A6D7-F74AD98C55A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236AC5F-5881-476C-9DBD-6586DC2E34F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FD3EB4B-E900-4ECD-A92F-999C21C9F6B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2D218F9-707E-4D56-A5F2-4EE0848E839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30E9178-F96B-4456-81F9-A31EC9C3AD5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791CC80-DB9F-46F4-AC95-15318F8D4BC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C602664-698F-4824-AC9B-98C4E9A5BE1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16AD07-9658-4317-8008-3408A3B56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586B6B7-EEA2-443E-8BB2-10A3B869632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8DF72F-470C-4C78-9435-8D4510991B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0252DB-3ECF-4E46-939D-D7B6B97475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1779008-5E65-4ABA-81D2-C89797C030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C46FB43-D050-4AF0-B32B-18A7C007E1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49F6EAB-B8B1-4F05-B065-B5790D758B5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EF3B67E-5070-4870-BB46-6356B715D5C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90C3FC5-6740-474D-AC82-3E21E2986F1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246436-1F9F-411E-8039-BE196E9B564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B2678DB-3CDD-4557-846D-6CFF3A0F19F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49FC-9A11-4C7D-966A-54CC5F2C6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dvisory Committee</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D832-89F9-49C4-892F-9AD2B6CDA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AF29-DC58-4D4A-A992-F4ED86A395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Advisory Committe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D2F7-25E1-4032-8EF8-659784D8F7B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2FB4-B93F-4F33-96D3-38A3E2BA92A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F749-9282-4FED-A607-0A862A58F67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A9CC-E2CE-41C9-9A5A-FB90BFB70D9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45A1-9F9F-445C-B9B4-EECAABB1A8D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January 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Technical Advisory Committee</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0869-DC4A-436D-A5EE-5CEFC2A94EE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ercot.com/content/wcm/key_documents_lists/76825/03._NPRR649.zip" TargetMode="External"/><Relationship Id="rId2" Type="http://schemas.openxmlformats.org/officeDocument/2006/relationships/hyperlink" Target="http://www.ercot.com/content/wcm/key_documents_lists/76825/03._NPRR649.zip"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rcot.com/content/wcm/key_documents_lists/76825/04._PRS_Report.zip"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rcot.com/content/wcm/key_documents_lists/76825/05._ROS_Report.zip"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rcot.com/content/wcm/key_documents_lists/76825/07._RMS_Update_to_TAC_03_31_16.ppt" TargetMode="External"/><Relationship Id="rId2" Type="http://schemas.openxmlformats.org/officeDocument/2006/relationships/hyperlink" Target="http://www.ercot.com/content/wcm/key_documents_lists/76825/07._RMS_Update_to_TAC_03_31_16.ppt" TargetMode="External"/><Relationship Id="rId3" Type="http://schemas.openxmlformats.org/officeDocument/2006/relationships/hyperlink" Target="http://www.ercot.com/content/wcm/key_documents_lists/76825/07._2016_Draft_of_RMS_Goals_RMS_Approved_on_03_01_16.docx" TargetMode="External"/><Relationship Id="rId4" Type="http://schemas.openxmlformats.org/officeDocument/2006/relationships/hyperlink" Target="http://www.ercot.com/content/wcm/key_documents_lists/76825/07._2016_Draft_of_RMS_Goals_RMS_Approved_on_03_01_16.docx" TargetMode="External"/><Relationship Id="rId5" Type="http://schemas.openxmlformats.org/officeDocument/2006/relationships/hyperlink" Target="http://www.ercot.com/content/wcm/key_documents_lists/76825/07._2016_Draft_of_RMS_Goals_RMS_Approved_on_03_01_16.docx" TargetMode="Externa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March 31, 2016 </a:t>
            </a:r>
            <a:br>
              <a:rPr sz="2900"/>
            </a:br>
            <a:r>
              <a:rPr b="1" lang="en-US" sz="2900" spc="-1" strike="noStrike">
                <a:solidFill>
                  <a:srgbClr val="572314"/>
                </a:solidFill>
                <a:latin typeface="Gill Sans MT"/>
              </a:rPr>
              <a:t>Technical Advisory Committee (TAC) Update to RMS and COP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0004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400800"/>
            <a:ext cx="2210040" cy="3808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ril 5, 2016</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1FB1-E50B-46E7-AB18-852BC58EC0B1}"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C5C3-FAFF-42AA-8E51-5B060A723D03}"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7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endParaRPr b="0" lang="en-US" sz="1200" spc="-1" strike="noStrike">
              <a:solidFill>
                <a:srgbClr val="000000"/>
              </a:solidFill>
              <a:latin typeface="Arial"/>
            </a:endParaRPr>
          </a:p>
        </p:txBody>
      </p:sp>
      <p:pic>
        <p:nvPicPr>
          <p:cNvPr id="473" name="Content Placeholder 4" descr=""/>
          <p:cNvPicPr/>
          <p:nvPr/>
        </p:nvPicPr>
        <p:blipFill>
          <a:blip r:embed="rId1"/>
          <a:stretch/>
        </p:blipFill>
        <p:spPr>
          <a:xfrm>
            <a:off x="1676520" y="838080"/>
            <a:ext cx="6705360" cy="5094360"/>
          </a:xfrm>
          <a:prstGeom prst="rect">
            <a:avLst/>
          </a:prstGeom>
          <a:ln w="0">
            <a:noFill/>
          </a:ln>
        </p:spPr>
      </p:pic>
      <p:sp>
        <p:nvSpPr>
          <p:cNvPr id="474" name="Rectangle 15"/>
          <p:cNvSpPr/>
          <p:nvPr/>
        </p:nvSpPr>
        <p:spPr>
          <a:xfrm>
            <a:off x="5867280" y="6305400"/>
            <a:ext cx="289584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3. NPRR649, Issues Surrounding HDL </a:t>
            </a:r>
            <a:endParaRPr b="0" lang="en-US" sz="3200" spc="-1" strike="noStrike">
              <a:solidFill>
                <a:srgbClr val="572314"/>
              </a:solidFill>
              <a:latin typeface="Gill Sans MT"/>
            </a:endParaRPr>
          </a:p>
        </p:txBody>
      </p:sp>
      <p:sp>
        <p:nvSpPr>
          <p:cNvPr id="424" name=""/>
          <p:cNvSpPr txBox="1"/>
          <p:nvPr/>
        </p:nvSpPr>
        <p:spPr>
          <a:xfrm>
            <a:off x="990720" y="685800"/>
            <a:ext cx="8153280" cy="55627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a:t>
            </a:r>
            <a:r>
              <a:rPr b="0" lang="en-US" sz="1600" spc="-1" strike="noStrike" u="sng">
                <a:solidFill>
                  <a:srgbClr val="8dc765"/>
                </a:solidFill>
                <a:uFillTx/>
                <a:latin typeface="Gill Sans MT"/>
                <a:hlinkClick r:id="rId1"/>
              </a:rPr>
              <a:t>://www.ercot.com/content/wcm/key_documents_lists/76825/03._</a:t>
            </a:r>
            <a:r>
              <a:rPr b="0" lang="en-US" sz="1600" spc="-1" strike="noStrike" u="sng">
                <a:solidFill>
                  <a:srgbClr val="8dc765"/>
                </a:solidFill>
                <a:uFillTx/>
                <a:latin typeface="Gill Sans MT"/>
                <a:hlinkClick r:id="rId2"/>
              </a:rPr>
              <a:t>NPRR649.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649</a:t>
            </a:r>
            <a:r>
              <a:rPr b="0" lang="en-US" sz="2400" spc="-1" strike="noStrike">
                <a:solidFill>
                  <a:srgbClr val="000000"/>
                </a:solidFill>
                <a:latin typeface="Gill Sans MT"/>
              </a:rPr>
              <a:t>, Addressing Issues Surrounding High Dispatch Limit (HDL) Overrides (Vote)</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PRR649 Discussion and Preliminary Cost Estimates </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Option 1</a:t>
            </a:r>
            <a:r>
              <a:rPr b="0" lang="en-US" sz="1800" spc="-1" strike="noStrike">
                <a:solidFill>
                  <a:srgbClr val="000000"/>
                </a:solidFill>
                <a:latin typeface="Gill Sans MT"/>
              </a:rPr>
              <a:t>: Payment for Justified Losses</a:t>
            </a:r>
            <a:endParaRPr b="0" lang="en-US" sz="18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00-$150k</a:t>
            </a:r>
            <a:endParaRPr b="0" lang="en-US" sz="16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Option 2</a:t>
            </a:r>
            <a:r>
              <a:rPr b="0" lang="en-US" sz="1800" spc="-1" strike="noStrike">
                <a:solidFill>
                  <a:srgbClr val="000000"/>
                </a:solidFill>
                <a:latin typeface="Gill Sans MT"/>
              </a:rPr>
              <a:t>: Override RN LMP</a:t>
            </a:r>
            <a:endParaRPr b="0" lang="en-US" sz="18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0-$100k</a:t>
            </a:r>
            <a:endParaRPr b="0" lang="en-US" sz="16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Option 3</a:t>
            </a:r>
            <a:r>
              <a:rPr b="0" lang="en-US" sz="1800" spc="-1" strike="noStrike">
                <a:solidFill>
                  <a:srgbClr val="000000"/>
                </a:solidFill>
                <a:latin typeface="Gill Sans MT"/>
              </a:rPr>
              <a:t>: Enter Constraints above RN</a:t>
            </a:r>
            <a:endParaRPr b="0" lang="en-US" sz="18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0-$300k + ongoing 150 hours per year impacts</a:t>
            </a:r>
            <a:endParaRPr b="0" lang="en-US" sz="16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otion:  To Approve NPRR649 with Option 1 – </a:t>
            </a:r>
            <a:endParaRPr b="0" lang="en-US" sz="20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te:  ERCOT stated they will provide a revised/updated Impact Analysis (IA) to the Board for their April 19, 2016 Meeting </a:t>
            </a:r>
            <a:endParaRPr b="0" lang="en-US" sz="20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oll Call Vote Taken:   23(Yes)- 5(No)- 2(Abstain)                    </a:t>
            </a:r>
            <a:endParaRPr b="0" lang="en-US" sz="2000" spc="-1" strike="noStrike">
              <a:solidFill>
                <a:srgbClr val="000000"/>
              </a:solidFill>
              <a:latin typeface="Gill Sans MT"/>
            </a:endParaRPr>
          </a:p>
          <a:p>
            <a:pPr lvl="3" marL="1041840" indent="-164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Approved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6D3A-5B82-411B-A51A-1BD15F4CB8CF}"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28" name="Rectangle 15"/>
          <p:cNvSpPr/>
          <p:nvPr/>
        </p:nvSpPr>
        <p:spPr>
          <a:xfrm>
            <a:off x="5715000" y="632448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14300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4. PRS Initiatives and Votes</a:t>
            </a:r>
            <a:endParaRPr b="0" lang="en-US" sz="4300" spc="-1" strike="noStrike">
              <a:solidFill>
                <a:srgbClr val="572314"/>
              </a:solidFill>
              <a:latin typeface="Gill Sans MT"/>
            </a:endParaRPr>
          </a:p>
        </p:txBody>
      </p:sp>
      <p:sp>
        <p:nvSpPr>
          <p:cNvPr id="430" name=""/>
          <p:cNvSpPr txBox="1"/>
          <p:nvPr/>
        </p:nvSpPr>
        <p:spPr>
          <a:xfrm>
            <a:off x="914400" y="609480"/>
            <a:ext cx="8229600" cy="556272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dal Protocol Revision Requests (NPRRs)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76825/04._PR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1</a:t>
            </a:r>
            <a:r>
              <a:rPr b="0" lang="en-US" sz="2000" spc="-1" strike="noStrike">
                <a:solidFill>
                  <a:srgbClr val="000000"/>
                </a:solidFill>
                <a:latin typeface="Gill Sans MT"/>
              </a:rPr>
              <a:t>, Clarifications to TPE and EAL Credit Exposure Calculations (Vote)  - </a:t>
            </a:r>
            <a:r>
              <a:rPr b="1" lang="en-US" sz="2000" spc="-1" strike="noStrike">
                <a:solidFill>
                  <a:srgbClr val="c00000"/>
                </a:solidFill>
                <a:latin typeface="Gill Sans MT"/>
              </a:rPr>
              <a:t>Approved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4</a:t>
            </a:r>
            <a:r>
              <a:rPr b="0" lang="en-US" sz="2000" spc="-1" strike="noStrike">
                <a:solidFill>
                  <a:srgbClr val="000000"/>
                </a:solidFill>
                <a:latin typeface="Gill Sans MT"/>
              </a:rPr>
              <a:t>, RUC Trigger for the Reliability Deployment Price Adder and Alignment with RUC Settlement (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5</a:t>
            </a:r>
            <a:r>
              <a:rPr b="0" lang="en-US" sz="2000" spc="-1" strike="noStrike">
                <a:solidFill>
                  <a:srgbClr val="000000"/>
                </a:solidFill>
                <a:latin typeface="Gill Sans MT"/>
              </a:rPr>
              <a:t>, Change ERS Availability from an Hourly to 15-minute Interval Evaluation plus Other Minor Changes (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6</a:t>
            </a:r>
            <a:r>
              <a:rPr b="0" lang="en-US" sz="2000" spc="-1" strike="noStrike">
                <a:solidFill>
                  <a:srgbClr val="000000"/>
                </a:solidFill>
                <a:latin typeface="Gill Sans MT"/>
              </a:rPr>
              <a:t>, Adjustments Due to Negative Load (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48</a:t>
            </a:r>
            <a:r>
              <a:rPr b="0" lang="en-US" sz="2000" spc="-1" strike="noStrike">
                <a:solidFill>
                  <a:srgbClr val="000000"/>
                </a:solidFill>
                <a:latin typeface="Gill Sans MT"/>
              </a:rPr>
              <a:t>, Revisions associated with COM-002-4 and Other Clarifications Associated with Dispatch Instruction (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nnual Review of Other Binding Document List </a:t>
            </a:r>
            <a:r>
              <a:rPr b="0" lang="en-US" sz="2000" spc="-1" strike="noStrike">
                <a:solidFill>
                  <a:srgbClr val="000000"/>
                </a:solidFill>
                <a:latin typeface="Gill Sans MT"/>
              </a:rPr>
              <a:t>(Vote) - </a:t>
            </a:r>
            <a:r>
              <a:rPr b="1" lang="en-US" sz="2000" spc="-1" strike="noStrike">
                <a:solidFill>
                  <a:srgbClr val="c00000"/>
                </a:solidFill>
                <a:latin typeface="Gill Sans MT"/>
              </a:rPr>
              <a:t>Approv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6AB8-73F1-4517-85BC-B8A028080DC1}"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33"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914400" y="685800"/>
            <a:ext cx="8153280" cy="55627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liability Operations Subcommittee (ROS)</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76825/05._ROS_Report.zip</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GRR151</a:t>
            </a:r>
            <a:r>
              <a:rPr b="0" lang="en-US" sz="2000" spc="-1" strike="noStrike">
                <a:solidFill>
                  <a:srgbClr val="000000"/>
                </a:solidFill>
                <a:latin typeface="Gill Sans MT"/>
              </a:rPr>
              <a:t>, Alignment with NPRR748, Revisions associated with COM-002-4 and Other Clarifications Associated with Dispatch Instructions (Vote) -  </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Motion to “TABLE” Pending the Board’s Approval of associated NPRR748 during their April 19</a:t>
            </a:r>
            <a:r>
              <a:rPr b="1" lang="en-US" sz="1800" spc="-1" strike="noStrike" baseline="30000">
                <a:solidFill>
                  <a:srgbClr val="c00000"/>
                </a:solidFill>
                <a:latin typeface="Gill Sans MT"/>
              </a:rPr>
              <a:t>th</a:t>
            </a:r>
            <a:r>
              <a:rPr b="1" lang="en-US" sz="1800" spc="-1" strike="noStrike">
                <a:solidFill>
                  <a:srgbClr val="c00000"/>
                </a:solidFill>
                <a:latin typeface="Gill Sans MT"/>
              </a:rPr>
              <a:t> meeting. </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Motion to “TABLE” was Approved </a:t>
            </a: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ppeal of NOGRR149</a:t>
            </a:r>
            <a:r>
              <a:rPr b="0" lang="en-US" sz="2000" spc="-1" strike="noStrike">
                <a:solidFill>
                  <a:srgbClr val="000000"/>
                </a:solidFill>
                <a:latin typeface="Gill Sans MT"/>
              </a:rPr>
              <a:t>, Revision to Definition of Transmission Operator (Vote)</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Motion to “TABLE” at TAC for a month was Approved   </a:t>
            </a: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commendation re NRG Application for Permanent Site-Specific Exemption from Compliance with ERCOT Nodal Metering Protocols, Section 10.3.2.3 (6) </a:t>
            </a:r>
            <a:r>
              <a:rPr b="0" lang="en-US" sz="2000" spc="-1" strike="noStrike">
                <a:solidFill>
                  <a:srgbClr val="000000"/>
                </a:solidFill>
                <a:latin typeface="Gill Sans MT"/>
              </a:rPr>
              <a:t>(Vote)</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TAC Unanimously Approved </a:t>
            </a:r>
            <a:endParaRPr b="0" lang="en-US" sz="1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B5D9-1F46-40AB-8EF2-4D3EA6DD5976}"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38"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5. ROS Initiatives and Votes: </a:t>
            </a:r>
            <a:endParaRPr b="0" lang="en-US" sz="4300" spc="-1" strike="noStrike">
              <a:solidFill>
                <a:srgbClr val="000000"/>
              </a:solidFill>
              <a:latin typeface="Arial"/>
            </a:endParaRPr>
          </a:p>
        </p:txBody>
      </p:sp>
      <p:sp>
        <p:nvSpPr>
          <p:cNvPr id="439" name="Rectangle 15"/>
          <p:cNvSpPr/>
          <p:nvPr/>
        </p:nvSpPr>
        <p:spPr>
          <a:xfrm>
            <a:off x="5867280" y="6305400"/>
            <a:ext cx="289584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Content Placeholder 2" descr=""/>
          <p:cNvPicPr/>
          <p:nvPr/>
        </p:nvPicPr>
        <p:blipFill>
          <a:blip r:embed="rId1"/>
          <a:stretch/>
        </p:blipFill>
        <p:spPr>
          <a:xfrm>
            <a:off x="914400" y="628560"/>
            <a:ext cx="8156520" cy="5619960"/>
          </a:xfrm>
          <a:prstGeom prst="rect">
            <a:avLst/>
          </a:prstGeom>
          <a:ln w="0">
            <a:noFill/>
          </a:ln>
        </p:spPr>
      </p:pic>
      <p:sp>
        <p:nvSpPr>
          <p:cNvPr id="44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  2016</a:t>
            </a:r>
            <a:endParaRPr b="0" lang="en-US" sz="1200" spc="-1" strike="noStrike">
              <a:solidFill>
                <a:srgbClr val="000000"/>
              </a:solidFill>
              <a:latin typeface="Arial"/>
            </a:endParaRPr>
          </a:p>
        </p:txBody>
      </p:sp>
      <p:sp>
        <p:nvSpPr>
          <p:cNvPr id="44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endParaRPr b="0" lang="en-US" sz="1200" spc="-1" strike="noStrike">
              <a:solidFill>
                <a:srgbClr val="000000"/>
              </a:solidFill>
              <a:latin typeface="Arial"/>
            </a:endParaRPr>
          </a:p>
        </p:txBody>
      </p:sp>
      <p:sp>
        <p:nvSpPr>
          <p:cNvPr id="44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9D93-812E-4BAD-BA59-F4AD7C966D7B}"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44" name="Title 1"/>
          <p:cNvSpPr/>
          <p:nvPr/>
        </p:nvSpPr>
        <p:spPr>
          <a:xfrm>
            <a:off x="990720" y="-22860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6. WMS Initiatives and Votes: </a:t>
            </a:r>
            <a:endParaRPr b="0" lang="en-US" sz="4300" spc="-1" strike="noStrike">
              <a:solidFill>
                <a:srgbClr val="000000"/>
              </a:solidFill>
              <a:latin typeface="Arial"/>
            </a:endParaRPr>
          </a:p>
        </p:txBody>
      </p:sp>
      <p:sp>
        <p:nvSpPr>
          <p:cNvPr id="445" name="Rectangle 15"/>
          <p:cNvSpPr/>
          <p:nvPr/>
        </p:nvSpPr>
        <p:spPr>
          <a:xfrm>
            <a:off x="5867280" y="6305400"/>
            <a:ext cx="289584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914400" y="685800"/>
            <a:ext cx="8229600" cy="556272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Subcommittee (RMS) Update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76825/07._</a:t>
            </a:r>
            <a:r>
              <a:rPr b="0" lang="en-US" sz="2000" spc="-1" strike="noStrike" u="sng">
                <a:solidFill>
                  <a:srgbClr val="8dc765"/>
                </a:solidFill>
                <a:uFillTx/>
                <a:latin typeface="Gill Sans MT"/>
                <a:hlinkClick r:id="rId2"/>
              </a:rPr>
              <a:t>RMS_Update_to_TAC_03_31_16.pp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3" marL="1031040" indent="-1627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6 RMS Goals </a:t>
            </a:r>
            <a:r>
              <a:rPr b="0" lang="en-US" sz="2800" spc="-1" strike="noStrike">
                <a:solidFill>
                  <a:srgbClr val="000000"/>
                </a:solidFill>
                <a:latin typeface="Gill Sans MT"/>
              </a:rPr>
              <a:t>(Vote)</a:t>
            </a:r>
            <a:endParaRPr b="0" lang="en-US" sz="2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3"/>
              </a:rPr>
              <a:t>http</a:t>
            </a:r>
            <a:r>
              <a:rPr b="0" lang="en-US" sz="1800" spc="-1" strike="noStrike" u="sng">
                <a:solidFill>
                  <a:srgbClr val="8dc765"/>
                </a:solidFill>
                <a:uFillTx/>
                <a:latin typeface="Gill Sans MT"/>
                <a:hlinkClick r:id="rId4"/>
              </a:rPr>
              <a:t>://www.ercot.com/content/wcm/key_documents_lists/76825/07._</a:t>
            </a:r>
            <a:r>
              <a:rPr b="0" lang="en-US" sz="1800" spc="-1" strike="noStrike" u="sng">
                <a:solidFill>
                  <a:srgbClr val="8dc765"/>
                </a:solidFill>
                <a:uFillTx/>
                <a:latin typeface="Gill Sans MT"/>
                <a:hlinkClick r:id="rId5"/>
              </a:rPr>
              <a:t>2016_Draft_of_RMS_Goals_RMS_Approved_on_03_01_16.doc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S 2016 Goals were Unanimously Approved </a:t>
            </a:r>
            <a:endParaRPr b="0" lang="en-US" sz="2400" spc="-1" strike="noStrike">
              <a:solidFill>
                <a:srgbClr val="000000"/>
              </a:solidFill>
              <a:latin typeface="Gill Sans MT"/>
            </a:endParaRPr>
          </a:p>
          <a:p>
            <a:pPr lvl="2" marL="83268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4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endParaRPr b="0" lang="en-US" sz="1200" spc="-1" strike="noStrike">
              <a:solidFill>
                <a:srgbClr val="000000"/>
              </a:solidFill>
              <a:latin typeface="Arial"/>
            </a:endParaRPr>
          </a:p>
        </p:txBody>
      </p:sp>
      <p:sp>
        <p:nvSpPr>
          <p:cNvPr id="44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FFAE-DEC4-4096-ADBD-DD89A78DCE06}"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50" name="Title 1"/>
          <p:cNvSpPr/>
          <p:nvPr/>
        </p:nvSpPr>
        <p:spPr>
          <a:xfrm>
            <a:off x="1143000" y="-25704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Arial"/>
              </a:rPr>
              <a:t>7. RMS Initiatives and Votes  </a:t>
            </a:r>
            <a:endParaRPr b="0" lang="en-US" sz="4300" spc="-1" strike="noStrike">
              <a:solidFill>
                <a:srgbClr val="000000"/>
              </a:solidFill>
              <a:latin typeface="Arial"/>
            </a:endParaRPr>
          </a:p>
        </p:txBody>
      </p:sp>
      <p:sp>
        <p:nvSpPr>
          <p:cNvPr id="451" name="Rectangle 15"/>
          <p:cNvSpPr/>
          <p:nvPr/>
        </p:nvSpPr>
        <p:spPr>
          <a:xfrm>
            <a:off x="579132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8.  </a:t>
            </a:r>
            <a:r>
              <a:rPr b="1" lang="en-US" sz="2900" spc="-1" strike="noStrike">
                <a:solidFill>
                  <a:srgbClr val="572314"/>
                </a:solidFill>
                <a:latin typeface="Gill Sans MT"/>
              </a:rPr>
              <a:t>ERCOT Operations, Planning &amp; IT Report</a:t>
            </a:r>
            <a:br>
              <a:rPr sz="2900"/>
            </a:br>
            <a:endParaRPr b="0" lang="en-US" sz="2900" spc="-1" strike="noStrike">
              <a:solidFill>
                <a:srgbClr val="572314"/>
              </a:solidFill>
              <a:latin typeface="Gill Sans MT"/>
            </a:endParaRPr>
          </a:p>
        </p:txBody>
      </p:sp>
      <p:pic>
        <p:nvPicPr>
          <p:cNvPr id="453" name="Content Placeholder 2" descr=""/>
          <p:cNvPicPr/>
          <p:nvPr/>
        </p:nvPicPr>
        <p:blipFill>
          <a:blip r:embed="rId1"/>
          <a:stretch/>
        </p:blipFill>
        <p:spPr>
          <a:xfrm>
            <a:off x="1066680" y="701640"/>
            <a:ext cx="8107560" cy="5638680"/>
          </a:xfrm>
          <a:prstGeom prst="rect">
            <a:avLst/>
          </a:prstGeom>
          <a:ln w="0">
            <a:noFill/>
          </a:ln>
        </p:spPr>
      </p:pic>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9130-68F8-4F72-AD45-28F44C3E33BF}"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56" name="Rectangle 15"/>
          <p:cNvSpPr/>
          <p:nvPr/>
        </p:nvSpPr>
        <p:spPr>
          <a:xfrm>
            <a:off x="5867280" y="6305400"/>
            <a:ext cx="289584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9.  </a:t>
            </a:r>
            <a:r>
              <a:rPr b="1" lang="en-US" sz="3600" spc="-1" strike="noStrike">
                <a:solidFill>
                  <a:srgbClr val="572314"/>
                </a:solidFill>
                <a:latin typeface="Gill Sans MT"/>
              </a:rPr>
              <a:t>Other Business </a:t>
            </a:r>
            <a:br>
              <a:rPr sz="3600"/>
            </a:br>
            <a:endParaRPr b="0" lang="en-US" sz="3600" spc="-1" strike="noStrike">
              <a:solidFill>
                <a:srgbClr val="572314"/>
              </a:solidFill>
              <a:latin typeface="Gill Sans MT"/>
            </a:endParaRPr>
          </a:p>
        </p:txBody>
      </p:sp>
      <p:sp>
        <p:nvSpPr>
          <p:cNvPr id="458" name=""/>
          <p:cNvSpPr txBox="1"/>
          <p:nvPr/>
        </p:nvSpPr>
        <p:spPr>
          <a:xfrm>
            <a:off x="990720" y="762120"/>
            <a:ext cx="8076960" cy="541008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ontent/wcm/key_documents_lists/76825/09._Other_Businessv.2.zip</a:t>
            </a:r>
            <a:endParaRPr b="0" lang="en-US" sz="16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ebt Strategy Discussion Update</a:t>
            </a:r>
            <a:endParaRPr b="0" lang="en-US" sz="24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visions to Antitrust Admonition and Antitrust Guidelines– </a:t>
            </a:r>
            <a:r>
              <a:rPr b="1" lang="en-US" sz="2400" spc="-1" strike="noStrike">
                <a:solidFill>
                  <a:srgbClr val="c00000"/>
                </a:solidFill>
                <a:latin typeface="Gill Sans MT"/>
              </a:rPr>
              <a:t>“Draft Redlined</a:t>
            </a:r>
            <a:r>
              <a:rPr b="0" lang="en-US" sz="2400" spc="-1" strike="noStrike">
                <a:solidFill>
                  <a:srgbClr val="c00000"/>
                </a:solidFill>
                <a:latin typeface="Gill Sans MT"/>
              </a:rPr>
              <a:t>” </a:t>
            </a:r>
            <a:endParaRPr b="0" lang="en-US" sz="2400" spc="-1" strike="noStrike">
              <a:solidFill>
                <a:srgbClr val="000000"/>
              </a:solidFill>
              <a:latin typeface="Gill Sans MT"/>
            </a:endParaRPr>
          </a:p>
          <a:p>
            <a:pPr marL="357480" indent="-27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ntitrust Admonition</a:t>
            </a:r>
            <a:endParaRPr b="0" lang="en-US" sz="1800" spc="-1" strike="noStrike">
              <a:solidFill>
                <a:srgbClr val="000000"/>
              </a:solidFill>
              <a:latin typeface="Gill Sans MT"/>
            </a:endParaRPr>
          </a:p>
          <a:p>
            <a:pPr marL="357480" indent="-27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1200" spc="-1" strike="noStrike">
                <a:solidFill>
                  <a:srgbClr val="000000"/>
                </a:solidFill>
                <a:latin typeface="Gill Sans MT"/>
              </a:rPr>
              <a:t>To avoid raising concerns about antitrust liability, participants in ERCOT activities should refrain from proposing any action or measure that would exceed ERCOT’s authority under federal or state law.  For additional information, stakeholders should consult the </a:t>
            </a:r>
            <a:r>
              <a:rPr b="0" i="1" lang="en-US" sz="1200" spc="-1" strike="noStrike">
                <a:solidFill>
                  <a:srgbClr val="000000"/>
                </a:solidFill>
                <a:latin typeface="Gill Sans MT"/>
              </a:rPr>
              <a:t>Statement of Position on Antitrust Issues for Members of ERCOT Committees, Subcommittees, and Working Groups</a:t>
            </a:r>
            <a:r>
              <a:rPr b="0" lang="en-US" sz="1200" spc="-1" strike="noStrike">
                <a:solidFill>
                  <a:srgbClr val="000000"/>
                </a:solidFill>
                <a:latin typeface="Gill Sans MT"/>
              </a:rPr>
              <a:t>, available at http://www.ercot.com/about/governance/index.html.</a:t>
            </a:r>
            <a:endParaRPr b="0" lang="en-US" sz="1200" spc="-1" strike="noStrike">
              <a:solidFill>
                <a:srgbClr val="000000"/>
              </a:solidFill>
              <a:latin typeface="Gill Sans MT"/>
            </a:endParaRPr>
          </a:p>
          <a:p>
            <a:pPr marL="357480" indent="-27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r>
              <a:rPr b="1" lang="en-US" sz="1800" spc="-1" strike="noStrike">
                <a:solidFill>
                  <a:srgbClr val="000000"/>
                </a:solidFill>
                <a:latin typeface="Gill Sans MT"/>
              </a:rPr>
              <a:t>Disclaimer</a:t>
            </a:r>
            <a:endParaRPr b="0" lang="en-US" sz="1800" spc="-1" strike="noStrike">
              <a:solidFill>
                <a:srgbClr val="000000"/>
              </a:solidFill>
              <a:latin typeface="Gill Sans MT"/>
            </a:endParaRPr>
          </a:p>
          <a:p>
            <a:pPr marL="357480" indent="-276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r>
              <a:rPr b="0" lang="en-US" sz="1200" spc="-1" strike="noStrike">
                <a:solidFill>
                  <a:srgbClr val="000000"/>
                </a:solidFill>
                <a:latin typeface="Gill Sans MT"/>
              </a:rPr>
              <a:t>All presentations and materials submitted by Market Participants or any other Entity to ERCOT staff for this meeting are received and posted with the acknowledgement that the information will be considered public in accordance with the ERCOT Websites Content Management Operating Procedure.</a:t>
            </a:r>
            <a:endParaRPr b="0" lang="en-US" sz="1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 “Statement of Position on Antitrust Issues for Members of ERCOT Committees, Subcommittees and Working Groups” and the “Antitrust Admonition” comments will be available for Market Participant’s comments over the next 3 weeks.  Any comments should be forwarded to ERCOT legal </a:t>
            </a:r>
            <a:endParaRPr b="0" lang="en-US" sz="1600" spc="-1" strike="noStrike">
              <a:solidFill>
                <a:srgbClr val="000000"/>
              </a:solidFill>
              <a:latin typeface="Gill Sans MT"/>
            </a:endParaRPr>
          </a:p>
          <a:p>
            <a:pPr lvl="1" marL="394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39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endParaRPr b="0" lang="en-US" sz="1200" spc="-1" strike="noStrike">
              <a:solidFill>
                <a:srgbClr val="000000"/>
              </a:solidFill>
              <a:latin typeface="Arial"/>
            </a:endParaRPr>
          </a:p>
        </p:txBody>
      </p:sp>
      <p:sp>
        <p:nvSpPr>
          <p:cNvPr id="4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95CC-1CE7-4E98-A7D3-0B4FEC6EE3EA}"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2" name="Rectangle 15"/>
          <p:cNvSpPr/>
          <p:nvPr/>
        </p:nvSpPr>
        <p:spPr>
          <a:xfrm>
            <a:off x="5867280" y="6305400"/>
            <a:ext cx="289584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32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Gill Sans MT"/>
              </a:rPr>
              <a:t>9.  </a:t>
            </a:r>
            <a:r>
              <a:rPr b="1" lang="en-US" sz="3600" spc="-1" strike="noStrike">
                <a:solidFill>
                  <a:srgbClr val="572314"/>
                </a:solidFill>
                <a:latin typeface="Gill Sans MT"/>
              </a:rPr>
              <a:t>Other Business </a:t>
            </a:r>
            <a:br>
              <a:rPr sz="3600"/>
            </a:br>
            <a:endParaRPr b="0" lang="en-US" sz="3600" spc="-1" strike="noStrike">
              <a:solidFill>
                <a:srgbClr val="572314"/>
              </a:solidFill>
              <a:latin typeface="Gill Sans MT"/>
            </a:endParaRPr>
          </a:p>
        </p:txBody>
      </p:sp>
      <p:sp>
        <p:nvSpPr>
          <p:cNvPr id="464" name=""/>
          <p:cNvSpPr txBox="1"/>
          <p:nvPr/>
        </p:nvSpPr>
        <p:spPr>
          <a:xfrm>
            <a:off x="1028880" y="762120"/>
            <a:ext cx="807696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enton Municipal Electric (DME)  - Observation of ERCOT Potential Reporting Change</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advised that they were issuing a 30 day notice for a change to an existing report.</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ind Power Production - Hourly averaged actual and forecasted values report</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ME estimates a 30 person-hour impact to DME systems</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o specific agenda item to discuss on most recent and previous MDWG meetings</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ind Power Production - Hourly averaged actual and forecasted values report in its current state.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OUR_ENDING column</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AC Leadership suggested creating a Workshop to address reporting and </a:t>
            </a:r>
            <a:r>
              <a:rPr b="1" lang="en-US" sz="1600" spc="-1" strike="noStrike">
                <a:solidFill>
                  <a:srgbClr val="000000"/>
                </a:solidFill>
                <a:latin typeface="Gill Sans MT"/>
              </a:rPr>
              <a:t>External Web Services </a:t>
            </a:r>
            <a:r>
              <a:rPr b="0" lang="en-US" sz="1600" spc="-1" strike="noStrike">
                <a:solidFill>
                  <a:srgbClr val="000000"/>
                </a:solidFill>
                <a:latin typeface="Gill Sans MT"/>
              </a:rPr>
              <a:t>(EWS) issues to a much wider audience than MDWG and/or COPS. </a:t>
            </a: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pril 28</a:t>
            </a:r>
            <a:r>
              <a:rPr b="1" lang="en-US" sz="2000" spc="-1" strike="noStrike" baseline="30000">
                <a:solidFill>
                  <a:srgbClr val="000000"/>
                </a:solidFill>
                <a:latin typeface="Gill Sans MT"/>
              </a:rPr>
              <a:t>th</a:t>
            </a:r>
            <a:r>
              <a:rPr b="1" lang="en-US" sz="2000" spc="-1" strike="noStrike">
                <a:solidFill>
                  <a:srgbClr val="000000"/>
                </a:solidFill>
                <a:latin typeface="Gill Sans MT"/>
              </a:rPr>
              <a:t> TAC Meeting Main Topics of Discussion: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serve Discount Factor (RDF) Issues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s response to DREAM Taskforce’s  Policy Cuts presented at the February 25</a:t>
            </a:r>
            <a:r>
              <a:rPr b="0" lang="en-US" sz="1600" spc="-1" strike="noStrike" baseline="30000">
                <a:solidFill>
                  <a:srgbClr val="000000"/>
                </a:solidFill>
                <a:latin typeface="Gill Sans MT"/>
              </a:rPr>
              <a:t>th</a:t>
            </a:r>
            <a:r>
              <a:rPr b="0" lang="en-US" sz="1600" spc="-1" strike="noStrike">
                <a:solidFill>
                  <a:srgbClr val="000000"/>
                </a:solidFill>
                <a:latin typeface="Gill Sans MT"/>
              </a:rPr>
              <a:t> TAC meeting:  </a:t>
            </a:r>
            <a:endParaRPr b="0" lang="en-US" sz="1600" spc="-1" strike="noStrike">
              <a:solidFill>
                <a:srgbClr val="000000"/>
              </a:solidFill>
              <a:latin typeface="Gill Sans MT"/>
            </a:endParaRPr>
          </a:p>
          <a:p>
            <a:pPr lvl="2" marL="832680" indent="-214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http://www.ercot.com/content/wcm/key_documents_lists/76821/04._DREAM_TAC_Deck_022516_Final.pptx </a:t>
            </a:r>
            <a:endParaRPr b="0" lang="en-US" sz="1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5, 2016</a:t>
            </a:r>
            <a:endParaRPr b="0" lang="en-US" sz="1200" spc="-1" strike="noStrike">
              <a:solidFill>
                <a:srgbClr val="000000"/>
              </a:solidFill>
              <a:latin typeface="Arial"/>
            </a:endParaRPr>
          </a:p>
        </p:txBody>
      </p:sp>
      <p:sp>
        <p:nvSpPr>
          <p:cNvPr id="4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endParaRPr b="0" lang="en-US" sz="1200" spc="-1" strike="noStrike">
              <a:solidFill>
                <a:srgbClr val="000000"/>
              </a:solidFill>
              <a:latin typeface="Arial"/>
            </a:endParaRPr>
          </a:p>
        </p:txBody>
      </p:sp>
      <p:sp>
        <p:nvSpPr>
          <p:cNvPr id="4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13FD-117A-4538-BBA6-9D1E760B161C}" type="slidenum">
              <a:rPr b="0" lang="en-US" sz="1200" spc="-1" strike="noStrike">
                <a:solidFill>
                  <a:srgbClr val="b5a788"/>
                </a:solidFill>
                <a:latin typeface="Arial"/>
                <a:ea typeface="Arial"/>
              </a:rPr>
              <a:t>&lt;number&gt;</a:t>
            </a:fld>
            <a:endParaRPr b="0" lang="en-US" sz="1200" spc="-1" strike="noStrike">
              <a:solidFill>
                <a:srgbClr val="000000"/>
              </a:solidFill>
              <a:latin typeface="Arial"/>
            </a:endParaRPr>
          </a:p>
        </p:txBody>
      </p:sp>
      <p:sp>
        <p:nvSpPr>
          <p:cNvPr id="468" name="Rectangle 15"/>
          <p:cNvSpPr/>
          <p:nvPr/>
        </p:nvSpPr>
        <p:spPr>
          <a:xfrm>
            <a:off x="5867280" y="6305400"/>
            <a:ext cx="289584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000" spc="-1" strike="noStrike">
                <a:solidFill>
                  <a:srgbClr val="000000"/>
                </a:solidFill>
                <a:latin typeface="Arial"/>
                <a:ea typeface="Arial"/>
              </a:rPr>
              <a:t>TAC Update to RMS &amp; COP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4-05T14:57:18Z</dcterms:modified>
  <cp:revision>1058</cp:revision>
  <dc:subject/>
  <dc:title>Instructions</dc:title>
</cp:coreProperties>
</file>