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279E9-4FBF-4224-863F-AF3CC26C5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F46CA-1BDB-48D2-A839-66942E150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5B8D8-3A2A-4236-821D-4F931B0E0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D2901-11A8-4D2C-B416-C5763D65F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280-902B-4B10-9982-D2B64735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E9C-D457-4885-821A-05672670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D6B52C-0BEA-4A53-98C1-C61D41D5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8F61BB-4BAD-4CBC-8BA6-ED1004F6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D0273A-CDD5-4120-9F00-ED8BCADB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911AD0-63E5-4C95-AE25-78506F88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DA0049-B9C3-4BF8-B1ED-7EF1F574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982B5-1722-4AC7-B1EE-23E7B565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DFB689-6BB5-44E5-A6FD-08674A2F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BB49F1-4CED-4C4D-817E-D4D3F4BA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33E2E8-516B-429A-97E7-BD8CA1B0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EDF3DE-8882-4DC7-B800-33D39EC0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D4B-5D80-4246-9BE3-2A1E9BB5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3E5511-85BC-4CDD-BF27-779F616F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D3EFAC-72F0-47EC-82A1-10E8902C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7F2CB9-EBE4-4C23-86D2-F618AF05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C7CF03-6DE9-47B3-99C4-1BADDACB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CA1BC7-5E14-4EDD-9B37-40D96A13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33C33F-EBBD-4EC9-82EB-29C4821F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E2807D-E8D3-4A66-AB4D-1A9DC47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2B788F-6196-48C3-899B-8F1915F6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34709C-82CB-4494-BD11-1EBB9F6A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38F6C5-35B8-4A5F-B4CC-21E3D8DE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192-FA1D-49D0-8A2E-00A8E3C9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CA3311-F409-4FFA-BF58-943B4006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E5EE-FD03-4CFD-9A10-48FDBE22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6C0A-00EA-4E80-9954-6DD31764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013C-6077-4D0F-8F32-93C4AB3B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8892-07D5-4841-BFF4-EE9CBDE2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5679-74AB-41A1-83A0-4062187E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D640-918E-4BCE-9C1B-049B8AD9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D13B-91FD-4873-9801-C0C050D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00D-2041-47D0-AC98-0DFC60F5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3F55-B1F5-434E-8261-DD1B587E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600A-A13C-45FB-B3DF-8C8127A4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BF44-2379-4CF3-93A1-D2CC85A9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6686-8005-4282-8F96-1A22C327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A674-F815-4F4C-95D3-6E6B69D2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521-45E2-4EFC-8638-D6B0278A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07EE-511B-45A2-80C8-88198947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A5B47-6C2B-48C6-8965-1323B2EB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21E-928B-4E79-A1D6-4ACE7C30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E770A-6679-4B9B-84CD-2949F068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5B3964-41EB-4570-803D-9A0EDE56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3B3DA-42A3-482E-8B24-AEBB331B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86C8F-70F0-4B25-A431-10EB849C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E8F29-A1D5-40CA-80B6-A9090BAF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7259D-2AE7-4642-AA03-B0889F54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F0BA3-789B-47E1-87D0-8BDE9B33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71BBB-9F96-4F7E-9B0A-727AACEE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F1190-58F8-43C9-AA21-FE9BB1F1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8BD03-2EAA-4C5A-9889-757DC30C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640-5A4A-4033-B748-79FBA830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185DE-C407-4E1D-9FCB-0C2D1197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AC0B7-E9F1-4E9B-81EC-3717D8CD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4AEB9-41EF-4A7E-AE04-616EC692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83A83-07AB-461A-ADC2-61A47C76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EDD00-C267-47AA-8160-266450F8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6E5A7-A704-4EF8-9C9A-D7713B81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CF98C-9879-475C-84D6-F7EADCEA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83284-47DD-4F08-AD15-4494F874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E050E-3D58-423D-8C5D-A0E9C535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57928-CB54-4F14-B1EC-CDEB3A9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7E7-3AAD-4931-B2CA-C030628C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2B9C1-EE32-4F2F-A980-CE9F8E60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48AF8-E618-410C-ADDE-C26EB66C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7DCF9-DAFD-4DD9-A630-41A2B375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0D700-B1A4-47BE-81F9-706FF072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52C44-7C0F-4B5E-94AC-B7C6C7C7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6A12F-3063-4BDE-8215-A65BB50E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11063-8F34-472B-858D-A431B4B6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0E89F-7854-458C-B677-73B9E05C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4218F-F4F4-45ED-97EA-2DE0FB3E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6FBBD6-1114-4086-92A2-D2A3B713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6E1-FF48-4856-BC88-A5CB9A84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99E0B-559F-47EA-91E1-4F54D4C6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AA97CD-83FB-40E2-8F61-6527B46E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BAA13-4C6A-4BE8-832B-A89BAE40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C993B-D68E-4E32-AF5A-A661159B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56D31-0805-488B-9296-FB287584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2263C-7836-401F-BDCC-9E4DB8B8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1EFE6-11D9-4379-BA62-50CBD727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E351F-E151-4FD0-8083-69CFA6FE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3FF59-AC87-4A37-9F51-03A3BFE5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009EF-D2BC-40CC-845A-BB72A981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985-67C6-4E76-A73B-002E4E9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7D508-F4B9-4540-952E-26C8520F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5BDFB-7FF1-42A5-9800-A1708AAC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E54E7-74CB-457B-B5B6-D1C9EB12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DD9B03-C752-4FD1-A0B1-E0CAF869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FB0B6F-6157-4F13-AA58-F13E3C28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61A62-E1AA-49BC-9E4F-25C85D5B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E3176-48C0-474A-B235-AF3C6587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5A870D-809D-4EFF-B6E8-3D148DA9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2F4DB8-EA85-4BE4-9BB7-99C0A04A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F6BB12-1CCD-4BA9-A031-09E61CD5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ABA31-927C-4E41-8B10-2A37F643B0A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3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1CB2F-33D4-4B58-8BA2-6D865208E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60A6E-9C26-486D-8B9C-F61E514FEEDE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3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9FA76-CE63-4DC2-BBBA-856DA009BD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21477-0EFC-4AFD-A0CE-D7DE540B618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3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2B2D6-4F94-457C-A4C8-EB165FA0B5A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3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B53DC-EA51-4EF0-8D09-791208A66B1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3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B5BE9-62A2-4F9F-848F-ED54FF4A381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3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B981D-76C5-4FB5-A20C-1DF00D205B0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3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CA1C6-768B-4CA5-B09D-3BDB6434413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3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92F5C-7B50-4F6C-A073-5098F36808E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3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C23C8-6C9C-482E-9A30-E4817C311F7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3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D36D9-AF94-45C5-A346-B5DA6E206E3E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3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089E3-D64A-403F-A060-1D602F9725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3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C0704-2960-4D84-9AFE-965EE4056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3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F3945-22AD-4E35-868D-86141A7E51D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3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263BA-1253-4A4E-B79C-A8FDE538D0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CF6B4-79CB-4039-A1DF-E2A5DCDABD3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3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6748F-1AA5-442B-BC6C-09EC72AA00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790D4-C80B-4FB1-AAC1-996A5CBDCA6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3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87672-D67F-47F0-B1FE-913A97FC00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AAA29-AEF9-4ECB-8329-5C420B05DED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MARCH 3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A93E1-0FD6-4CC3-BB74-9DB62BF9E454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09C62-F643-412D-8AD2-2088AB18044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3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E9327-9B52-4FC1-AC9D-1F509F0C12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6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3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arch 2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pril 6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3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e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2016 SAWG Leadershi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Unanimousl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3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Assignment Update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igh RT Price Event – 2/2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 active constraints affecting pr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High regulation component affecting GTB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CR 788 in process to better incorporate appropriate regulation feedback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igh DAM RRS Price Event – 2/18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RS = $125/MWh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ergy = $.40/MW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Lack of online resources offering RRS into DAM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mization evaluates cost of starting additional resource versus purchasing from expensive resourc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Additional data will be presented at the April WMS meeting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           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5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3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Assignment Updates (cont’d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igh SASM Frequency and Pr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ajority of SASMs are due to Forced Outag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High prices reflect a lack of SASM offers in R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Concern with leaving DAM offers active for SASM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Education of QSE Operators as to timeline of notification and submitting offer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ERCOT exploring changing submission timeline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articipation in Reconfiguration SASM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ystem changes done in the middle of last year to address issues with settlemen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Zero participation since the system change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Education of QSE Operators needed about resolution of Initial system/settlement issu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3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3-01-30T23:16:36Z</cp:lastPrinted>
  <dcterms:modified xsi:type="dcterms:W3CDTF">2016-03-24T20:50:47Z</dcterms:modified>
  <cp:revision>864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