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6BA202-74D3-4C43-98CB-ECC43C5E45E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AAC8FA-CC77-476D-B7A0-D678A08DF0F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605C5E-593D-4F7C-90C9-7DD3D463339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A905DA-D371-4B9F-8019-4241809483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E8C00F-28A6-4BAF-ACF4-3B7CC4B940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A1D82-0534-4E2D-A921-86B40A704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1C088-1F7E-4C16-9EE0-F7E126A59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7D75B-7D84-42CF-A163-7B9F8C65A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96554-EAA2-4C3C-9F06-BF9C4C8F8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7AFF5-5DC3-4920-89FB-C1DFA511C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6CE09-F963-47C2-9BD6-40CB3AD15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233F5-FAD9-47C3-BD12-96A376DBD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2C51F-B789-4F93-A443-076DD44A3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99F69-4A54-48D2-B399-57A781EC4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C5D54-11C7-475C-A3CC-65EC9FD0A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DC56D-A6EE-4B5D-B0D2-755B7F2D1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A1E33-D1AE-40D2-B997-3741283A8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6EC4E1-5EDD-4907-AD22-BD8E9F5F39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E274E-C1D1-49FD-85E2-99D700C27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BFE3E8-FD77-428B-AEAA-43288E4963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4: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manda Frazie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2016 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arch 31, 2016</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NPRR746, Adjustments Due to Negative Load [ERCOT]</a:t>
            </a:r>
            <a:endParaRPr b="0" lang="en-US" sz="1800" spc="-1" strike="noStrike">
              <a:solidFill>
                <a:srgbClr val="000000"/>
              </a:solidFill>
              <a:latin typeface="Arial"/>
            </a:endParaRPr>
          </a:p>
        </p:txBody>
      </p:sp>
      <p:sp>
        <p:nvSpPr>
          <p:cNvPr id="191" name="Rectangle 2"/>
          <p:cNvSpPr/>
          <p:nvPr/>
        </p:nvSpPr>
        <p:spPr>
          <a:xfrm>
            <a:off x="487440" y="879480"/>
            <a:ext cx="81579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6; Rank 162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35k and $45k; no impacts to ERCOT staffing; impacts to S&amp;B; ERCOT business processes will be updated;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proposes modifications to address certain undesirable outcomes that follow from assigning one or more Qualified Scheduling Entities (QSEs) a negative Load or negative Load Ratio Share (LR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2/11/16, PRS unanimously voted to recommend approval of NPRR746 as submitted.  On 3/10/16, PRS unanimously voted to endorse and forward to TAC the 2/11/16 PRS Report and the Impact Analysis for NPRR746 with a recommended priority of 2016 and rank of 16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Vot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41, Clarifications to TPE and EAL Credit Exposure Calculation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44, RUC Trigger for the Reliability Deployment Price Adder and Alignment with RUC Settlement</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46, Adjustments Due to Negative Load</a:t>
            </a: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79440" y="738360"/>
            <a:ext cx="8493120" cy="55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With Opposing Votes (Vote):</a:t>
            </a: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45, Change ERS Availability from an Hourly to 15-minute Interval Evaluation plus Other Minor Change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48, Revisions associated with COM-002-4 and Other Clarifications Associated with Dispatch Instructions*</a:t>
            </a:r>
            <a:endParaRPr b="0" lang="en-US" sz="20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745, Change ERS Availability from an Hourly to 15-minute Interval Evaluation plus Other Minor Changes</a:t>
            </a:r>
            <a:endParaRPr b="0" lang="en-US" sz="2000" spc="-1" strike="noStrike">
              <a:solidFill>
                <a:srgbClr val="000000"/>
              </a:solidFill>
              <a:latin typeface="Arial"/>
            </a:endParaRPr>
          </a:p>
        </p:txBody>
      </p:sp>
      <p:graphicFrame>
        <p:nvGraphicFramePr>
          <p:cNvPr id="179" name=""/>
          <p:cNvGraphicFramePr/>
          <p:nvPr/>
        </p:nvGraphicFramePr>
        <p:xfrm>
          <a:off x="285840" y="700200"/>
          <a:ext cx="8585280" cy="5443560"/>
        </p:xfrm>
        <a:graphic>
          <a:graphicData uri="http://schemas.openxmlformats.org/drawingml/2006/table">
            <a:tbl>
              <a:tblPr/>
              <a:tblGrid>
                <a:gridCol w="1245960"/>
                <a:gridCol w="7339320"/>
              </a:tblGrid>
              <a:tr h="13716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RCO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proposes numerous minor changes to Emergency Response Service (ERS) including changes to the Resource identification process, to outdated ERS nomenclature, to the deadline for Qualified Scheduling Entities (QSEs) to submit notice of ERS Load unavailability, to the deadline for QSEs to revise planned maintenance or self-test schedules for ERS Generators, to the testing exemption for an ERS Resource; and specifies metering options for sites with Distributed Renewable Generation (DRG).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306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2/11/16, PRS voted to recommend approval of NPRR745 as amended by the 2/4/16 WMS comments.  There was one opposing vote from the Independent Power Marketer (IPM) Market Segment.  On 3/10/16, PRS voted to endorse and forward to TAC the 2/11/16 PRS Report and Impact Analysis for NPRR745.  There was one opposing vote from the IPM Market Seg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9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pon system implement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709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ess than $10k (O&amp;M); ERS System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5368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e most significant change is shifting the availability calculations from an hourly to a 15-minute interval evaluation. This will make the evaluation for availability consistent with that for test and event performance. Most of the remaining changes being proposed are to (1) add detail to Protocol language to better comport with existing business procedures, or (2) remove or replace outdated ERS terminolog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748, Revisions associated with COM-002-4 and Other Clarifications Associated with Dispatch Instructions</a:t>
            </a:r>
            <a:endParaRPr b="0" lang="en-US" sz="2000" spc="-1" strike="noStrike">
              <a:solidFill>
                <a:srgbClr val="000000"/>
              </a:solidFill>
              <a:latin typeface="Arial"/>
            </a:endParaRPr>
          </a:p>
        </p:txBody>
      </p:sp>
      <p:graphicFrame>
        <p:nvGraphicFramePr>
          <p:cNvPr id="182" name=""/>
          <p:cNvGraphicFramePr/>
          <p:nvPr/>
        </p:nvGraphicFramePr>
        <p:xfrm>
          <a:off x="285840" y="700200"/>
          <a:ext cx="8585280" cy="5199120"/>
        </p:xfrm>
        <a:graphic>
          <a:graphicData uri="http://schemas.openxmlformats.org/drawingml/2006/table">
            <a:tbl>
              <a:tblPr/>
              <a:tblGrid>
                <a:gridCol w="1245960"/>
                <a:gridCol w="7339320"/>
              </a:tblGrid>
              <a:tr h="11271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RCO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aligns with North American Electric Reliability Corporation (NERC) Standard COM-002-4, Operating Personnel Communications Protocols, and provides language clarification for Dispatch Instructions and procedur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306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2/11/16, PRS voted to recommend approval of NPRR748 as amended by the 2/4/16 STEC comments.  There was one opposing vote from the Independent Generator Market Segment.  On 3/10/16, PRS unanimously voted to endorse and forward to TAC the 2/11/16 PRS Report and the Impact Analysis for NPRR748.</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ay 1, 2016</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7099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537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ligns with NERC Standard COM-002-4; reduces impacts and time loss resulting from communication errors; and reduces compliance risks by establishing a best utility practice for the ERCOT Reg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379440" y="714240"/>
            <a:ext cx="8389800" cy="554364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Annual Review of Other Binding Documents (OBD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ursuant to paragraph (3) of Section 1.1, Summary of the ERCOT Protocols Document, PRS reviewed and unanimously approved the current list of OBDs. </a:t>
            </a:r>
            <a:endParaRPr b="0" lang="en-US" sz="2000" spc="-1" strike="noStrike">
              <a:solidFill>
                <a:srgbClr val="000000"/>
              </a:solidFill>
              <a:latin typeface="Arial"/>
            </a:endParaRPr>
          </a:p>
        </p:txBody>
      </p:sp>
      <p:sp>
        <p:nvSpPr>
          <p:cNvPr id="18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dditional PRS I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NPRR741, Clarifications to TPE and EAL Credit Exposure Calculations [ERCOT]</a:t>
            </a:r>
            <a:endParaRPr b="0" lang="en-US" sz="1800" spc="-1" strike="noStrike">
              <a:solidFill>
                <a:srgbClr val="000000"/>
              </a:solidFill>
              <a:latin typeface="Arial"/>
            </a:endParaRPr>
          </a:p>
        </p:txBody>
      </p:sp>
      <p:sp>
        <p:nvSpPr>
          <p:cNvPr id="187" name="Rectangle 2"/>
          <p:cNvSpPr/>
          <p:nvPr/>
        </p:nvSpPr>
        <p:spPr>
          <a:xfrm>
            <a:off x="487440" y="879480"/>
            <a:ext cx="81579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May 1, 2016 (for clarification-only revisions); Upon system implementation - Priority 2016; Rank 1555</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15k and $30k; no impacts to ERCOT staffing; impacts to Credit Monitoring and Management (CMM);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arifies various credit formulas and revises the Minimum Current Exposure (MCE) formula to reduce the amount of collateral required to be posted by a Counter-Party when the Counter-Party is credit positive in the Day-Ahead Market (DAM).</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2/11/16, PRS unanimously voted to recommend approval of NPRR741 as amended by the 1/20/16 Credit WG comments.  On 3/10/16, PRS unanimously voted to endorse and forward to TAC the 2/11/16 PRS Report as amended by the 2/24/16 Reliant comments and the Revised Impact Analysis for NPRR741 with a recommended priority of 2016 and a rank of 1555.</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redit WG Review:</a:t>
            </a:r>
            <a:r>
              <a:rPr b="0" lang="en-US" sz="1800" spc="-1" strike="noStrike">
                <a:solidFill>
                  <a:srgbClr val="000000"/>
                </a:solidFill>
                <a:latin typeface="Arial"/>
              </a:rPr>
              <a:t>  See 1/20/16 Credit WG com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79080" y="134640"/>
            <a:ext cx="8458200" cy="461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NPRR744, RUC Trigger for the Reliability Deployment Price Adder and Alignment with RUC Settlement [ERCOT]</a:t>
            </a:r>
            <a:endParaRPr b="0" lang="en-US" sz="1800" spc="-1" strike="noStrike">
              <a:solidFill>
                <a:srgbClr val="000000"/>
              </a:solidFill>
              <a:latin typeface="Arial"/>
            </a:endParaRPr>
          </a:p>
        </p:txBody>
      </p:sp>
      <p:sp>
        <p:nvSpPr>
          <p:cNvPr id="189" name="Rectangle 2"/>
          <p:cNvSpPr/>
          <p:nvPr/>
        </p:nvSpPr>
        <p:spPr>
          <a:xfrm>
            <a:off x="563400" y="785880"/>
            <a:ext cx="799812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Proposed Effective Date:  </a:t>
            </a:r>
            <a:r>
              <a:rPr b="0" lang="en-US" sz="1600" spc="-1" strike="noStrike">
                <a:solidFill>
                  <a:srgbClr val="000000"/>
                </a:solidFill>
                <a:latin typeface="Arial"/>
              </a:rPr>
              <a:t>Upon system implementation - Priority 2016; Rank 1610</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ERCOT Impact Analysis:  </a:t>
            </a:r>
            <a:r>
              <a:rPr b="0" lang="en-US" sz="1600" spc="-1" strike="noStrike">
                <a:solidFill>
                  <a:srgbClr val="000000"/>
                </a:solidFill>
                <a:latin typeface="Arial"/>
              </a:rPr>
              <a:t>Between $200k and $250k; no impacts to ERCOT staffing; impacts to Market Management System (MMS), Market Information System (MIS), Enterprise Information Services (EIS), Settlements and Billing (S&amp;B), and Commercial Systems Integration (CSI); no impacts to ERCOT business functions; no impacts to ERCOT grid operations and practices.</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Revision Description:  </a:t>
            </a:r>
            <a:r>
              <a:rPr b="0" lang="en-US" sz="1600" spc="-1" strike="noStrike">
                <a:solidFill>
                  <a:srgbClr val="000000"/>
                </a:solidFill>
                <a:latin typeface="Arial"/>
              </a:rPr>
              <a:t>This NPRR proposes to use a telemetered snapshot at the start of each Reliability Unit Commitment (RUC) block as a trigger for the adder created by NPRR626, Reliability Deployment Price Adder.  In support of this change to the Reliability Deployment Price Adder, this NPRR also changes the process for opting out of RUC Settlement, regardless of the timing of the notification of the RUC, which provides an alternative to the RUC Settlement opt out method approved in NPRR416, Creation of the RUC Resource Buyback Provision, as modified by NPRR679, ONOPTOUT for RUC Given After the Adjustment Period. Clarifications to the definition of RUC Buy-Back Hour are also included.</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PRS Decision:</a:t>
            </a:r>
            <a:r>
              <a:rPr b="0" lang="en-US" sz="1600" spc="-1" strike="noStrike">
                <a:solidFill>
                  <a:srgbClr val="000000"/>
                </a:solidFill>
                <a:latin typeface="Arial"/>
              </a:rPr>
              <a:t>  On 2/11/16, PRS voted to recommend approval of NPRR744 as submitted.  There was one abstention from the Investor Owned Utility (IOU) Market Segment.  On 3/10/16, PRS unanimously voted to endorse and forward to TAC the 2/11/16 PRS Report as amended by the 3/8/16 ERCOT comments and the Impact Analysis for NPRR744 with a recommended priority of 2016 and rank of 16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ERCOT</cp:lastModifiedBy>
  <cp:lastPrinted>2013-01-30T23:16:36Z</cp:lastPrinted>
  <dcterms:modified xsi:type="dcterms:W3CDTF">2016-03-21T15:02:24Z</dcterms:modified>
  <cp:revision>293</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