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85FD-86B5-45B5-B142-DDDE17472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AED4-61A8-4CB0-BC77-79E88F891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97FC-494A-4D3E-AE46-2CD86B489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9F65-F0FF-480D-88D1-B3BD526C7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F988-F488-45A0-BC81-B528EB73C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6D52-A78A-4C4A-B834-BD3FA8A36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8307-1AD1-4CF1-AFE3-14B4CD12A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9EA2-1A66-4D70-80EA-437BFA0A5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269E-0200-4065-9A3F-1390D6F76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DACD-E33A-4F64-A2E5-04E420E7F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69AD-3F70-4CED-AEFF-128299019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7087-ADF3-4347-A360-051F1E991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4D9C-4559-4BD4-B746-82D85C8E2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D0A4-5A54-449D-B55E-B4ACFA922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1D89-A9C5-4078-A416-7F7B2EB4D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EAD8-F3F4-4CFC-9BAA-6D1BDAC2D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6B4E-CB69-4381-AAC7-8E1865A90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0A31-8B41-436C-A9B8-090AF4888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9AC6-0FE3-4AF7-BB4C-57F0D33D8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044-72E4-48A5-A0D3-0755FB98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689-A397-45B8-A61E-769DC0CA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3819B-4694-4D6C-B452-A1C78DCC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CA6AB-450A-4338-8AB1-802BFE90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B6A0A-8E41-44A9-ABEE-90774CBE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58950-24CF-4E17-AAAA-B2A8DA87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188E1-1439-4155-9C3D-68369872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D75D4-8CCC-41EA-B92A-7A2E0600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3E214-26AC-4467-A013-75FCA286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06CCB-43AE-47EC-BFA0-72A74A7F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89455-2417-47F6-9CE9-2BF7C527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CE479-680C-41EC-BB24-3CDF4BE7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9D4-FA4A-4635-9482-5A9E0F2D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7A2D6-7FBB-45C7-9A08-62D656FE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7C61A-1AB4-4F69-8574-B6CABD77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957A7-AF9B-48FC-AEC7-C6E45FBF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D3630-B6C8-4B33-8D62-4B1BFE19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AD225-EF67-4B92-B461-6B466C8B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D98F7-7F44-448C-9110-1C0EEC84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6E637-09DE-4AE1-A433-0C38AF47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CCDBD-AD0E-4D69-B7B2-0B3862D0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822E1-52B0-49E1-99FE-B5710964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325A4-3172-4E66-A788-4373D5E6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3DB-5D63-4BB6-B9F8-63B24C09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31F88-E264-4DFB-9FBE-11665BAC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99344-161E-4283-85B1-59238EE9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DF9C5-645C-4C58-81CB-1A5618ED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925EC-5C4C-4017-9122-2BDD6611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8CFA3-20D2-496B-A43C-03559934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B1AB1-8EDB-4CA3-8587-77AC1B10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69717-200A-4118-91AE-260FF29D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DCA6A-573C-4846-BE91-BE235BF5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25835-201F-4FB7-AEEE-56A3369B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6E6F3-8C84-456A-8EF7-C65DF214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E8AA-D135-4DA8-8BB9-2CEE92F0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9AC1E-969E-4D94-89D2-5DAA2B5B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7C352-BD47-4F2E-9BE4-D489CEDC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00771-39C0-42D3-A256-F533385D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C1C0D-0E2B-4E46-822B-8CB194B8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631CC-3F1E-421B-84F3-41CC471C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EBCD2-C737-49B5-9A7A-6B8019AD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5EC9B-2C07-4D5A-906D-582AB1B6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123D2-929F-4F6D-ACB0-FA3A71E8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B5D80-294A-4A73-9074-B7A87300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0BC4B-126F-45CD-9804-D4641310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3127-DE5F-47A0-99B4-2B121964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CE1D6-60CA-4522-9BAA-72BEEA58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5FC39-ABF7-4E27-A368-D0EA90B3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FC2A4-A910-4A42-8A4B-479502CD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C7B6D-8685-4211-8142-39B29AAC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227E8-BD01-40BE-873C-F04E12C4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6D36-3E32-456E-BE4A-0E933327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F16A-1ECB-4C16-8965-C6A6162A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54BC-F5C4-470B-80F2-EBAD3624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B431-4124-4EFD-AD9B-8BF4E951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B55C-F4D3-481F-9723-54EF4B8D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55C-A51C-42DE-93C3-95C1EEC4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2ECB-2BE6-45A5-BBC4-0F47D6D4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C3B0-757F-424A-A2DF-BF1FC9D7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1092-DD22-4A18-AF1A-523EB337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4720-B531-4713-BF84-C3D69E86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1CEF-5C84-4A7D-B2B1-E7DC6234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B17E-AC4D-4E60-BF18-DDF7F646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9AA73-77ED-45F4-AA78-57705D99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B801F-83FE-406D-91D7-D680E748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96A95-9658-44F7-89EA-B96EFF31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C2725-49F6-4D5C-8895-EEE22FCD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987-DE0F-4B53-88DE-778669F9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47E38-B30F-4732-88CC-00CE4541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E47E3-2A10-4170-8539-A2AC918C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8DEAB-D8CB-425E-86FC-A9CC2E39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707E7-42AB-49BE-BF0E-39A6DE86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A7BBB-2C02-456C-9BA6-D386581C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74463-C3A0-4397-8373-0B96F69C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1B5FB-D67F-41AB-BB45-C50ADD8C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35292-752B-46C3-8F3F-459182F0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41CBC-FBFB-4A7D-A91B-40F8B8EF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B495D-B6E7-45C5-86C2-3AA6E38E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201-7E65-4424-B0BA-69F59C7D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2FEFF-FF3F-4849-8B82-CA360909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24965-EA7A-4921-82B8-312AEFB0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F895A-A373-4778-98A8-6E7B38C6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8073D-8F63-42E1-82CA-CF18A4A2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C06F4-1132-4AFD-A063-B0051C0F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5CA30-4377-4CA8-9A3E-7BA7ACA6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80C74-A911-4647-A4D1-8FF23CA5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C031C-2063-4EAF-9FE2-21502C24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7ED7A-2743-49F1-8D4B-FE5EE8B7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FAE74-C73B-4A4B-848C-DCF3E6CD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D65-8F43-46DF-B855-C00EBEA0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E6957-D658-4F5D-BFD4-AA5B3D50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E30D2-9ECA-4EDB-9DE2-AE19247E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7C24B-D07E-4F4A-B674-3E7997C4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696C4-AA22-43CC-94F1-7A480DEC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DEE33-F1C5-44E1-8839-7FF2A4A1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87464-2C69-4B0B-95CA-D1A1AD73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FE8A3-0C8F-48A5-9CA2-BA9B9BB9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FB438-60BD-4767-AE9E-F290231D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9EFE5-78FB-4D2C-8B7E-995CA9EE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61CDE-C77E-4F06-A9AE-33F9B36B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6F2-03B6-4FA7-A56F-08D5CE9C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00C54-2DDA-46F5-B688-3DFF53E0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A9E09-7396-4E21-82B2-C262D7FB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933AE-C299-477D-A98E-577E30B1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8C75C-0FD2-463A-93F0-BA5DDE16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C2451-33E8-46A0-861D-BF9374CA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A63EF-2500-407F-8AB6-BD732F92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E89E7-F897-4188-87F2-6453C1F8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BA78F-A36D-43DF-A1CB-FD445C0A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218CE-2569-48F2-807A-33A1A15C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6F943-D603-4D7A-BA3F-2BD69EDF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E90D-76EC-4FA4-AD17-7FF16762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38B6E-E361-47B2-B863-D1A1EA59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513D1-B945-4495-BB67-31412031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EA78A-070C-40EC-BA83-CAB561B8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0DA8F-097F-4218-8EF0-C1D9588E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9678A-8568-4E4F-B1B5-12FCA8C9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C3FDB-8588-4A83-8C5A-53C86774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5ABEB-C19A-4C65-B1B6-8C36BA21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BD857-71F1-4E23-86AD-AADC1ED5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90801-965B-45EB-97C5-198752D8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06F89-9A39-4746-ADC7-F0B86E8E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40B-32AB-40C1-9398-06F00A2B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230A2-D27E-4741-AC7B-2E821E5B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8F5DA-DB7F-46AE-B97D-16E105EA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9A58B-13A8-4770-80DD-1BB20ACD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8A4AA-521E-4F68-BC95-92BE6995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F8990-A12B-4B7D-A329-9921BF95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57C33-D8E7-43BB-BA40-C5297AA8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609AB-EC05-4C4F-9DF7-E370E9D8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DD2A0-4EE9-44B0-945C-0C60E872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BF188-70D7-4859-8E8C-0588DECB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66B85-934D-472F-AA5D-3DB0A85A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1F5-C033-428F-B610-9430309B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B9CA5-F0C0-40F5-AE85-85C38ED9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EAB3E-0B7D-4C82-A6F3-75461B27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3672F-B7C2-4C95-929D-521AFBDB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77D82-57CD-467D-A1D1-EB6E807F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414E5-0C05-4078-B4DB-ED4957A8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FAD18-FEB1-44B1-BB33-01048491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66BC1-A217-4540-8F53-81FC73E7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9B269-DB05-414A-9DBE-DCF3512B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ECFB5-6691-4302-9B99-A7FCFD1E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EF2B1-D454-43CE-962B-AEB28260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96F5-D952-4597-A9B0-88006291FA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8C2E3B19-E54C-497D-B5EC-86F25CCE3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A29C-5B54-4F65-817F-A1BDC183D5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3C93-633F-4DB4-AA20-FE0DD70B7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48FA-FA6A-4BDE-9906-DB9F913A11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03DB-1C09-4C58-BCD5-2EF0B5307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97B5-6E27-433E-A72F-EB9473B502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AF0F-B62D-4C70-97C7-78C16BDDD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A1A6-08F9-4359-8CC6-4875A2F36E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348C-C5E4-49C8-87E6-7F7DBB061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489F-9CD5-44DD-B84D-0FBB704637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8283-E4B9-4CA5-A653-CEA1EC858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FC92-9966-433B-BF8B-7649D3FC4C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FECC-2799-4DBA-BBDE-C4B0F4221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184F-3BC3-4BDB-BABD-5CA9A17249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540C-F225-482B-BA6A-9B8CF525F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B841-70A6-476F-A438-42FE00774D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9B64-579D-43CA-89FE-05EA40B72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585B-CACF-48D1-BBBC-8515B28336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A92F-4769-4EFE-A6E5-C67E687FF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4A43-F1B0-4D15-87AA-557C0291EE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6AB5-C532-4A60-86CE-E7D36DABB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5B52-485E-45B2-A14E-98BDADF7BF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C07C-3BEA-46E3-B6E5-E357D68F2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Data Requirements For Calculating Geomagnetically Induced Current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S Meeting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rch 3,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ichael Jurice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GDTF Chair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E157-0053-4DE1-806E-174A68E36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s Substation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6A73-6397-49F0-8D8A-AEE79388E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239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s Substation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5A1F-3724-4257-A40F-7BCDF566F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ormer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, J, K, CKT, WRI, WRJ, WRK, GICBDI, GICBGJ, GICBDK, VECGRP, CORE, KFACTOR, GRDWRI, GRDWRJ, GRDWRK, TMODE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ooter Placeholder 2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48B8-C56B-46D8-8BE7-6CF25F0EC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609480" y="1600200"/>
          <a:ext cx="8077320" cy="4846680"/>
        </p:xfrm>
        <a:graphic>
          <a:graphicData uri="http://schemas.openxmlformats.org/drawingml/2006/table">
            <a:tbl>
              <a:tblPr/>
              <a:tblGrid>
                <a:gridCol w="1371600"/>
                <a:gridCol w="6705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ing Bus Number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ing Bus Number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ing Bus Number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K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phanumeric Circuit Ident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 Resistance of Winding 1 in ohms/phase. When WRI is not specified, load flow data resistance is us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 Resistance of Winding 2 in ohms/phase. When WRJ is not specified, load flow data resistance is us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 Resistance of Winding 3 in ohms/phase. When WRK is not specified, load flow data resistance is us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CB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C blocking device in neutral of Winding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CBD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C blocking device in neutral of Winding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CB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C blocking device in neutral of Winding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CG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phanumeric identifier specifying vector group based on transformer winding grounding connections and phase ang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cores. This data used to calculate transformer reactive power loss from GIC flowing in wi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FA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tor to calculate transformer reactive power loss from GIC flowing through winding (MVAR/AM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DW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ing 1 grounding DC resistance in oh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DWR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ing 2 grounding DC resistance in oh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DW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ing 3 grounding DC resistance in oh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ormer Model in GIC DC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sp>
        <p:nvSpPr>
          <p:cNvPr id="550" name="TextBox 7"/>
          <p:cNvSpPr/>
          <p:nvPr/>
        </p:nvSpPr>
        <p:spPr>
          <a:xfrm>
            <a:off x="-1219320" y="0"/>
            <a:ext cx="184320" cy="36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s Fixed Shunt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, ID, R, R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FF3A-FFFD-4EFD-8B88-E1A32A75A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533520" y="2133720"/>
          <a:ext cx="8076960" cy="1817640"/>
        </p:xfrm>
        <a:graphic>
          <a:graphicData uri="http://schemas.openxmlformats.org/drawingml/2006/table">
            <a:tbl>
              <a:tblPr/>
              <a:tblGrid>
                <a:gridCol w="1371600"/>
                <a:gridCol w="670536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phanumeric shunt 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C resistance in ohm/pha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ing DC resistance in oh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sp>
        <p:nvSpPr>
          <p:cNvPr id="556" name="TextBox 7"/>
          <p:cNvSpPr/>
          <p:nvPr/>
        </p:nvSpPr>
        <p:spPr>
          <a:xfrm>
            <a:off x="-1219320" y="0"/>
            <a:ext cx="184320" cy="36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nch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, J, CKT, RBRN, INDVP, INDV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5994-A7E8-4CAC-BF17-525351156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533520" y="2133720"/>
          <a:ext cx="8076960" cy="2903400"/>
        </p:xfrm>
        <a:graphic>
          <a:graphicData uri="http://schemas.openxmlformats.org/drawingml/2006/table">
            <a:tbl>
              <a:tblPr/>
              <a:tblGrid>
                <a:gridCol w="1371600"/>
                <a:gridCol w="6705360"/>
              </a:tblGrid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nch from bus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nch to bus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phanumeric branch circuit identif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B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nch DC resistance in ohms/phase.  When RBRN is not specified, load flow data branch resistance is used as 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V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part of total branch GMD induced electric field in vol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V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inary part of total branch GMD induced electric field in volt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sp>
        <p:nvSpPr>
          <p:cNvPr id="562" name="TextBox 7"/>
          <p:cNvSpPr/>
          <p:nvPr/>
        </p:nvSpPr>
        <p:spPr>
          <a:xfrm>
            <a:off x="-1219320" y="0"/>
            <a:ext cx="184320" cy="36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r Earth Model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ME, BETAFTR, DESC, RESISTIVITY1, THICKNESS1, RESISTIVITYn, THICKNESS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B383-BDEE-4B2E-8E10-60EEA37E8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533520" y="2286000"/>
          <a:ext cx="8076960" cy="3309840"/>
        </p:xfrm>
        <a:graphic>
          <a:graphicData uri="http://schemas.openxmlformats.org/drawingml/2006/table">
            <a:tbl>
              <a:tblPr/>
              <a:tblGrid>
                <a:gridCol w="1447560"/>
                <a:gridCol w="6629400"/>
              </a:tblGrid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phanumeric identifier assigned to this earth mode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F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th Model scaling factor used when calculating branch induced electric field for Benchmark GMD ev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 of the earth mode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STIVIT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yer 1 Resistivity in ohm-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CKNESS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yer 1 Thickness in k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STIVITY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h Layer Resistivity in ohm-m.  Up to 25 layers allow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CKNE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h Layer Thickness in km. Up to 25 layers allow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sp>
        <p:nvSpPr>
          <p:cNvPr id="568" name="TextBox 7"/>
          <p:cNvSpPr/>
          <p:nvPr/>
        </p:nvSpPr>
        <p:spPr>
          <a:xfrm>
            <a:off x="-1219320" y="0"/>
            <a:ext cx="184320" cy="36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Data Versus Actual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ware developer used actual data to develop default data which is assumed conservativ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ault data may produce higher GICs and reactive loading than actu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ienced TSPs highly recommend actu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ltants highly recommend actu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GDTF has decided to use actual data, where possible   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25AC-C68A-4865-9E49-23DA8BB21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ERC March 1, 2016 Technical Confer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ERC commissioners and staff participat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enchmark GMD event and geomagnetic field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arth conductivity mod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armonics and vibrational effects during benchmark GMD eve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lection of 75 Ampere threshold for thermal assessme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Modeling capabilities regarding transformer thermal assessments    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on-uniform geoelectric field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rrective action pla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urrent state of monitor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otential for additional monitor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mprovement in modeling and analysis tool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B525-3C9D-4AB0-8360-02C1CEC7A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ERC March 1, 2016 Technical Conference continu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opt standard as proposed and revise as better data and analysis techniques indic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ke benchmark event more severe in standar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wer GIC threshold for transformer thermal assessment such as 15 Amperes in standar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actual GIC data to validate benchmark ev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 monitoring of GIC geomagnetic fields and geoelectric fiel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 earth mod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real-time GIC readings to control roo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multiple GMD scenarios to determine the system’s streng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 GIC measurements with publ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E8A9-6DC4-4F7E-A865-C80CD8F99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Modeling 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ne 1 –  TSPs and REs start providing data to ERCOT 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vember 1 – All data must be submitted to ERC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00AC-C9B7-4FB0-8C07-196E16F89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Arial"/>
              </a:rPr>
              <a:t>Space St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" descr="File:Magnetosphere rendition.jpg"/>
          <p:cNvPicPr/>
          <p:nvPr/>
        </p:nvPicPr>
        <p:blipFill>
          <a:blip r:embed="rId1"/>
          <a:stretch/>
        </p:blipFill>
        <p:spPr>
          <a:xfrm>
            <a:off x="217440" y="1295280"/>
            <a:ext cx="8736120" cy="4772160"/>
          </a:xfrm>
          <a:prstGeom prst="rect">
            <a:avLst/>
          </a:prstGeom>
          <a:ln w="0">
            <a:noFill/>
          </a:ln>
        </p:spPr>
      </p:pic>
      <p:sp>
        <p:nvSpPr>
          <p:cNvPr id="5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C64C-1199-437B-817B-32C989E0B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GDTF Me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ch 21,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 Center room 206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:30 a.m. to 3:00 p.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modeling and other topics   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all TSPs and Resource Ent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5F3B-E7EB-46C3-8BFA-4A5D857F1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2" descr="question-mark3a.jpg"/>
          <p:cNvPicPr/>
          <p:nvPr/>
        </p:nvPicPr>
        <p:blipFill>
          <a:blip r:embed="rId1"/>
          <a:stretch/>
        </p:blipFill>
        <p:spPr>
          <a:xfrm>
            <a:off x="3230640" y="2200320"/>
            <a:ext cx="2682720" cy="3328920"/>
          </a:xfrm>
          <a:prstGeom prst="rect">
            <a:avLst/>
          </a:prstGeom>
          <a:ln w="0">
            <a:noFill/>
          </a:ln>
        </p:spPr>
      </p:pic>
      <p:sp>
        <p:nvSpPr>
          <p:cNvPr id="5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F819-A5F5-40BE-BE29-2DABC3DBC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What are Geomagnetically Induced Currents (GIC)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ly charged cloud of plasma is ejected from the sun – coronal mass ejection (CM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of the plasma enters the earth’s ionosphe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lectro-magnetic interaction with earth’s magnetic field results in time varying electrojets of current in the ionosphere producing the auror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fluctuating electrojet currents induce voltages and currents in the earth’s crust and electric transmission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585D-9AB4-49B6-87FD-B9CD3CDC1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What are Geomagnetically Induced Currents (GIC)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uced voltage in the earth causes GIC in the li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rrents are “zero sequence” “quasi dc” curr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displaced by 120 degrees like 60 Hz load curr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flow the currents need a path to circul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th is typically provided by transformers and shunt grounding conne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SPs and Resource Entities are aff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DB10-6179-456C-8439-9269BA1C9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Major Geomagnetic Storms in Pas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684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859 Carrington St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maged telegraph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 operated without damaged batte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arks shocked operators and caused fi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sted for 12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921 St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severe than 1859, but still damaged telegraph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ch 13, 1989 St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/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trength of 1921 st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maged transformers in USA and other count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ackout in Canada (Hydro Quebec/Hydro One) in 92 sec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uroral zone expanded to Gulf Coa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A11C-1A2A-45FF-9592-42BE3B4BF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C data files for PSS/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Content Placeholder 5" descr=""/>
          <p:cNvPicPr/>
          <p:nvPr/>
        </p:nvPicPr>
        <p:blipFill>
          <a:blip r:embed="rId1"/>
          <a:stretch/>
        </p:blipFill>
        <p:spPr>
          <a:xfrm>
            <a:off x="450720" y="1127160"/>
            <a:ext cx="8321760" cy="5286240"/>
          </a:xfrm>
          <a:prstGeom prst="rect">
            <a:avLst/>
          </a:prstGeom>
          <a:ln w="0">
            <a:noFill/>
          </a:ln>
        </p:spPr>
      </p:pic>
      <p:sp>
        <p:nvSpPr>
          <p:cNvPr id="520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94F9-654F-43F0-A9FB-FB330780F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C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quired data from TSPs and Resource Ent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ographic location of substations (longitude and latitud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nding resistance data for subs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 substation numbers (allows all substation components in one location to be grouped together into one subst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C resistance of transformer wind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ding grounding dc resis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GIC blocking device in the grounding conn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ormer vector gro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 Shu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C resistance of transmission 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mber of cores in transform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 Fact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C2B3-45DA-4522-96DB-45A51942E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station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, NAME, UNIT, LATITUDE, LONGITUDE, RG, EARTHMD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A038-BA78-411C-8B23-6059D4217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533520" y="2133720"/>
          <a:ext cx="8076960" cy="4060800"/>
        </p:xfrm>
        <a:graphic>
          <a:graphicData uri="http://schemas.openxmlformats.org/drawingml/2006/table">
            <a:tbl>
              <a:tblPr/>
              <a:tblGrid>
                <a:gridCol w="1371600"/>
                <a:gridCol w="6705360"/>
              </a:tblGrid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t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tio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 for geophysical location (latitude and longitude)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0 for degr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is time, only allowed unit for latitude and longitude is degre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I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tion latitude, positive for North and negative for S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I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tion longitude, positive for East and negative for W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tion grounding resistanc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ault =0.1 o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RG&lt;=0.0 or RG&gt;=99.0, assumed that substation is ungroun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THM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 of the Earth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  <p:sp>
        <p:nvSpPr>
          <p:cNvPr id="531" name="TextBox 7"/>
          <p:cNvSpPr/>
          <p:nvPr/>
        </p:nvSpPr>
        <p:spPr>
          <a:xfrm>
            <a:off x="-1219320" y="0"/>
            <a:ext cx="184320" cy="36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s Substation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NUM, SUBN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3/3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0379-A989-4305-A515-6C6F71CA9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533520" y="2057400"/>
          <a:ext cx="8076960" cy="3576600"/>
        </p:xfrm>
        <a:graphic>
          <a:graphicData uri="http://schemas.openxmlformats.org/drawingml/2006/table">
            <a:tbl>
              <a:tblPr/>
              <a:tblGrid>
                <a:gridCol w="1371600"/>
                <a:gridCol w="670536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tion Number.  This is a substation number to which bus “BUSNUM” belongs to.  The following restrictions apply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buses connected by a transmission line (non-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) must be in different substa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buses connected by a two winding transformer must be in same subst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ree buses connected by a three winding transformer must be in same subst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buses connected by zero impedance line must have same substation numb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Mike Juricek</cp:lastModifiedBy>
  <dcterms:modified xsi:type="dcterms:W3CDTF">2016-03-01T22:16:00Z</dcterms:modified>
  <cp:revision>215</cp:revision>
  <dc:subject/>
  <dc:title>PGDTF Update to ROS</dc:title>
</cp:coreProperties>
</file>