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87E8-495B-4A5C-9C6F-58843DD55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734B-3713-4AD9-ABE2-170D1F4F82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C463-20E5-43AB-8377-906CE59477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8688-1CD0-435B-B827-EB92480BD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9F84-ECFC-4C29-8E6F-8C2F4D1F31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86A7-8AED-4317-B786-B6E44A64CF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F26F-244E-4C0F-9C3D-60DCAECA8A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C8BB8F6-171A-4AEC-90E4-5FD45EE533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B4399B-CF3B-4D4D-9DE0-D90ED14EF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92E56D1-1F54-4F44-B149-63688CB1985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56F6B06-5BBC-44B5-A2E6-818F68412F5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98FCB3A-BE2B-414A-BE2D-C47DA97FAD4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44882D-E452-403D-AAA4-3C361C79FBB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33C92F5-9CE2-4C25-937E-A5B9BB24FC5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67DAAE-2444-461A-95BB-23BED3F413A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E76C55F-94F7-48E6-833D-E98F66ABE8A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56397FF-2949-4C1B-A7AF-F2B3AED2687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34FAD03-DA2E-4CEB-B695-46B52EAF0D1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4841EF6-BAC5-4D03-81E6-D270AD193C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4818B21-1554-4E84-A1E4-37E73CD32D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5B5D7-B539-422F-AD87-32A42392D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01C14-3944-43D3-AAFA-27E354897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1EEC1-16EE-4020-AF81-29C543FE0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2E38D-D57F-4E2D-A09B-F32C0FFE8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D3059-F7A6-46A2-9B5A-4AC310304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21A61-96D7-444A-A74E-508BEC61B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17F58-77B5-46F9-AE00-A2FB46D4F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8F9746-399B-4243-B0C9-E949358AD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D6B17-2713-468E-B3DD-7DA6A3700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706C1-A653-4908-8473-08BEFEFA5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C757D-A76E-438E-AEF0-4C64EBA81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D690C-B1D6-4383-8905-2F3D7A95E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E5E3A-C304-4BAB-86DB-FE3CCAE6C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7478E4-90B4-451A-B34C-224D2AE39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959CF8-841E-490C-A77E-AA39F3AD82E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CE0D48-03DD-4E7F-9168-0BB87FCF1C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46FB2B-942F-45D4-8885-4CF95C540A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100B9CA-7424-48F0-BC5A-89CB54F19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87EFBF-8E14-4A10-A46F-5356874398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EA6658-152C-47A3-AA87-A64796599D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5327F2-ABB5-4369-A288-C98ABF60CA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BD66C0-A0F7-42BF-92F4-949051EE71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55DD38-ACEA-4407-9127-E455E5F76F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202C4D-FCF5-474D-A22B-D53C5CA1E4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4D2B1D-D0C7-4457-887C-6B54F9C734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28037B-1377-492A-878E-CE75E7284ED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1739DFF-CF27-4DCF-8098-F1F7D035013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A48E705-7CBE-40B0-8E16-26BFA0F2228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2CB2D29-20CC-444D-B7F8-959BFC2AA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BC19444-6391-4FA4-8694-670EF35EA2D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061759A-417A-46A6-9F10-5B7EA53F86F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57A27C-DF61-4A78-8815-2262C1C21E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370A3C3-0F95-4F40-BF63-CE87C3737BA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FF7481A-E4B8-45BF-82A5-C18B8782EEE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0951B3-BD23-43A4-9AAF-E980CB5846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2862E6-1C19-4775-85C4-DF84DDE5DD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FB9A7E-381D-4654-AE32-9F380623EC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AC7FC02-F11A-4DB3-99DD-E3054C2AA5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335300C-2151-4532-BE44-98456257A92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B82B9BD-5231-442E-8616-9285AC55B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7B8D152-F667-44BA-9554-9FA9C163A32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8B9D5DA-E691-417A-931B-267E16A2D93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8B716D2-A120-42EF-9C52-150D5EC851A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B29A0A-0DEE-46B7-96F2-6F622A94019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8E55181-9C49-4D0E-B9CD-96DCC04296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BE0D92C-8DCC-48E8-A568-DCEBA1B7BDB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21227E6-A8A6-473C-A407-3ECA104B1E7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6F86A7-9D7D-4C23-B952-10A0086D62D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F3E1A6-51D7-4D1C-9C48-B33215E2C07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8800EB-8290-4AEE-85F3-43DC4F7439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D02BE0-47B8-4A74-9CAB-5E5D8EAE4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B0CA67-01AB-4C2C-9972-23B69A16E5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04D918-9341-485D-84F7-72AEC32ED37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BE696D3-5E25-4379-BE23-42F52BF0F52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41D4338-E386-42E7-8ED2-A22AEC94C6B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D2183A-2BCA-4F67-BF30-A04BD1B0865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3C368E9-A955-4182-B306-E4BC6B0532C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1319F3-829A-4C37-B6F5-464FFBE0B8E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A498384-952C-4C95-9372-3B52CA83552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B55A2E-4407-470A-8512-523565AA542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A68D4A4-E669-4A72-A145-97FA0390B2D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4DDBB9-C6D1-4AAE-B502-8D328952C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5216A30-E689-42F7-9021-B13E37C8674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ECA500E-43CE-40D6-9401-02EC8670458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97F4933-1D9D-42B4-8358-518A287F82F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C9A921B-B74C-4FCB-8CC7-56769586316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A773050-C415-4557-BFFD-372F90792B0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6D1132B-D25C-4DCE-9BB2-8EF7ECB0A86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FC63F17-5B58-4F50-B34A-00F1E2808AF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3CC1C78-CB08-451E-BF5F-27695D9F6E2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63850AC-EA9C-416B-B934-9BA6ACDA99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8190F1-808F-457D-8AD0-8CBEFA8C0F8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4A0217-BFC4-4FCA-B1C7-7E4EF9FE4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F50E5BA-8AF9-4CA2-8995-181AF8130B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8400D2-FDC1-4B5C-84AD-A2F5C501ADF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F46783-098E-4A73-99F8-48705EE1C38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E87689-1095-4A3F-A48A-3D4CC88F29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AD2C99B-6EFF-46FF-9D05-B0AD52E774B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25BEBE6-C92B-46CD-BA92-A1597A81ED9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F68DE82-0E5B-4706-9A7B-01AE0909D74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348E2AB-587F-41F0-89A8-36E900462A9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8932AE6-C14B-42F5-B26A-87F229AA38E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581F82-1516-46A5-9988-D88582267E9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2E73-B5F9-4353-A338-BDA5D0A3B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6418-1110-4389-B003-696AA53C7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5D79-3AAF-44BD-B0D3-8D70E182662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5ADD-314A-4CA8-BF8D-E18F68C8972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4975-3631-4314-BD63-89CFE7A66EC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D9F1-8EDB-4B75-BA81-D8234FEB76B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3FB9-4007-48C0-830A-34F223D41CA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314D-5B9A-4BE5-AD98-4BA5E5C4614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087C-7BD7-46F2-924B-13B1F07CEAA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rcot.com/content/wcm/key_documents_lists/76821/09._ROS_Update_to_TAC_02252016.ppt" TargetMode="External"/><Relationship Id="rId2" Type="http://schemas.openxmlformats.org/officeDocument/2006/relationships/hyperlink" Target="http://www.ercot.com/content/wcm/key_documents_lists/76821/09._Draft_2016_ROS_Goals.doc" TargetMode="Externa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ercot.com/content/wcm/key_documents_lists/76821/10._WMS_Update_to_TAC_022516.ppt" TargetMode="External"/><Relationship Id="rId2" Type="http://schemas.openxmlformats.org/officeDocument/2006/relationships/hyperlink" Target="http://www.ercot.com/content/wcm/key_documents_lists/76821/10._Draft_2016_WMS_Goals.doc" TargetMode="External"/><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ercot.com/content/wcm/key_documents_lists/76821/11._COPS_UPDATE_TO_TAC_022516.ppt" TargetMode="External"/><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rcot.com/content/wcm/key_documents_lists/76821/04._TAC_Dream_Report_022516.pdf" TargetMode="External"/><Relationship Id="rId2" Type="http://schemas.openxmlformats.org/officeDocument/2006/relationships/hyperlink" Target="http://www.ercot.com/content/wcm/key_documents_lists/76821/04._DREAM_TAC_Deck_022516_Final.pptx" TargetMode="External"/><Relationship Id="rId3" Type="http://schemas.openxmlformats.org/officeDocument/2006/relationships/hyperlink" Target="http://www.ercot.com/content/wcm/key_documents_lists/76821/04._DREAM_TAC_Deck_022516_Final.pptx" TargetMode="External"/><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rcot.com/content/wcm/key_documents_lists/76821/07._Draft_2016_PRS_Goals.doc"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February 25, 2016 </a:t>
            </a:r>
            <a:br>
              <a:rPr sz="2900"/>
            </a:br>
            <a:r>
              <a:rPr b="1" lang="en-US" sz="2900" spc="-1" strike="noStrike">
                <a:solidFill>
                  <a:srgbClr val="572314"/>
                </a:solidFill>
                <a:latin typeface="Gill Sans MT"/>
              </a:rPr>
              <a:t>Technical Advisory Committee (TAC) Update to RM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000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ch 1, 2016</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C Update to RMS</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9503-1A32-4A7C-9F71-0FFA6BCAA54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Tabled and/or Withdrawn Revisions</a:t>
            </a:r>
            <a:endParaRPr b="0" lang="en-US" sz="3200" spc="-1" strike="noStrike">
              <a:solidFill>
                <a:srgbClr val="572314"/>
              </a:solidFill>
              <a:latin typeface="Gill Sans MT"/>
            </a:endParaRPr>
          </a:p>
        </p:txBody>
      </p:sp>
      <p:sp>
        <p:nvSpPr>
          <p:cNvPr id="464" name=""/>
          <p:cNvSpPr txBox="1"/>
          <p:nvPr/>
        </p:nvSpPr>
        <p:spPr>
          <a:xfrm>
            <a:off x="838080" y="685800"/>
            <a:ext cx="83059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vision Request Previously Tabled:</a:t>
            </a:r>
            <a:r>
              <a:rPr b="1" lang="en-US" sz="2800" spc="-1" strike="noStrike">
                <a:solidFill>
                  <a:srgbClr val="c00000"/>
                </a:solidFill>
                <a:latin typeface="Gill Sans MT"/>
              </a:rPr>
              <a:t>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OGRR143</a:t>
            </a:r>
            <a:r>
              <a:rPr b="0" lang="en-US" sz="2400" spc="-1" strike="noStrike">
                <a:solidFill>
                  <a:srgbClr val="000000"/>
                </a:solidFill>
                <a:latin typeface="Gill Sans MT"/>
              </a:rPr>
              <a:t>, Alignment of Nodal Operating Guides with NERC Reliability Standard, BAL-001-TRE-1 –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28/16 TAC Meeting</a:t>
            </a:r>
            <a:r>
              <a:rPr b="0" lang="en-US" sz="2000" spc="-1" strike="noStrike">
                <a:solidFill>
                  <a:srgbClr val="000000"/>
                </a:solidFill>
                <a:latin typeface="Gill Sans MT"/>
              </a:rPr>
              <a:t>:  Recommendation to Table to allow NOGRR143 to sync-up with NPRR691 scheduled to be considered by the Board during their February 9th meeting---                                   Motion to Table was Unanimous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25/16 TAC Meeting</a:t>
            </a:r>
            <a:r>
              <a:rPr b="0" lang="en-US" sz="2000" spc="-1" strike="noStrike">
                <a:solidFill>
                  <a:srgbClr val="000000"/>
                </a:solidFill>
                <a:latin typeface="Gill Sans MT"/>
              </a:rPr>
              <a:t>:  </a:t>
            </a:r>
            <a:r>
              <a:rPr b="1" lang="en-US" sz="2000" spc="-1" strike="noStrike">
                <a:solidFill>
                  <a:srgbClr val="c00000"/>
                </a:solidFill>
                <a:latin typeface="Gill Sans MT"/>
              </a:rPr>
              <a:t> Unanimously Approved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A9AF-056F-40B2-AFAA-136F9BE2A6C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http://www.ercot.com/content/wcm/key_documents_lists/76821/09._ROS_Update_to_TAC_02252016.pp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6 ROS Goals (Vote)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2"/>
              </a:rPr>
              <a:t>http://www.ercot.com/content/wcm/key_documents_lists/76821/09._Draft_2016_ROS_Goals.doc</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Unanimously Approved by TAC</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E3A5-8DF1-4EBD-9114-33D9E985E47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72"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O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Wholesale Market Subcommittee (WM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http://www.ercot.com/content/wcm/key_documents_lists/76821/10._WMS_Update_to_TAC_022516.pp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6 WMS Goals (Vote)</a:t>
            </a:r>
            <a:endParaRPr b="0" lang="en-US" sz="2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2"/>
              </a:rPr>
              <a:t>http://www.ercot.com/content/wcm/key_documents_lists/76821/10._Draft_2016_WMS_Goals.doc</a:t>
            </a: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Unanimously Approved by TAC</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gional Haze Workshop Discussion: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AC Leadership recommended a joint WMS/ROS workshop to develop future market plans that may be necessary to support Regional Haz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7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E0F4-97A2-4E36-8A7F-7E8F9EE7F3E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77"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WM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914400" y="685800"/>
            <a:ext cx="815328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mmercial Operations Subcommittee (COP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76821/11._COPS_UPDATE_TO_TAC_022516.pp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PS Procedures (Vote)</a:t>
            </a:r>
            <a:endParaRPr b="0" lang="en-US" sz="2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76821/11._COPS_Procedures_021016_MDWG_Change.doc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by TAC</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6 COPS Goals (Vote)</a:t>
            </a:r>
            <a:endParaRPr b="0" lang="en-US" sz="2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76821/11._COPS_2016_GOALS_Draft_021016.docx</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by TAC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7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8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F34B-B830-414B-9918-D09261A406F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82"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COPS Initiatives and Votes: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914400" y="685800"/>
            <a:ext cx="8229600" cy="55627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 Update </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76821/12._RMS_Update_to_TAC_02_25_16.ppt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19880" indent="-1609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19880" indent="-1609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19880" indent="-1609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AC Confirmed RMS 2016 Leadership </a:t>
            </a:r>
            <a:r>
              <a:rPr b="0" lang="en-US" sz="2800" spc="-1" strike="noStrike">
                <a:solidFill>
                  <a:srgbClr val="000000"/>
                </a:solidFill>
                <a:latin typeface="Gill Sans MT"/>
              </a:rPr>
              <a:t>(Vote)</a:t>
            </a:r>
            <a:endParaRPr b="0" lang="en-US" sz="28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athy Scott – Chair (CenterPoint Energy) </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becca Reed Zerwas – Vice Chair (NRG) </a:t>
            </a:r>
            <a:endParaRPr b="0" lang="en-US" sz="2400" spc="-1" strike="noStrike">
              <a:solidFill>
                <a:srgbClr val="000000"/>
              </a:solidFill>
              <a:latin typeface="Gill Sans MT"/>
            </a:endParaRPr>
          </a:p>
          <a:p>
            <a:pPr lvl="2" marL="823680" indent="-212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3680" indent="-212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3680" indent="-212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8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8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56CF-ABDA-4D0C-9BB4-5C131B26857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87" name="Title 1"/>
          <p:cNvSpPr/>
          <p:nvPr/>
        </p:nvSpPr>
        <p:spPr>
          <a:xfrm>
            <a:off x="1143000" y="-25704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RMS Initiatives and Votes  </a:t>
            </a:r>
            <a:endParaRPr b="0" lang="en-US" sz="4300" spc="-1" strike="noStrike">
              <a:solidFill>
                <a:srgbClr val="000000"/>
              </a:solidFill>
              <a:latin typeface="Arial"/>
            </a:endParaRPr>
          </a:p>
        </p:txBody>
      </p:sp>
      <p:graphicFrame>
        <p:nvGraphicFramePr>
          <p:cNvPr id="488" name="Object 2"/>
          <p:cNvGraphicFramePr/>
          <p:nvPr/>
        </p:nvGraphicFramePr>
        <p:xfrm>
          <a:off x="5715000" y="1676520"/>
          <a:ext cx="914400" cy="771480"/>
        </p:xfrm>
        <a:graphic>
          <a:graphicData uri="http://schemas.openxmlformats.org/presentationml/2006/ole">
            <p:oleObj progId="PowerPoint.Show.12" r:id="rId1" spid="">
              <p:embed/>
              <p:pic>
                <p:nvPicPr>
                  <p:cNvPr id="489" name="Object 2" descr=""/>
                  <p:cNvPicPr/>
                  <p:nvPr/>
                </p:nvPicPr>
                <p:blipFill>
                  <a:blip r:embed="rId2"/>
                  <a:stretch/>
                </p:blipFill>
                <p:spPr>
                  <a:xfrm>
                    <a:off x="5715000" y="16765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990720" y="-1526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600" spc="-1" strike="noStrike">
                <a:solidFill>
                  <a:srgbClr val="572314"/>
                </a:solidFill>
                <a:latin typeface="Gill Sans MT"/>
              </a:rPr>
              <a:t>Ancillary Services Re-design Update </a:t>
            </a:r>
            <a:endParaRPr b="0" lang="en-US" sz="3600" spc="-1" strike="noStrike">
              <a:solidFill>
                <a:srgbClr val="572314"/>
              </a:solidFill>
              <a:latin typeface="Gill Sans MT"/>
            </a:endParaRPr>
          </a:p>
        </p:txBody>
      </p:sp>
      <p:sp>
        <p:nvSpPr>
          <p:cNvPr id="491" name=""/>
          <p:cNvSpPr txBox="1"/>
          <p:nvPr/>
        </p:nvSpPr>
        <p:spPr>
          <a:xfrm>
            <a:off x="990720" y="685440"/>
            <a:ext cx="815328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AS (NPRR 667)</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RCOT is still reviewing comments and believe NPRR667 have some key concepts.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w Ancillary Services NPRR756 is currently at PRS and wasn’t eligible for discussion at PRS on 2/11/16 since it was still in the 21 Day comment period.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AC Leadership stated and TAC members agreed that this topic should be removed from TAC’s agenda for a monthly update and allow NPRR667 and NPRR756 to work through the normal market processes.  </a:t>
            </a:r>
            <a:endParaRPr b="0" lang="en-US" sz="2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9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9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9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90FB-0C78-4C91-9199-99AC5621622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572314"/>
                </a:solidFill>
                <a:latin typeface="Gill Sans MT"/>
              </a:rPr>
              <a:t>ERCOT </a:t>
            </a:r>
            <a:r>
              <a:rPr b="1" lang="en-US" sz="2800" spc="-1" strike="noStrike">
                <a:solidFill>
                  <a:srgbClr val="572314"/>
                </a:solidFill>
                <a:latin typeface="Gill Sans MT"/>
              </a:rPr>
              <a:t>Operations, Planning, and IT Report</a:t>
            </a:r>
            <a:br>
              <a:rPr sz="3200"/>
            </a:br>
            <a:endParaRPr b="0" lang="en-US" sz="2800" spc="-1" strike="noStrike">
              <a:solidFill>
                <a:srgbClr val="572314"/>
              </a:solidFill>
              <a:latin typeface="Gill Sans MT"/>
            </a:endParaRPr>
          </a:p>
        </p:txBody>
      </p:sp>
      <p:sp>
        <p:nvSpPr>
          <p:cNvPr id="496" name=""/>
          <p:cNvSpPr txBox="1"/>
          <p:nvPr/>
        </p:nvSpPr>
        <p:spPr>
          <a:xfrm>
            <a:off x="990720" y="762120"/>
            <a:ext cx="8076960" cy="5410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ext Steps on Reserve Discount Factor and 2016 Ancillary Service Methodolog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76821/14._RDF_and_AS_Methodology_Changes.pptx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016 Seasonal Adjustment Facto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76821/14._TAC_2016_02_25_Item_14_2016_Seasonal_Adjustment_Factor_v2.pptx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25/16 TAC Discussion:</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C</a:t>
            </a:r>
            <a:r>
              <a:rPr b="1" lang="en-US" sz="2000" spc="-1" strike="noStrike">
                <a:solidFill>
                  <a:srgbClr val="000000"/>
                </a:solidFill>
                <a:latin typeface="Gill Sans MT"/>
              </a:rPr>
              <a:t> </a:t>
            </a:r>
            <a:r>
              <a:rPr b="0" lang="en-US" sz="2000" spc="-1" strike="noStrike">
                <a:solidFill>
                  <a:srgbClr val="000000"/>
                </a:solidFill>
                <a:latin typeface="Gill Sans MT"/>
              </a:rPr>
              <a:t>Leadership</a:t>
            </a:r>
            <a:r>
              <a:rPr b="1" lang="en-US" sz="2000" spc="-1" strike="noStrike">
                <a:solidFill>
                  <a:srgbClr val="000000"/>
                </a:solidFill>
                <a:latin typeface="Gill Sans MT"/>
              </a:rPr>
              <a:t> </a:t>
            </a:r>
            <a:r>
              <a:rPr b="0" lang="en-US" sz="2000" spc="-1" strike="noStrike">
                <a:solidFill>
                  <a:srgbClr val="000000"/>
                </a:solidFill>
                <a:latin typeface="Gill Sans MT"/>
              </a:rPr>
              <a:t>stated the Market needs to take a holistic view of these processes and what changes should be made going forward.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will be reporting their updates to ROS and QMWG, however, TAC Leadership requested that WMS also include this topic on their agenda.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9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9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9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E90B-87D0-4127-8CBA-9C3C9D3F284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50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682C-ECCD-4E5B-9D77-9B2BBBF363F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50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50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pic>
        <p:nvPicPr>
          <p:cNvPr id="504" name="Content Placeholder 4" descr=""/>
          <p:cNvPicPr/>
          <p:nvPr/>
        </p:nvPicPr>
        <p:blipFill>
          <a:blip r:embed="rId1"/>
          <a:stretch/>
        </p:blipFill>
        <p:spPr>
          <a:xfrm>
            <a:off x="1676520" y="838080"/>
            <a:ext cx="6705360" cy="509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6 Leadership Voting</a:t>
            </a:r>
            <a:endParaRPr b="0" lang="en-US" sz="4300" spc="-1" strike="noStrike">
              <a:solidFill>
                <a:srgbClr val="572314"/>
              </a:solidFill>
              <a:latin typeface="Gill Sans MT"/>
            </a:endParaRPr>
          </a:p>
        </p:txBody>
      </p:sp>
      <p:sp>
        <p:nvSpPr>
          <p:cNvPr id="424" name=""/>
          <p:cNvSpPr txBox="1"/>
          <p:nvPr/>
        </p:nvSpPr>
        <p:spPr>
          <a:xfrm>
            <a:off x="990720" y="685800"/>
            <a:ext cx="822960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chnical Advisory Committee 2016 TAC Leadership </a:t>
            </a:r>
            <a:r>
              <a:rPr b="1" lang="en-US" sz="2400" spc="-1" strike="noStrike">
                <a:solidFill>
                  <a:srgbClr val="c00000"/>
                </a:solidFill>
                <a:latin typeface="Gill Sans MT"/>
              </a:rPr>
              <a:t>Approved</a:t>
            </a:r>
            <a:r>
              <a:rPr b="1" lang="en-US" sz="2400" spc="-1" strike="noStrike">
                <a:solidFill>
                  <a:srgbClr val="000000"/>
                </a:solidFill>
                <a:latin typeface="Gill Sans MT"/>
              </a:rPr>
              <a:t> by TAC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Vice Chair: </a:t>
            </a:r>
            <a:r>
              <a:rPr b="1" lang="en-US" sz="2200" spc="-1" strike="noStrike">
                <a:solidFill>
                  <a:srgbClr val="c00000"/>
                </a:solidFill>
                <a:latin typeface="Gill Sans MT"/>
              </a:rPr>
              <a:t>	</a:t>
            </a:r>
            <a:r>
              <a:rPr b="1" lang="en-US" sz="2200" spc="-1" strike="noStrike">
                <a:solidFill>
                  <a:srgbClr val="c00000"/>
                </a:solidFill>
                <a:latin typeface="Gill Sans MT"/>
              </a:rPr>
              <a:t>Adrianne Brandt</a:t>
            </a:r>
            <a:r>
              <a:rPr b="0" lang="en-US" sz="2200" spc="-1" strike="noStrike">
                <a:solidFill>
                  <a:srgbClr val="000000"/>
                </a:solidFill>
                <a:latin typeface="Gill Sans MT"/>
              </a:rPr>
              <a:t>,  CPS</a:t>
            </a:r>
            <a:endParaRPr b="0" lang="en-US" sz="2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te</a:t>
            </a:r>
            <a:r>
              <a:rPr b="0" lang="en-US" sz="2000" spc="-1" strike="noStrike">
                <a:solidFill>
                  <a:srgbClr val="000000"/>
                </a:solidFill>
                <a:latin typeface="Gill Sans MT"/>
              </a:rPr>
              <a:t>:  Vote was retaken by TAC membership due to Adrianne’s company change from Austin Energy to CPS Energy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Subcommittee (RMS) Leadership Unanimously Confirmed by TAC: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hair: </a:t>
            </a:r>
            <a:r>
              <a:rPr b="0" lang="en-US" sz="2200" spc="-1" strike="noStrike">
                <a:solidFill>
                  <a:srgbClr val="000000"/>
                </a:solidFill>
                <a:latin typeface="Gill Sans MT"/>
              </a:rPr>
              <a:t>	</a:t>
            </a:r>
            <a:r>
              <a:rPr b="0" lang="en-US" sz="2200" spc="-1" strike="noStrike">
                <a:solidFill>
                  <a:srgbClr val="000000"/>
                </a:solidFill>
                <a:latin typeface="Gill Sans MT"/>
              </a:rPr>
              <a:t>	</a:t>
            </a:r>
            <a:r>
              <a:rPr b="1" lang="en-US" sz="2200" spc="-1" strike="noStrike">
                <a:solidFill>
                  <a:srgbClr val="c00000"/>
                </a:solidFill>
                <a:latin typeface="Gill Sans MT"/>
              </a:rPr>
              <a:t>Kathy Scott</a:t>
            </a:r>
            <a:r>
              <a:rPr b="1" lang="en-US" sz="2200" spc="-1" strike="noStrike">
                <a:solidFill>
                  <a:srgbClr val="000000"/>
                </a:solidFill>
                <a:latin typeface="Gill Sans MT"/>
              </a:rPr>
              <a:t>,</a:t>
            </a:r>
            <a:r>
              <a:rPr b="0" lang="en-US" sz="2200" spc="-1" strike="noStrike">
                <a:solidFill>
                  <a:srgbClr val="000000"/>
                </a:solidFill>
                <a:latin typeface="Gill Sans MT"/>
              </a:rPr>
              <a:t> CenterPoint Energy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Vice Chair</a:t>
            </a:r>
            <a:r>
              <a:rPr b="0" lang="en-US" sz="2200" spc="-1" strike="noStrike">
                <a:solidFill>
                  <a:srgbClr val="000000"/>
                </a:solidFill>
                <a:latin typeface="Gill Sans MT"/>
              </a:rPr>
              <a:t>: </a:t>
            </a:r>
            <a:r>
              <a:rPr b="0" lang="en-US" sz="2200" spc="-1" strike="noStrike">
                <a:solidFill>
                  <a:srgbClr val="000000"/>
                </a:solidFill>
                <a:latin typeface="Gill Sans MT"/>
              </a:rPr>
              <a:t>	</a:t>
            </a:r>
            <a:r>
              <a:rPr b="1" lang="en-US" sz="2200" spc="-1" strike="noStrike">
                <a:solidFill>
                  <a:srgbClr val="c00000"/>
                </a:solidFill>
                <a:latin typeface="Gill Sans MT"/>
              </a:rPr>
              <a:t>Rebecca Reed Zerwas</a:t>
            </a:r>
            <a:r>
              <a:rPr b="0" lang="en-US" sz="2200" spc="-1" strike="noStrike">
                <a:solidFill>
                  <a:srgbClr val="000000"/>
                </a:solidFill>
                <a:latin typeface="Gill Sans MT"/>
              </a:rPr>
              <a:t>, NRG</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B84F-4CB6-47A9-925D-3CB081CD5D4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1526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600" spc="-1" strike="noStrike">
                <a:solidFill>
                  <a:srgbClr val="572314"/>
                </a:solidFill>
                <a:latin typeface="Gill Sans MT"/>
              </a:rPr>
              <a:t>DREAM Taskforce Update </a:t>
            </a:r>
            <a:endParaRPr b="0" lang="en-US" sz="3600" spc="-1" strike="noStrike">
              <a:solidFill>
                <a:srgbClr val="572314"/>
              </a:solidFill>
              <a:latin typeface="Gill Sans MT"/>
            </a:endParaRPr>
          </a:p>
        </p:txBody>
      </p:sp>
      <p:sp>
        <p:nvSpPr>
          <p:cNvPr id="429" name=""/>
          <p:cNvSpPr txBox="1"/>
          <p:nvPr/>
        </p:nvSpPr>
        <p:spPr>
          <a:xfrm>
            <a:off x="952560" y="685440"/>
            <a:ext cx="8153280" cy="57150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stributed Resource Energy and Ancillaries Market Taskforce (DREAM)</a:t>
            </a:r>
            <a:endParaRPr b="0" lang="en-US" sz="2800" spc="-1" strike="noStrike">
              <a:solidFill>
                <a:srgbClr val="000000"/>
              </a:solidFill>
              <a:latin typeface="Gill Sans MT"/>
            </a:endParaRPr>
          </a:p>
          <a:p>
            <a:pPr lvl="3" marL="990000" indent="-25704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76821/04._TAC_Dream_Report_022516.pdf</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3" marL="990000" indent="-25704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2"/>
              </a:rPr>
              <a:t>http</a:t>
            </a:r>
            <a:r>
              <a:rPr b="0" lang="en-US" sz="1600" spc="-1" strike="noStrike" u="sng">
                <a:solidFill>
                  <a:srgbClr val="8dc765"/>
                </a:solidFill>
                <a:uFillTx/>
                <a:latin typeface="Gill Sans MT"/>
                <a:hlinkClick r:id="rId3"/>
              </a:rPr>
              <a:t>://www.ercot.com/content/wcm/key_documents_lists/76821/04._DREAM_TAC_Deck_022516_Final.ppt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Task Force reviewed current and potential: </a:t>
            </a:r>
            <a:endParaRPr b="0" lang="en-US" sz="2800" spc="-1" strike="noStrike">
              <a:solidFill>
                <a:srgbClr val="000000"/>
              </a:solidFill>
              <a:latin typeface="Gill Sans MT"/>
            </a:endParaRPr>
          </a:p>
          <a:p>
            <a:pPr lvl="3" marL="990000" indent="-2570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bilities for a distributed resource to become associated with a Resource Node or logical Resource Node, to include registration and qualification requirements; </a:t>
            </a:r>
            <a:endParaRPr b="0" lang="en-US" sz="2000" spc="-1" strike="noStrike">
              <a:solidFill>
                <a:srgbClr val="000000"/>
              </a:solidFill>
              <a:latin typeface="Gill Sans MT"/>
            </a:endParaRPr>
          </a:p>
          <a:p>
            <a:pPr lvl="3" marL="990000" indent="-2570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 Inclusion of distributed Resource Nodes or logical Resource Nodes in Congestion Revenue Rights (CRR) markets; </a:t>
            </a:r>
            <a:endParaRPr b="0" lang="en-US" sz="2000" spc="-1" strike="noStrike">
              <a:solidFill>
                <a:srgbClr val="000000"/>
              </a:solidFill>
              <a:latin typeface="Gill Sans MT"/>
            </a:endParaRPr>
          </a:p>
          <a:p>
            <a:pPr lvl="3" marL="990000" indent="-2570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3) Allowances for a distributed resource associated with a Resource Node or logical Resource Node to take an economic outage; </a:t>
            </a:r>
            <a:endParaRPr b="0" lang="en-US" sz="2000" spc="-1" strike="noStrike">
              <a:solidFill>
                <a:srgbClr val="000000"/>
              </a:solidFill>
              <a:latin typeface="Gill Sans MT"/>
            </a:endParaRPr>
          </a:p>
          <a:p>
            <a:pPr lvl="3" marL="990000" indent="-2570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4) Allowances for aggregations on a zonal and system-wide basis; </a:t>
            </a:r>
            <a:endParaRPr b="0" lang="en-US" sz="2000" spc="-1" strike="noStrike">
              <a:solidFill>
                <a:srgbClr val="000000"/>
              </a:solidFill>
              <a:latin typeface="Gill Sans MT"/>
            </a:endParaRPr>
          </a:p>
          <a:p>
            <a:pPr lvl="3" marL="990000" indent="-2570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179D-DE5E-404A-948C-8440FB0D1E7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1526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600" spc="-1" strike="noStrike">
                <a:solidFill>
                  <a:srgbClr val="572314"/>
                </a:solidFill>
                <a:latin typeface="Gill Sans MT"/>
              </a:rPr>
              <a:t>DREAM Taskforce Update </a:t>
            </a:r>
            <a:endParaRPr b="0" lang="en-US" sz="3600" spc="-1" strike="noStrike">
              <a:solidFill>
                <a:srgbClr val="572314"/>
              </a:solidFill>
              <a:latin typeface="Gill Sans MT"/>
            </a:endParaRPr>
          </a:p>
        </p:txBody>
      </p:sp>
      <p:sp>
        <p:nvSpPr>
          <p:cNvPr id="434" name=""/>
          <p:cNvSpPr txBox="1"/>
          <p:nvPr/>
        </p:nvSpPr>
        <p:spPr>
          <a:xfrm>
            <a:off x="952200" y="685440"/>
            <a:ext cx="834372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stributed Resource Energy and Ancillaries Market Taskforce (DREAM)</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Task Force reviewed current and potential: </a:t>
            </a:r>
            <a:endParaRPr b="0" lang="en-US" sz="2400" spc="-1" strike="noStrike">
              <a:solidFill>
                <a:srgbClr val="000000"/>
              </a:solidFill>
              <a:latin typeface="Gill Sans MT"/>
            </a:endParaRPr>
          </a:p>
          <a:p>
            <a:pPr lvl="3" marL="81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 Improvements to the existing Settlement meter data submittal process and ERCOT registration requirements for distributed resources (ex: AMI meters instead of EPS per an NPRR under review);</a:t>
            </a:r>
            <a:endParaRPr b="0" lang="en-US" sz="20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NOTE</a:t>
            </a:r>
            <a:r>
              <a:rPr b="0" lang="en-US" sz="1800" spc="-1" strike="noStrike">
                <a:solidFill>
                  <a:srgbClr val="c00000"/>
                </a:solidFill>
                <a:latin typeface="Gill Sans MT"/>
              </a:rPr>
              <a:t>:</a:t>
            </a:r>
            <a:r>
              <a:rPr b="0" lang="en-US" sz="1800" spc="-1" strike="noStrike">
                <a:solidFill>
                  <a:srgbClr val="000000"/>
                </a:solidFill>
                <a:latin typeface="Gill Sans MT"/>
              </a:rPr>
              <a:t>   </a:t>
            </a:r>
            <a:r>
              <a:rPr b="1" lang="en-US" sz="1800" spc="-1" strike="noStrike">
                <a:solidFill>
                  <a:srgbClr val="000000"/>
                </a:solidFill>
                <a:latin typeface="Gill Sans MT"/>
              </a:rPr>
              <a:t>NPRR753</a:t>
            </a:r>
            <a:r>
              <a:rPr b="0" lang="en-US" sz="1800" spc="-1" strike="noStrike">
                <a:solidFill>
                  <a:srgbClr val="000000"/>
                </a:solidFill>
                <a:latin typeface="Gill Sans MT"/>
              </a:rPr>
              <a:t> and </a:t>
            </a:r>
            <a:r>
              <a:rPr b="1" lang="en-US" sz="1800" spc="-1" strike="noStrike">
                <a:solidFill>
                  <a:srgbClr val="000000"/>
                </a:solidFill>
                <a:latin typeface="Gill Sans MT"/>
              </a:rPr>
              <a:t>RMGRR135</a:t>
            </a:r>
            <a:r>
              <a:rPr b="0" lang="en-US" sz="1800" spc="-1" strike="noStrike">
                <a:solidFill>
                  <a:srgbClr val="000000"/>
                </a:solidFill>
                <a:latin typeface="Gill Sans MT"/>
              </a:rPr>
              <a:t>. PRS is currently awaiting RMS’ recommendations concerning NPRR753.  </a:t>
            </a:r>
            <a:endParaRPr b="0" lang="en-US" sz="1800" spc="-1" strike="noStrike">
              <a:solidFill>
                <a:srgbClr val="000000"/>
              </a:solidFill>
              <a:latin typeface="Gill Sans MT"/>
            </a:endParaRPr>
          </a:p>
          <a:p>
            <a:pPr lvl="3" marL="81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 Opportunities for enhancements to distributed resource visibility and/or ERCOT dispatch and control;</a:t>
            </a:r>
            <a:endParaRPr b="0" lang="en-US" sz="2000" spc="-1" strike="noStrike">
              <a:solidFill>
                <a:srgbClr val="000000"/>
              </a:solidFill>
              <a:latin typeface="Gill Sans MT"/>
            </a:endParaRPr>
          </a:p>
          <a:p>
            <a:pPr lvl="3" marL="81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 Compliance metrics appropriate for distributed resources; and</a:t>
            </a:r>
            <a:endParaRPr b="0" lang="en-US" sz="2000" spc="-1" strike="noStrike">
              <a:solidFill>
                <a:srgbClr val="000000"/>
              </a:solidFill>
              <a:latin typeface="Gill Sans MT"/>
            </a:endParaRPr>
          </a:p>
          <a:p>
            <a:pPr lvl="3" marL="81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 Allowances for distributed resources associated with a Resource Node or logical Resource Node to return to a zonal pricing regime.  </a:t>
            </a:r>
            <a:endParaRPr b="0" lang="en-US" sz="20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4AB2-B031-45AE-88D8-DB4E3B7158E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90720" y="-1526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600" spc="-1" strike="noStrike">
                <a:solidFill>
                  <a:srgbClr val="572314"/>
                </a:solidFill>
                <a:latin typeface="Gill Sans MT"/>
              </a:rPr>
              <a:t>DREAM Taskforce Update </a:t>
            </a:r>
            <a:endParaRPr b="0" lang="en-US" sz="3600" spc="-1" strike="noStrike">
              <a:solidFill>
                <a:srgbClr val="572314"/>
              </a:solidFill>
              <a:latin typeface="Gill Sans MT"/>
            </a:endParaRPr>
          </a:p>
        </p:txBody>
      </p:sp>
      <p:sp>
        <p:nvSpPr>
          <p:cNvPr id="439" name=""/>
          <p:cNvSpPr txBox="1"/>
          <p:nvPr/>
        </p:nvSpPr>
        <p:spPr>
          <a:xfrm>
            <a:off x="952200" y="685440"/>
            <a:ext cx="834372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stributed Resource Energy and Ancillaries Market Taskforce (DREAM)</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25/16 TAC’s Voting Recommendation</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AC</a:t>
            </a:r>
            <a:r>
              <a:rPr b="0" lang="en-US" sz="2400" spc="-1" strike="noStrike">
                <a:solidFill>
                  <a:srgbClr val="000000"/>
                </a:solidFill>
                <a:latin typeface="Gill Sans MT"/>
              </a:rPr>
              <a:t> </a:t>
            </a:r>
            <a:r>
              <a:rPr b="1" lang="en-US" sz="2400" spc="-1" strike="noStrike">
                <a:solidFill>
                  <a:srgbClr val="c00000"/>
                </a:solidFill>
                <a:latin typeface="Gill Sans MT"/>
              </a:rPr>
              <a:t>Approved</a:t>
            </a:r>
            <a:r>
              <a:rPr b="0" lang="en-US" sz="2400" spc="-1" strike="noStrike">
                <a:solidFill>
                  <a:srgbClr val="c00000"/>
                </a:solidFill>
                <a:latin typeface="Gill Sans MT"/>
              </a:rPr>
              <a:t> </a:t>
            </a:r>
            <a:r>
              <a:rPr b="0" lang="en-US" sz="2400" spc="-1" strike="noStrike">
                <a:solidFill>
                  <a:srgbClr val="000000"/>
                </a:solidFill>
                <a:latin typeface="Gill Sans MT"/>
              </a:rPr>
              <a:t>a motion requesting ERCOT provide a matrix with their responses to the 8 items listed in the DREAM Power Point slide deck – slides # 29-31 and DREAM’s PDF Whitepaper.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matrix will be scheduled for TAC’s review and discussion during the April 28</a:t>
            </a:r>
            <a:r>
              <a:rPr b="0" lang="en-US" sz="2400" spc="-1" strike="noStrike" baseline="30000">
                <a:solidFill>
                  <a:srgbClr val="000000"/>
                </a:solidFill>
                <a:latin typeface="Gill Sans MT"/>
              </a:rPr>
              <a:t>th</a:t>
            </a:r>
            <a:r>
              <a:rPr b="0" lang="en-US" sz="2400" spc="-1" strike="noStrike">
                <a:solidFill>
                  <a:srgbClr val="000000"/>
                </a:solidFill>
                <a:latin typeface="Gill Sans MT"/>
              </a:rPr>
              <a:t> TAC meeting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81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B5C7-6F4A-4E9B-B418-530009E22C6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ebruary 9, 2016 Board Update </a:t>
            </a:r>
            <a:endParaRPr b="0" lang="en-US" sz="4300" spc="-1" strike="noStrike">
              <a:solidFill>
                <a:srgbClr val="572314"/>
              </a:solidFill>
              <a:latin typeface="Gill Sans MT"/>
            </a:endParaRPr>
          </a:p>
        </p:txBody>
      </p:sp>
      <p:sp>
        <p:nvSpPr>
          <p:cNvPr id="444" name=""/>
          <p:cNvSpPr txBox="1"/>
          <p:nvPr/>
        </p:nvSpPr>
        <p:spPr>
          <a:xfrm>
            <a:off x="990720" y="685800"/>
            <a:ext cx="8229600" cy="55627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RCOT Board Approved the following: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691</a:t>
            </a:r>
            <a:r>
              <a:rPr b="0" lang="en-US" sz="2200" spc="-1" strike="noStrike">
                <a:solidFill>
                  <a:srgbClr val="000000"/>
                </a:solidFill>
                <a:latin typeface="Gill Sans MT"/>
              </a:rPr>
              <a:t>, Alignment of Protocols with NERC Reliability Standard,  BAL-001-TRE-1 </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13</a:t>
            </a:r>
            <a:r>
              <a:rPr b="0" lang="en-US" sz="2200" spc="-1" strike="noStrike">
                <a:solidFill>
                  <a:srgbClr val="000000"/>
                </a:solidFill>
                <a:latin typeface="Gill Sans MT"/>
              </a:rPr>
              <a:t>, Reactive Power Testing Requirements</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20</a:t>
            </a:r>
            <a:r>
              <a:rPr b="0" lang="en-US" sz="2200" spc="-1" strike="noStrike">
                <a:solidFill>
                  <a:srgbClr val="000000"/>
                </a:solidFill>
                <a:latin typeface="Gill Sans MT"/>
              </a:rPr>
              <a:t>, Update to Settlement Stability Reporting Requirements</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34</a:t>
            </a:r>
            <a:r>
              <a:rPr b="0" lang="en-US" sz="2200" spc="-1" strike="noStrike">
                <a:solidFill>
                  <a:srgbClr val="000000"/>
                </a:solidFill>
                <a:latin typeface="Gill Sans MT"/>
              </a:rPr>
              <a:t>, Digital Attestation Signature Authority Clarification</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39</a:t>
            </a:r>
            <a:r>
              <a:rPr b="0" lang="en-US" sz="2200" spc="-1" strike="noStrike">
                <a:solidFill>
                  <a:srgbClr val="000000"/>
                </a:solidFill>
                <a:latin typeface="Gill Sans MT"/>
              </a:rPr>
              <a:t>, Prohibiting Load Resources Associated with a Dynamically Scheduled Resource</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NPRR740,</a:t>
            </a:r>
            <a:r>
              <a:rPr b="0" lang="en-US" sz="2200" spc="-1" strike="noStrike">
                <a:solidFill>
                  <a:srgbClr val="c00000"/>
                </a:solidFill>
                <a:latin typeface="Gill Sans MT"/>
              </a:rPr>
              <a:t> </a:t>
            </a:r>
            <a:r>
              <a:rPr b="1" lang="en-US" sz="2200" spc="-1" strike="noStrike">
                <a:solidFill>
                  <a:srgbClr val="c00000"/>
                </a:solidFill>
                <a:latin typeface="Gill Sans MT"/>
              </a:rPr>
              <a:t>Retail Clarification and Cleanup</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42</a:t>
            </a:r>
            <a:r>
              <a:rPr b="0" lang="en-US" sz="2200" spc="-1" strike="noStrike">
                <a:solidFill>
                  <a:srgbClr val="000000"/>
                </a:solidFill>
                <a:latin typeface="Gill Sans MT"/>
              </a:rPr>
              <a:t>, CRR Balancing Account Invoice Data Cuts</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743</a:t>
            </a:r>
            <a:r>
              <a:rPr b="0" lang="en-US" sz="2200" spc="-1" strike="noStrike">
                <a:solidFill>
                  <a:srgbClr val="000000"/>
                </a:solidFill>
                <a:latin typeface="Gill Sans MT"/>
              </a:rPr>
              <a:t>, Revision to MCE to Have a Floor For Load Exposure</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OGRR147</a:t>
            </a:r>
            <a:r>
              <a:rPr b="0" lang="en-US" sz="2200" spc="-1" strike="noStrike">
                <a:solidFill>
                  <a:srgbClr val="000000"/>
                </a:solidFill>
                <a:latin typeface="Gill Sans MT"/>
              </a:rPr>
              <a:t>, Reactive Power Testing Requirements</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7E6B-6D6C-4E86-9F21-3CC454F1EE7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ebruary 9, 2016 Board Update </a:t>
            </a:r>
            <a:endParaRPr b="0" lang="en-US" sz="4300" spc="-1" strike="noStrike">
              <a:solidFill>
                <a:srgbClr val="572314"/>
              </a:solidFill>
              <a:latin typeface="Gill Sans MT"/>
            </a:endParaRPr>
          </a:p>
        </p:txBody>
      </p:sp>
      <p:sp>
        <p:nvSpPr>
          <p:cNvPr id="449" name=""/>
          <p:cNvSpPr txBox="1"/>
          <p:nvPr/>
        </p:nvSpPr>
        <p:spPr>
          <a:xfrm>
            <a:off x="990720" y="685800"/>
            <a:ext cx="8229600" cy="556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manded to TAC for Additional Discussion: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ppeal of TAC Action on NPRR649</a:t>
            </a:r>
            <a:r>
              <a:rPr b="0" lang="en-US" sz="2400" spc="-1" strike="noStrike">
                <a:solidFill>
                  <a:srgbClr val="000000"/>
                </a:solidFill>
                <a:latin typeface="Gill Sans MT"/>
              </a:rPr>
              <a:t>,  Addressing Issues Surrounding High Dispatch Limit (HDL) Overrid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25/16 TAC’s Voting Recommendation: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orkshop will be planned early April to discuss ERCOT’s alternative language and if ERCOT’s option (a) or (b) is viable or needs to be modified to gain market support.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Motion to Table NPRR649 was Unanimous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5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5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1AAD-12A4-4074-B1F2-BF15CBC8A49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143000" y="-15264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2016 TAC Goals &amp; Strategic Initiatives </a:t>
            </a:r>
            <a:endParaRPr b="0" lang="en-US" sz="3600" spc="-1" strike="noStrike">
              <a:solidFill>
                <a:srgbClr val="572314"/>
              </a:solidFill>
              <a:latin typeface="Gill Sans MT"/>
            </a:endParaRPr>
          </a:p>
        </p:txBody>
      </p:sp>
      <p:sp>
        <p:nvSpPr>
          <p:cNvPr id="454" name=""/>
          <p:cNvSpPr txBox="1"/>
          <p:nvPr/>
        </p:nvSpPr>
        <p:spPr>
          <a:xfrm>
            <a:off x="912960" y="685800"/>
            <a:ext cx="8229600" cy="5562720"/>
          </a:xfrm>
          <a:prstGeom prst="rect">
            <a:avLst/>
          </a:prstGeom>
          <a:noFill/>
          <a:ln w="0">
            <a:noFill/>
          </a:ln>
        </p:spPr>
        <p:txBody>
          <a:bodyPr anchor="t">
            <a:normAutofit/>
          </a:bodyPr>
          <a:p>
            <a:pPr lvl="2" marL="609480" indent="-28260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09480" indent="-28260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76821/06._2016_TAC_Goals.zip </a:t>
            </a:r>
            <a:endParaRPr b="0" lang="en-US" sz="2000" spc="-1" strike="noStrike">
              <a:solidFill>
                <a:srgbClr val="000000"/>
              </a:solidFill>
              <a:latin typeface="Gill Sans MT"/>
            </a:endParaRPr>
          </a:p>
          <a:p>
            <a:pPr lvl="2" marL="609480" indent="-28260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6 TAC Goals (Vote):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Unanimously  Approved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6 TAC Strategic Initiatives (Vote): </a:t>
            </a:r>
            <a:endParaRPr b="0" lang="en-US" sz="2800" spc="-1" strike="noStrike">
              <a:solidFill>
                <a:srgbClr val="000000"/>
              </a:solidFill>
              <a:latin typeface="Gill Sans MT"/>
            </a:endParaRPr>
          </a:p>
          <a:p>
            <a:pPr lvl="2" marL="609480" indent="-282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AC agreed with RMS’ edits for Smart Meter Texas (SMT)</a:t>
            </a:r>
            <a:endParaRPr b="0" lang="en-US" sz="2400" spc="-1" strike="noStrike">
              <a:solidFill>
                <a:srgbClr val="000000"/>
              </a:solidFill>
              <a:latin typeface="Gill Sans MT"/>
            </a:endParaRPr>
          </a:p>
          <a:p>
            <a:pPr lvl="2" marL="609480" indent="-282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AC’s edits changed “Loads in SCED Part 2” to “Loads participation in price formation” </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Unanimously Approved  </a:t>
            </a:r>
            <a:endParaRPr b="0" lang="en-US" sz="2400" spc="-1" strike="noStrike">
              <a:solidFill>
                <a:srgbClr val="000000"/>
              </a:solidFill>
              <a:latin typeface="Gill Sans MT"/>
            </a:endParaRPr>
          </a:p>
          <a:p>
            <a:pPr lvl="2" marL="609480" indent="-282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609480" indent="-282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5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5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593C-D66D-4576-867C-45F77DB9611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S Initiatives and Votes</a:t>
            </a:r>
            <a:endParaRPr b="0" lang="en-US" sz="4300" spc="-1" strike="noStrike">
              <a:solidFill>
                <a:srgbClr val="572314"/>
              </a:solidFill>
              <a:latin typeface="Gill Sans MT"/>
            </a:endParaRPr>
          </a:p>
        </p:txBody>
      </p:sp>
      <p:sp>
        <p:nvSpPr>
          <p:cNvPr id="459" name=""/>
          <p:cNvSpPr txBox="1"/>
          <p:nvPr/>
        </p:nvSpPr>
        <p:spPr>
          <a:xfrm>
            <a:off x="914400" y="609480"/>
            <a:ext cx="8229600" cy="556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NPRR749</a:t>
            </a:r>
            <a:r>
              <a:rPr b="0" lang="en-US" sz="1800" spc="-1" strike="noStrike">
                <a:solidFill>
                  <a:srgbClr val="000000"/>
                </a:solidFill>
                <a:latin typeface="Gill Sans MT"/>
              </a:rPr>
              <a:t>, Option Cost for Outstanding CRRs – </a:t>
            </a:r>
            <a:r>
              <a:rPr b="1" lang="en-US" sz="1800" spc="-1" strike="noStrike">
                <a:solidFill>
                  <a:srgbClr val="c00000"/>
                </a:solidFill>
                <a:latin typeface="Gill Sans MT"/>
              </a:rPr>
              <a:t>Approved </a:t>
            </a: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NPRR750</a:t>
            </a:r>
            <a:r>
              <a:rPr b="0" lang="en-US" sz="1800" spc="-1" strike="noStrike">
                <a:solidFill>
                  <a:srgbClr val="000000"/>
                </a:solidFill>
                <a:latin typeface="Gill Sans MT"/>
              </a:rPr>
              <a:t>, Clarify Resource Status when Providing Fast Responding Regulation Service – </a:t>
            </a: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CR787</a:t>
            </a:r>
            <a:r>
              <a:rPr b="0" lang="en-US" sz="1800" spc="-1" strike="noStrike">
                <a:solidFill>
                  <a:srgbClr val="000000"/>
                </a:solidFill>
                <a:latin typeface="Gill Sans MT"/>
              </a:rPr>
              <a:t>, Maintain NDCRC Data For Generator Transfer Between Resource Entities - </a:t>
            </a: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RS 2016 Goals </a:t>
            </a:r>
            <a:r>
              <a:rPr b="0" lang="en-US" sz="1800" spc="-1" strike="noStrike">
                <a:solidFill>
                  <a:srgbClr val="000000"/>
                </a:solidFill>
                <a:latin typeface="Gill Sans MT"/>
              </a:rPr>
              <a:t>- </a:t>
            </a: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76821/07._Draft_2016_PRS_Goals.doc</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RCOT Internal Labor Rate Revision Update</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3" marL="1063800" indent="-1677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RCOT has increased their internal labor rate used for Impact Analysis cost estimates from $65/hour to $75/hour. Future rate changes will be evaluated for 2018/2019 cycle when that time comes. </a:t>
            </a:r>
            <a:endParaRPr b="0" lang="en-US" sz="1400" spc="-1" strike="noStrike">
              <a:solidFill>
                <a:srgbClr val="000000"/>
              </a:solidFill>
              <a:latin typeface="Gill Sans MT"/>
            </a:endParaRPr>
          </a:p>
          <a:p>
            <a:pPr lvl="3" marL="1063800" indent="-1677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RCOT has allocated a $400k contingency for the $4M current allocation to cover the increase in the labor rate to keep market’s funding whole. ERCOT will absorb this amount in its projects. IAs includes this rate beginning in February 2016. The new rate will also be retroactively included in approved projects for future budget comparisons.</a:t>
            </a:r>
            <a:endParaRPr b="0" lang="en-US" sz="1400" spc="-1" strike="noStrike">
              <a:solidFill>
                <a:srgbClr val="000000"/>
              </a:solidFill>
              <a:latin typeface="Gill Sans MT"/>
            </a:endParaRPr>
          </a:p>
          <a:p>
            <a:pPr lvl="3" marL="1063800" indent="-1677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RCOT is reviewing the Impact Analysis process and soliciting feedback. ERCOT’s review will compare estimated and actual costs for projects completed in 2013-2015. ERCOT will share initial findings and ideas for improvements with PRS.</a:t>
            </a:r>
            <a:endParaRPr b="0" lang="en-US" sz="1400" spc="-1" strike="noStrike">
              <a:solidFill>
                <a:srgbClr val="000000"/>
              </a:solidFill>
              <a:latin typeface="Gill Sans MT"/>
            </a:endParaRPr>
          </a:p>
          <a:p>
            <a:pPr lvl="2" marL="859320" indent="-2214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9320" indent="-2214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AC Update to RMS </a:t>
            </a:r>
            <a:endParaRPr b="0" lang="en-US" sz="1200" spc="-1" strike="noStrike">
              <a:solidFill>
                <a:srgbClr val="000000"/>
              </a:solidFill>
              <a:latin typeface="Arial"/>
            </a:endParaRPr>
          </a:p>
        </p:txBody>
      </p:sp>
      <p:sp>
        <p:nvSpPr>
          <p:cNvPr id="4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8EDC-9B0C-47CE-85A0-763E18F3EF0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2-26T17:55:14Z</dcterms:modified>
  <cp:revision>1023</cp:revision>
  <dc:subject/>
  <dc:title>Instructions</dc:title>
</cp:coreProperties>
</file>