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notesMasterIdLst>
    <p:notesMasterId r:id="rId29"/>
  </p:notesMasterIdLst>
  <p:sldIdLst>
    <p:sldId id="256" r:id="rId30"/>
    <p:sldId id="257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notesMaster" Target="notesMasters/notesMaster1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dt" idx="62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 type="ftr" idx="63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6"/>
          <p:cNvSpPr>
            <a:spLocks noGrp="1"/>
          </p:cNvSpPr>
          <p:nvPr>
            <p:ph type="sldNum" idx="64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26E7AE-7CA1-4981-9D65-30E2283CF0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AC9425-AF75-4848-9A15-1B6BF32999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5D2B-038A-4CAD-B232-0DA1DFC97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DF01-4C39-4116-9F8F-159410C9F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61E4BA2-1D15-4AFD-91E7-43D2847A4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29FA71-05BD-436C-8ABC-8F3C589B9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F5F1CDD-766B-40BC-9CC7-6DEA27937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DA427B3-77AC-4BB9-B747-74AFAB4D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94E1ECF-85B0-4F01-BEB5-8F295C4F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E4533B8-7067-4A16-9B3B-E4069603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0225173-0D57-4CF1-B95F-E5B38ABF6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525ABA2-4303-46C3-8044-96432FF6E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50A2FC2-2CE6-4B84-AC04-EDB222B19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F85B2E8-FFB1-4498-9889-2628CC335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0EAA-7FDE-4245-8BE8-CCECE7F2E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0AE0CDB-D35A-4305-A538-148251CD7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5D81F7-19A6-4DC9-98D5-142066E0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071E9B-016B-4A5C-B25B-0546DE015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DA3592-C855-426E-8EA7-0E41E43F2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178BD9-DE57-4210-AEF6-EBAD49F14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7533B34-1AFC-432A-8519-9C8846AF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BEBE22-7C51-4068-8029-DD058B0F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8B28F5-7DD0-4891-B153-C1924FEF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F5D041-A83E-4266-9A94-E65A07AB0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C32CAE-2432-4B6F-8079-510EC739A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827D-AC92-4677-887E-9208CDBA6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370F25-EF11-452E-A557-7F87E493C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16CBBA-1B71-4E4F-ABF0-F0EA90FA7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F44D4B-E079-47F7-88BD-B045BB15F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79A9C6-ADEF-48FA-91CC-DA5152705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F5B7DB-EC27-4A79-B210-30AE2DB3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1B3C87-0EDD-4985-B534-2B12C23E5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42AAFE-27EC-4D7F-A518-FD695DD61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6ACBEB-7FF7-4513-A50C-0C6FC344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A993A8-8C52-4D48-A711-000FB001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A75ADB-E230-473B-B45B-FBF4DEC7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AEF79-0BDB-4BB8-840A-DA54B9A7A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104913-04D7-4A84-903B-908158E64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238243-2575-4FB9-B876-279B96ECD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7C5C72-C241-4FD7-B7F5-9E2537161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948E317-35FB-407B-921E-D91B20643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3D6FE3A-5639-41A3-A2A3-8795B00D1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8FA0D47-A9B9-454E-BBFF-E0AE2FEC7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F170E0C-46E6-472B-8E3E-E253CA6B6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B12DC50-84A0-4069-BD04-23D86CBDE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08427CC-921A-42A5-8789-1CE58FCC2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98A170E-F907-4565-9D35-0E5FAC05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AE715-46A7-4F3E-9AFE-FCDDFCFE0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19DACF4-E218-4208-A3AB-5E0F4BBF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6DA7285-4CB1-4DB9-9ECD-4A74F904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F7042F7-4A2B-46A8-8287-531707562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6D2DC1B-9EAE-4AB9-A282-6578321AC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E48764B-EC9C-4E39-86A6-1870B4CD8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DBFAF-5F7C-4D23-B08A-35568F23E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2BFBA-6FA6-448F-A424-3F90D2433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54C32-F9EF-41E6-9E45-A95C75F54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FE4E8-C463-4695-A8A1-45CFBEBE9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56E36-604F-405C-8FB8-87351005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1B21F6-D783-428F-9A46-496F5A350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85CAC5-C7F2-4AB8-810F-AE1B62D51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B26F82-F352-4D04-84A4-9760253CE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6C0013-1FFA-4A25-8266-2052F205B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647A20-2113-41FE-84A9-C4E8F947F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CF757A-C5C8-4280-BF0B-87E1E5302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8443C9-94A2-4FBE-A104-AB155905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FC7A-3A2C-4FFD-B9AC-76EA0A247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77CDB-DFAA-4189-9F73-38975358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37361B-EADC-4088-A0ED-0402601A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B92DBC-86A2-4CF6-A0C7-6A87F31E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0F352B-061C-4EBA-A499-A7C38EFAB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2087C0-E611-4EBC-BA18-E4D129829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3A938C-CEA4-4FBB-BFA3-89A6262FD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43D0843-C684-4AA7-9780-6D270A47B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44BCBFC-910E-45AD-9635-C8431D921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030C71B-5550-4883-BB39-44328CDB2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AFD8680-A48C-4646-95BE-813205839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186061F-E1EF-442A-A3F5-5CA03D5E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E14D9-EBFE-4ACD-AF7D-A7417C84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9DC7C7D-C346-4A39-AABC-493CEAE78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F45F6A1-EFB5-4C0C-98C8-5133E587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308B0A6-92D6-41E9-ABFE-5BED0539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2EFCE22-A0FD-4E99-BA82-B36ADFA4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63A89DB-6CEF-46A8-A205-6AF1D33F6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7D89A86-171F-4259-806B-26F51EA39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95222CA-DC1A-427E-A7D9-3CE985C81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1CAE2FE-C760-4996-92A5-040F2583B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40CD7AA-461A-46F0-9611-01D500E9A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CA6BCCB-AC42-4D36-8DEC-AF113FC6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6C902-FB69-45D6-83A3-B8B4880F2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BA4636F-6A44-4E71-85DC-0089E7948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BF4E6FF-D93B-4FC9-8243-9A682F362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8997E27-F069-4F38-8DAA-482392A6E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456EB76-7980-436D-ADF5-021BCF95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9F76C72-58FC-492F-AE71-9E3EB3C7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F519C95-AFAE-4155-8E6C-950D7570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6105421-9E27-438B-BD3E-ED7EC6D87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9158407-2E5B-4D11-8124-4CB2C2A5B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0E9826F-ED9A-474B-8AB0-495A37885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C531048-5C85-493D-8D7A-3E90CAA55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061D9-F2A6-4116-9A7F-78FA98058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91B4C28-634E-4226-81BD-F4FFEBD3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2CAA001-A713-4669-803A-34CC5F66B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BF40E22-3684-41F5-A0D9-9C49815A5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AC7C3D4-DF52-4F16-B727-A1A24D45D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9C705F1-7E9C-4AC3-A43F-8D16B3AF7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5367EF4-C9E8-4C80-BB2C-A87E768D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FEAA737-2BC1-4E7E-9B8E-00C26F66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1643A95-2FDC-497D-9C60-FCD17B08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36D29AD-19A6-4716-812E-4521C302A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548068E-5328-4B97-8EEF-53950F1E7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19F73-6EB0-4F9B-BD4C-04AD5FFDA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28BB9DF-4409-4B09-BD73-F86E2530E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5102EB-45BA-46C1-A7D9-098929898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7EC9DB-E46B-4687-BC1E-405139F7E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0182BB-EF49-438E-A7D8-3106D9489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E160BE-C85F-45D8-85CF-E8527B83A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FEC05A-14CD-45E0-945E-35B9E42E8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8CDAAC-7AED-4204-BD9B-EB49051F1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96B812-6F80-41D4-80F9-3868519A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F79629-73CA-409D-92D6-9748DA4C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E22068-21C6-449E-AED6-6CD2C398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2CB8E-8DD8-481A-90EB-5B013EE55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C9C416-1644-44CE-AB2F-F09B37B50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7615B0-DD44-431F-92A5-F1D5E6264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B4BF67-237E-4179-9B42-F4D72B425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9222CD0-39A2-4406-94DB-539084B64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91748D4-77DE-4D39-88C9-EE89FFE27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D791F2B-EC46-4C36-B637-1482F47FE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D05E8F1-60C4-429E-BD1D-22CDCA404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0AEC927-67B8-4A17-8822-A9DEFA7C7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8144314-8A3A-4918-BC62-2F492EEBE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F027C1F-4241-448C-8A0E-C3C361EF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BCBAF-927A-438C-B9D8-63AF0D9E9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6A0D50B-4F8D-46E8-9C50-944E2B7E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98F5819-BDE5-40B4-8DBE-3816D7C9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CF56AAE-8234-4210-ADDF-93061F150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1B054FB-05EA-49FF-A95C-45273254F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B8E85C4-D62A-4351-ADA6-4BB999804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A618E8-A288-42B4-81CA-53042A3AE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DA8E49-0D40-479C-BEA7-D486F492B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FD5C90-1A1F-4303-90C4-133A1997E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F78941-7CB7-4DD5-907A-EAAEFD549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B787E6-BFC1-4940-9E4C-8CA5F60BB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EA2CC-B558-459A-8703-C2AA8ABC3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69C811-025C-498F-8ABE-471A55F6D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159FEA-AA38-4FE2-9C7D-CC78879A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57D86D-6BA7-4865-A1E4-5A37C6BB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DECCD8-2106-4926-AF44-755B6D94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ADF112-E9A6-4969-A4D4-02BCBBB83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5CA17A-C175-43AB-9B47-0295895FE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7FD89A-EF51-45A3-878F-BA16EC455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A9134-21B7-41B4-A445-189EDC213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595C6-FC2E-4E01-A203-AA6184EE3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97D4-851C-4BCF-AF4D-818D44CFE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DF98C-28CB-4C25-B899-26C5D8180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DFC6E-29D5-48BC-96F0-76F7FB73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5504D-D430-4C9D-87F7-58C3F3A1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E11B4-0024-4168-9C05-6730DB62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CBA8B-D31F-4035-A576-393B8661C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EEA21-4026-4497-8AF1-E58264683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80914-BBC9-4109-AD99-12508421F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5D3F-B8FE-4A1B-BC74-94CD254F5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353A-CFA0-4510-9ECF-6EABB4C17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1C98-3677-4F01-B9BF-4FBAB9DBF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48AEEA-7D2B-4826-A213-C85453232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09ABA8-1A90-4749-8991-6F6378E11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29C4A0-F5F6-42CC-920A-B8CF7FF7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132099-0AD5-4CDB-831D-20FB59C2B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1AC6C1-D937-4379-AF2B-E3E7B9683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30C094-90B5-446A-883B-AB87029F9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0BD4F5-6B18-435C-8ADD-B2C25A95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332BC0-B4BE-4809-9CE7-C6FBE017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9362BD-1AAD-431F-9823-C4448661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DAEE-0018-4EF8-BAD1-9E8EE5B5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EBD3C3-D096-46CD-A257-11CEE8BA2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B435ED-B5F7-45C8-B21A-DF8986EC7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7E8280-4265-424B-94F8-B38C530EE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A7E3C5-8A93-4378-9C4B-07E89A189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01FCF1-D9D6-4E5A-BF4E-F92C16221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17A530-C7C7-4EEF-B773-597C19BE8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79396E-B091-4064-A95D-87BE71820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112846-103A-422D-A756-A95DC3CF2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54660C-4174-4713-A389-8E4D3EB15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9288D4-6C05-4DC1-8139-2A887630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C730-12E0-4E04-AD2D-B64C75B8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E72A7A-F42F-46C6-BFCD-ACDB796E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F1A0AD-43DA-4391-9378-A99AAD99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494C57-291C-4AE3-978A-0B9E8416F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0A9CBB-04D1-4533-BE86-D70600BF9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6D483E6-8B3A-4E83-9AB9-732C059BC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7E27CD5-3518-42A1-8470-030781B4E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95BED37-699C-458A-9195-E287BB153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383D951-9226-4B8E-9EA5-35360CB80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AA66923-1BD3-4B2A-BEE7-C4A177739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085FBD7-7104-4863-ADCB-D14E3C34E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3806-C8F8-4464-B708-D8F69DAE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4DC2D90-EC91-44CA-9D24-625FFC151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D7C5872-E7F6-44AA-A9A2-018FB34B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D96D48-199D-4E60-A91F-CCCE5DD6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79D38B3-AD04-4B08-ADA5-29E65FCE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A25B097-5F07-4EA5-9CA5-1E333E61A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CE98F7B-9B1B-4DD8-B5DE-ECEEA97AA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F8515BD-7863-4E54-A0C4-537FA7971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18CF235-3F84-4FA9-87C4-59C203CB0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A15E2E0-8C4C-45DC-BE62-060E854D7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153E574-B455-4BB1-915F-89078115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08080" y="-6480"/>
            <a:ext cx="8727840" cy="1372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2DBDC2-04F2-418D-9B1A-65C17D9C960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87AFD4-5BBA-4689-B692-38DB5F1A7D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2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F87ED2-F120-468A-A69F-DBBD1F357B47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2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26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56604F-BE65-4743-81A9-D6852BEE49B7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27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069DDD-A6EF-488E-AC8D-675F99D307B2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sldNum" idx="28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A39EF0-DBC9-4975-B724-6819D013B1AC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ftr" idx="29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30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AAEEF4-BA86-43CD-AEEC-6784FCF62924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31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32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64D21D-7148-45BA-B86B-3DE479F867B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25AD58-D58E-4841-B2D9-B338A2B057EC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ftr" idx="33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77AA24-7960-4E8C-B61D-C3D0ABCE7819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ftr" idx="34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77C1F9-59B0-4EE1-BC52-067DA2893317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ftr" idx="35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7C6166-6C94-4115-BBA4-424A500A5AD6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ftr" idx="36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dt" idx="37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5D5C02-60FE-407C-867D-EF109CF48826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 type="ftr" idx="38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 type="sldNum" idx="39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5A7F7E-F852-4F2D-AA56-808B13A769B1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dt" idx="4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5472CE-3996-46D1-8069-7865E6C3410B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sldNum" idx="4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14BAA0-9025-4892-B109-AAA8E139F041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 type="ftr" idx="4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219893-EDE8-495F-B186-AD698B761127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sldNum" idx="4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EF3127-3CBB-416A-B72A-AFCB83B6180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ftr" idx="4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9BBE91-024F-46D3-8BC6-92FA51791839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A8B18D-1156-4970-A333-A947E109A45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 type="dt" idx="4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9B51FF-A2B2-4592-9C28-2FE6CC329B33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 type="sldNum" idx="4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AB8C0F-A41C-4E47-BE4B-7BEB1E9C9B1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 type="ftr" idx="4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dt" idx="4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4E9933-78D7-4242-9CA6-9C12EF4EA957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 type="ftr" idx="5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 type="sldNum" idx="51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17A5B6-2511-4C87-90A7-6F99D3A5D615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 type="dt" idx="52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7A5DB9-2348-463F-810D-49B61A692705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 type="sldNum" idx="53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3C19F5-93EF-4EC7-B249-51BF133DA5D7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 type="ftr" idx="54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 type="dt" idx="55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5054D6-6CD2-421C-82D1-B901CEE25944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 type="ftr" idx="56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 type="sldNum" idx="57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B9223F-3489-4AA6-BFBB-4654949CB23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80FAE9-B6E1-496F-87D3-0FD10A4B3226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 type="ftr" idx="58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A09CAB-F92F-457A-9C65-23BB7229FE8E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ftr" idx="59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8FBE2A-B697-4C15-B3C6-A13DB172550F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 type="ftr" idx="6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3217CE-83D2-49FC-B114-F75CBE6991F4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 type="ftr" idx="61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79AF33-2EA5-4E3A-B54F-1500232E38BF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E9D5F5-2638-4E0B-9DDD-E90B2CDFC0E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1" descr=""/>
          <p:cNvPicPr/>
          <p:nvPr/>
        </p:nvPicPr>
        <p:blipFill>
          <a:blip r:embed="rId2"/>
          <a:stretch/>
        </p:blipFill>
        <p:spPr>
          <a:xfrm>
            <a:off x="208080" y="-6480"/>
            <a:ext cx="8727840" cy="137289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ftr" idx="1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1" descr=""/>
          <p:cNvPicPr/>
          <p:nvPr/>
        </p:nvPicPr>
        <p:blipFill>
          <a:blip r:embed="rId2"/>
          <a:stretch/>
        </p:blipFill>
        <p:spPr>
          <a:xfrm>
            <a:off x="208080" y="-6480"/>
            <a:ext cx="8727840" cy="13728960"/>
          </a:xfrm>
          <a:prstGeom prst="rect">
            <a:avLst/>
          </a:prstGeom>
          <a:ln w="0">
            <a:noFill/>
          </a:ln>
        </p:spPr>
      </p:pic>
      <p:sp>
        <p:nvSpPr>
          <p:cNvPr id="170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55C656-CA21-4F6B-83EF-53FC0ADA1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ftr" idx="11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2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ED985A-6F1C-41ED-989F-2A73462A0BCD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3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4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43E001-1ACF-46BC-A5CB-0A95AA73F08F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04B635-3260-4735-B10C-77D543D3EFC2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6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03EB42-16F7-463A-81B8-040C4B0BDAEE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18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0EE9E6-5E15-42B1-9DE4-A022AA4F62F8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sldNum" idx="1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E9ACED-9BB9-4182-8BF0-6F69433E50E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5D7926-F088-4A57-B007-CFF318B0EC65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22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8C898D-939A-4821-9AA6-1466ED6C533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9" name="Group 13"/>
          <p:cNvGrpSpPr/>
          <p:nvPr/>
        </p:nvGrpSpPr>
        <p:grpSpPr>
          <a:xfrm>
            <a:off x="787320" y="2804760"/>
            <a:ext cx="7543800" cy="2627640"/>
            <a:chOff x="787320" y="2804760"/>
            <a:chExt cx="7543800" cy="2627640"/>
          </a:xfrm>
        </p:grpSpPr>
        <p:sp>
          <p:nvSpPr>
            <p:cNvPr id="1180" name="TextBox 9"/>
            <p:cNvSpPr/>
            <p:nvPr/>
          </p:nvSpPr>
          <p:spPr>
            <a:xfrm>
              <a:off x="787320" y="3082680"/>
              <a:ext cx="7543800" cy="234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OS Report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lan Ber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hnical Advisory Committee (TAC) Mee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RCOT Publ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Straight Connector 12"/>
            <p:cNvSpPr/>
            <p:nvPr/>
          </p:nvSpPr>
          <p:spPr>
            <a:xfrm flipV="1">
              <a:off x="787320" y="2804760"/>
              <a:ext cx="6286680" cy="12600"/>
            </a:xfrm>
            <a:prstGeom prst="line">
              <a:avLst/>
            </a:prstGeom>
            <a:ln w="1908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2" name="Footer Placeholder 4"/>
          <p:cNvSpPr/>
          <p:nvPr/>
        </p:nvSpPr>
        <p:spPr>
          <a:xfrm>
            <a:off x="609480" y="6248520"/>
            <a:ext cx="465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ebruary 25, 2016 TAC M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ROS 2016 Goals - Voting Item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4" name=""/>
          <p:cNvSpPr txBox="1"/>
          <p:nvPr/>
        </p:nvSpPr>
        <p:spPr>
          <a:xfrm>
            <a:off x="612720" y="1817640"/>
            <a:ext cx="8153280" cy="42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Align ROS Subcommittee Goals with the strategic vision of the ERCOT Board of Directors and the TAC Goals for 2016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Maintain market rules that support ERCOT system reliability consistent with PURA, PUCT, and NERC Reliability Standards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Collaborate with ERCOT on the review of Ancillary Service needs and implement changes as necessary. 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upport appropriate resource adequacy related market changes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Pursue the appropriate incorporation of Load participation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Pursue the appropriate incorporation of emerging technologies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Assist other stakeholder forums in the implementation of the approved Operating Reserve Demand Curve (ORDC), in particular any Ancillary Service product changes necessary as a result of the ORDC to the extent reliability is maintained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Evaluate and determine Geomagnetic Disturbance (GMD) requirements and address needed changes in Protocols and Guides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5" name="Footer Placeholder 2"/>
          <p:cNvSpPr/>
          <p:nvPr/>
        </p:nvSpPr>
        <p:spPr>
          <a:xfrm>
            <a:off x="609480" y="6248520"/>
            <a:ext cx="4645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ebruary 25, 2016 TAC M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23:12:02Z</dcterms:created>
  <dc:creator>Diana</dc:creator>
  <dc:description/>
  <dc:language>en-US</dc:language>
  <cp:lastModifiedBy>Bern, Alan</cp:lastModifiedBy>
  <cp:lastPrinted>2013-01-30T23:16:36Z</cp:lastPrinted>
  <dcterms:modified xsi:type="dcterms:W3CDTF">2016-02-19T17:27:43Z</dcterms:modified>
  <cp:revision>843</cp:revision>
  <dc:subject/>
  <dc:title>FileNew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14C4FFC4A894504CB30DBFB7150C9A36</vt:lpwstr>
  </property>
  <property fmtid="{D5CDD505-2E9C-101B-9397-08002B2CF9AE}" pid="3" name="Information Classification">
    <vt:lpwstr/>
  </property>
  <property fmtid="{D5CDD505-2E9C-101B-9397-08002B2CF9AE}" pid="4" name="Vault">
    <vt:lpwstr>0</vt:lpwstr>
  </property>
</Properties>
</file>