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7"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AF2299-60AF-4291-953D-D194AFB8365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01FF3C-A09F-4798-B29C-3ECA83E0495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3A7660-2A75-48BB-8072-12F6B85E144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01B887-0BFB-4D0D-9710-192A010D8AF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00F324-ABC6-4F33-8085-5975BC4BE08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2EF82B-2049-4EAC-A08E-01E3280E672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1CBFD7-ABC6-40FB-82F4-528AEBBC57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C5B7F-6009-4DE0-ABFC-77DAB130B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C1975A-0FC8-43AF-9721-D1DAEDE2D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1E6C0A-7A9E-4A08-BCAE-9C02C39655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DE2C7-58C9-429A-8B26-535F3834D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278C0-30A9-4E79-BC22-C7B4B3306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3A61E-8E65-40F4-A66D-71E033A53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53827-2714-4F8A-BDC9-B67042CB4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B7EA2-186D-4C10-8538-62E1E40A9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5F5BE-4350-4B44-8527-C362268E7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019DC-EE02-4EB1-A149-BA4EF9372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B09EF-2FA1-40CC-8F72-6BFB7CEC07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 name="Picture 11" descr=""/>
          <p:cNvPicPr/>
          <p:nvPr/>
        </p:nvPicPr>
        <p:blipFill>
          <a:blip r:embed="rId2"/>
          <a:stretch/>
        </p:blipFill>
        <p:spPr>
          <a:xfrm>
            <a:off x="212760" y="0"/>
            <a:ext cx="8718480" cy="13716000"/>
          </a:xfrm>
          <a:prstGeom prst="rect">
            <a:avLst/>
          </a:prstGeom>
          <a:ln w="0">
            <a:noFill/>
          </a:ln>
        </p:spPr>
      </p:pic>
      <p:sp>
        <p:nvSpPr>
          <p:cNvPr id="2" name="PlaceHolder 1"/>
          <p:cNvSpPr>
            <a:spLocks noGrp="1"/>
          </p:cNvSpPr>
          <p:nvPr>
            <p:ph type="dt" idx="1"/>
          </p:nvPr>
        </p:nvSpPr>
        <p:spPr>
          <a:xfrm>
            <a:off x="456840" y="597528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2"/>
          <p:cNvSpPr>
            <a:spLocks noGrp="1"/>
          </p:cNvSpPr>
          <p:nvPr>
            <p:ph type="ftr" idx="2"/>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4" name="PlaceHolder 3"/>
          <p:cNvSpPr>
            <a:spLocks noGrp="1"/>
          </p:cNvSpPr>
          <p:nvPr>
            <p:ph type="sldNum" idx="3"/>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B16776-9D1C-423C-A1F0-C6A78FA1A85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2" name="Picture 11" descr=""/>
          <p:cNvPicPr/>
          <p:nvPr/>
        </p:nvPicPr>
        <p:blipFill>
          <a:blip r:embed="rId2"/>
          <a:stretch/>
        </p:blipFill>
        <p:spPr>
          <a:xfrm>
            <a:off x="212760" y="0"/>
            <a:ext cx="8718480" cy="13716000"/>
          </a:xfrm>
          <a:prstGeom prst="rect">
            <a:avLst/>
          </a:prstGeom>
          <a:ln w="0">
            <a:noFill/>
          </a:ln>
        </p:spPr>
      </p:pic>
      <p:sp>
        <p:nvSpPr>
          <p:cNvPr id="43" name="PlaceHolder 1"/>
          <p:cNvSpPr>
            <a:spLocks noGrp="1"/>
          </p:cNvSpPr>
          <p:nvPr>
            <p:ph type="ftr" idx="4"/>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1" name="Picture 11" descr=""/>
          <p:cNvPicPr/>
          <p:nvPr/>
        </p:nvPicPr>
        <p:blipFill>
          <a:blip r:embed="rId2"/>
          <a:stretch/>
        </p:blipFill>
        <p:spPr>
          <a:xfrm>
            <a:off x="212760" y="0"/>
            <a:ext cx="8718480" cy="13716000"/>
          </a:xfrm>
          <a:prstGeom prst="rect">
            <a:avLst/>
          </a:prstGeom>
          <a:ln w="0">
            <a:noFill/>
          </a:ln>
        </p:spPr>
      </p:pic>
      <p:sp>
        <p:nvSpPr>
          <p:cNvPr id="82"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973A20-20C5-41B6-8483-6905B5D106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ftr" idx="5"/>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1" name="Picture 11" descr=""/>
          <p:cNvPicPr/>
          <p:nvPr/>
        </p:nvPicPr>
        <p:blipFill>
          <a:blip r:embed="rId2"/>
          <a:stretch/>
        </p:blipFill>
        <p:spPr>
          <a:xfrm>
            <a:off x="212760" y="0"/>
            <a:ext cx="8718480" cy="13716000"/>
          </a:xfrm>
          <a:prstGeom prst="rect">
            <a:avLst/>
          </a:prstGeom>
          <a:ln w="0">
            <a:noFill/>
          </a:ln>
        </p:spPr>
      </p:pic>
      <p:sp>
        <p:nvSpPr>
          <p:cNvPr id="122" name="Straight Connector 6"/>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A18F50-1D36-4D67-A718-293A652CD4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ftr" idx="6"/>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12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3"/>
          <p:cNvGrpSpPr/>
          <p:nvPr/>
        </p:nvGrpSpPr>
        <p:grpSpPr>
          <a:xfrm>
            <a:off x="787320" y="2804760"/>
            <a:ext cx="7543800" cy="2840760"/>
            <a:chOff x="787320" y="2804760"/>
            <a:chExt cx="7543800" cy="2840760"/>
          </a:xfrm>
        </p:grpSpPr>
        <p:sp>
          <p:nvSpPr>
            <p:cNvPr id="171" name="TextBox 9"/>
            <p:cNvSpPr/>
            <p:nvPr/>
          </p:nvSpPr>
          <p:spPr>
            <a:xfrm>
              <a:off x="787320" y="3082680"/>
              <a:ext cx="7543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Item 6: PRS Report </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manda Frazie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2016 PRS Chai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chnical Advisory Committee (TAC) Meet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COT Publ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ebruary 25, 2016</a:t>
              </a:r>
              <a:endParaRPr b="0" lang="en-US" sz="1800" spc="-1" strike="noStrike">
                <a:solidFill>
                  <a:srgbClr val="000000"/>
                </a:solidFill>
                <a:latin typeface="Arial"/>
              </a:endParaRPr>
            </a:p>
          </p:txBody>
        </p:sp>
        <p:sp>
          <p:nvSpPr>
            <p:cNvPr id="172" name="Straight Connector 12"/>
            <p:cNvSpPr/>
            <p:nvPr/>
          </p:nvSpPr>
          <p:spPr>
            <a:xfrm flipV="1">
              <a:off x="787320" y="2804760"/>
              <a:ext cx="6286680" cy="12600"/>
            </a:xfrm>
            <a:prstGeom prst="line">
              <a:avLst/>
            </a:prstGeom>
            <a:ln w="25560">
              <a:solidFill>
                <a:srgbClr val="00385e"/>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379440" y="714240"/>
            <a:ext cx="8458200" cy="55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Unopposed (Vote):</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50, Clarify Resource Status when Providing Fast Responding Regulation Service* </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CR787, Maintain NDCRC Data For Generator Transfer Between Resource Entities </a:t>
            </a:r>
            <a:endParaRPr b="0" lang="en-US" sz="20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403200" y="738360"/>
            <a:ext cx="8493120" cy="55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With Opposing Votes (Vote):</a:t>
            </a:r>
            <a:endParaRPr b="0" lang="en-US" sz="20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49, Option Cost for Outstanding CRRs </a:t>
            </a:r>
            <a:endParaRPr b="0" lang="en-US" sz="20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 (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379440" y="98280"/>
            <a:ext cx="84456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749, Option Cost for Outstanding CRRs </a:t>
            </a:r>
            <a:endParaRPr b="0" lang="en-US" sz="2000" spc="-1" strike="noStrike">
              <a:solidFill>
                <a:srgbClr val="000000"/>
              </a:solidFill>
              <a:latin typeface="Arial"/>
            </a:endParaRPr>
          </a:p>
        </p:txBody>
      </p:sp>
      <p:graphicFrame>
        <p:nvGraphicFramePr>
          <p:cNvPr id="179" name=""/>
          <p:cNvGraphicFramePr/>
          <p:nvPr/>
        </p:nvGraphicFramePr>
        <p:xfrm>
          <a:off x="285840" y="700200"/>
          <a:ext cx="8585280" cy="5199120"/>
        </p:xfrm>
        <a:graphic>
          <a:graphicData uri="http://schemas.openxmlformats.org/drawingml/2006/table">
            <a:tbl>
              <a:tblPr/>
              <a:tblGrid>
                <a:gridCol w="1245960"/>
                <a:gridCol w="7339320"/>
              </a:tblGrid>
              <a:tr h="11271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aracen Energy Wes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requires ERCOT to publish the cost of options for all outstanding Congestion Revenue Rights (CRRs) within the CRR Auction proces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13064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n 1/14/16, PRS unanimously voted to recommend approval of NPRR749 as submitted.  On 2/11/16, PRS voted to endorse and forward to TAC the 1/14/16 PRS Report and the Impact Analysis for NPRR749 with a recommended priority of 2016 and a rank of 1570.  There was one opposing vote from the Investor Owned Utility (IOU) Market Segment.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80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Upon system implementation – Priority – 2016; Rank – 1570</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7099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Between $40k and $60k; Congestion Revenue Rights (CRR) and Enterprise Information System (EI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15375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urrently, ERCOT just publishes “Common_SourceAndSinkShadowPrices” which one can use to calculate “Obligation” cost for each source and sink pair.  This NPRR requests that ERCOT start providing the cost of options for all outstanding CRRs within the CRR Auction process, which will add transparency to the CRR proces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276120" y="714240"/>
            <a:ext cx="8493120" cy="554364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2016 PRS Goals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cess NPRRs and SCRs (Section 21 requirement).</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acilitate and make recommendations for Project Priorities for NPRRs and SCRs by reviewing Business Cases and ensuring they provide adequate justification. </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onsider requests and assignments from the ERCOT Board and TAC in a timely and diligent manner.</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Review Other Binding Documents (OBDs) annually for elimination or incorporation into Protocols/Market Guide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Review aging projects at least annually and make recommendations if additional actions are needed.</a:t>
            </a:r>
            <a:endParaRPr b="0" lang="en-US" sz="2000" spc="-1" strike="noStrike">
              <a:solidFill>
                <a:srgbClr val="000000"/>
              </a:solidFill>
              <a:latin typeface="Arial"/>
            </a:endParaRPr>
          </a:p>
        </p:txBody>
      </p:sp>
      <p:sp>
        <p:nvSpPr>
          <p:cNvPr id="181"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dditional PRS I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3"/>
          <p:cNvSpPr/>
          <p:nvPr/>
        </p:nvSpPr>
        <p:spPr>
          <a:xfrm>
            <a:off x="276120" y="714240"/>
            <a:ext cx="8493120" cy="554364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ERCOT Internal Labor Rate Revision</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ERCOT has maintained a $65/hour rate for internal labor on capital projects for &gt;10 years.</a:t>
            </a:r>
            <a:endParaRPr b="0" lang="en-US" sz="2000" spc="-1" strike="noStrike">
              <a:solidFill>
                <a:srgbClr val="000000"/>
              </a:solidFill>
              <a:latin typeface="Arial"/>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ERCOT Finance department has evaluated current ERCOT staffing cost and has determined the $65/hour rate is not sufficient to account for average hourly cost for ERCOT staff who work on projects.</a:t>
            </a:r>
            <a:endParaRPr b="0" lang="en-US" sz="2000" spc="-1" strike="noStrike">
              <a:solidFill>
                <a:srgbClr val="000000"/>
              </a:solidFill>
              <a:latin typeface="Arial"/>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r 2016, the ERCOT labor rate attributed to projects is $75/hour.</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Future internal labor rate changes to be evaluated in future budget cycles.</a:t>
            </a:r>
            <a:endParaRPr b="0" lang="en-US" sz="2000" spc="-1" strike="noStrike">
              <a:solidFill>
                <a:srgbClr val="000000"/>
              </a:solidFill>
              <a:latin typeface="Arial"/>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ERCOT has allocated a $400k contingency for 2016-2017 market projects to ensure PPL funding for Board-approved Revision Requests is not impacted ($800k total).</a:t>
            </a:r>
            <a:endParaRPr b="0" lang="en-US" sz="2000" spc="-1" strike="noStrike">
              <a:solidFill>
                <a:srgbClr val="000000"/>
              </a:solidFill>
              <a:latin typeface="Arial"/>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s is an internal adjustment for calculating Impact Analysis cost estimates and actual project labor costs.  It does </a:t>
            </a:r>
            <a:r>
              <a:rPr b="1" lang="en-US" sz="2000" spc="-1" strike="noStrike">
                <a:solidFill>
                  <a:srgbClr val="000000"/>
                </a:solidFill>
                <a:latin typeface="Arial"/>
              </a:rPr>
              <a:t>not</a:t>
            </a:r>
            <a:r>
              <a:rPr b="0" lang="en-US" sz="2000" spc="-1" strike="noStrike">
                <a:solidFill>
                  <a:srgbClr val="000000"/>
                </a:solidFill>
                <a:latin typeface="Arial"/>
              </a:rPr>
              <a:t> impact the ERCOT System Administration Fee.</a:t>
            </a:r>
            <a:endParaRPr b="0" lang="en-US" sz="2000" spc="-1" strike="noStrike">
              <a:solidFill>
                <a:srgbClr val="000000"/>
              </a:solidFill>
              <a:latin typeface="Arial"/>
            </a:endParaRPr>
          </a:p>
        </p:txBody>
      </p:sp>
      <p:sp>
        <p:nvSpPr>
          <p:cNvPr id="183"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dditional PRS I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ppendi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NPRR750, Clarify Resource Status when Providing Fast Responding Regulation Service [ERCOT]</a:t>
            </a:r>
            <a:endParaRPr b="0" lang="en-US" sz="1800" spc="-1" strike="noStrike">
              <a:solidFill>
                <a:srgbClr val="000000"/>
              </a:solidFill>
              <a:latin typeface="Arial"/>
            </a:endParaRPr>
          </a:p>
        </p:txBody>
      </p:sp>
      <p:sp>
        <p:nvSpPr>
          <p:cNvPr id="186" name="Rectangle 2"/>
          <p:cNvSpPr/>
          <p:nvPr/>
        </p:nvSpPr>
        <p:spPr>
          <a:xfrm>
            <a:off x="487440" y="879480"/>
            <a:ext cx="81579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clarifies current practice for setting telemetry when providing Fast Responding Regulation Service (FRR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May 1, 2016</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1/14/16, PRS unanimously voted to recommend approval of NPRR750 as revised by PRS.  On 2/11/16, PRS unanimously voted to endorse and forward to TAC the 1/14/16 PRS Report as revised by PRS and the Impact Analysis for NPRR75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79080" y="134640"/>
            <a:ext cx="8458200" cy="461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CR787, Maintain NDCRC Data For Generator Transfer Between Resource Entities [Exelon]</a:t>
            </a:r>
            <a:endParaRPr b="0" lang="en-US" sz="1800" spc="-1" strike="noStrike">
              <a:solidFill>
                <a:srgbClr val="000000"/>
              </a:solidFill>
              <a:latin typeface="Arial"/>
            </a:endParaRPr>
          </a:p>
        </p:txBody>
      </p:sp>
      <p:sp>
        <p:nvSpPr>
          <p:cNvPr id="188" name="Rectangle 2"/>
          <p:cNvSpPr/>
          <p:nvPr/>
        </p:nvSpPr>
        <p:spPr>
          <a:xfrm>
            <a:off x="563400" y="785880"/>
            <a:ext cx="79981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SCR enhances the NDCRC application to provide historical generator information to all associated Resource Entiti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 Priority 2016; Rank 158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30k and $50k; no impacts to ERCOT staffing; impacts to Net Dependable Capability and Reactive Capability Systems (NDCRC) and EIS;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  </a:t>
            </a:r>
            <a:r>
              <a:rPr b="0" lang="en-US" sz="1800" spc="-1" strike="noStrike">
                <a:solidFill>
                  <a:srgbClr val="000000"/>
                </a:solidFill>
                <a:latin typeface="Arial"/>
              </a:rPr>
              <a:t>On 1/14/16, PRS unanimously voted to recommend approval of SCR787 as submitted.  On 2/11/16, PRS unanimously voted to endorse and forward to TAC the 1/14/16 PRS Report and the Impact Analysis for SCR787 with a recommended priority of 2016 and a rank of 158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3:12:02Z</dcterms:created>
  <dc:creator>Diana</dc:creator>
  <dc:description/>
  <dc:language>en-US</dc:language>
  <cp:lastModifiedBy>SENA</cp:lastModifiedBy>
  <cp:lastPrinted>2013-01-30T23:16:36Z</cp:lastPrinted>
  <dcterms:modified xsi:type="dcterms:W3CDTF">2016-02-15T20:33:17Z</dcterms:modified>
  <cp:revision>289</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EB6C32BA7893B4D8D08DA703C6B8599</vt:lpwstr>
  </property>
  <property fmtid="{D5CDD505-2E9C-101B-9397-08002B2CF9AE}" pid="3" name="Information Classification">
    <vt:lpwstr/>
  </property>
</Properties>
</file>