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notesMasterIdLst>
    <p:notesMasterId r:id="rId24"/>
  </p:notesMasterIdLst>
  <p:sldIdLst>
    <p:sldId id="256" r:id="rId25"/>
    <p:sldId id="257" r:id="rId26"/>
    <p:sldId id="258" r:id="rId27"/>
    <p:sldId id="259" r:id="rId28"/>
    <p:sldId id="260" r:id="rId29"/>
    <p:sldId id="261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notesMaster" Target="notesMasters/notesMaster1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dt" idx="4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 type="ftr" idx="4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 type="sldNum" idx="4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CDD95A-5C94-48C9-8716-DB8ACD6452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55A57F-32D2-41CA-9059-01197728CD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754A2D-683C-4030-A460-D9F759C5D1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7E3EC1-1C67-4FEF-858C-A5DA29E9CB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A931-F5EA-4597-85EB-FB0B75F5B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5E00-20AD-42E7-A40F-C3B42C21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62A495-FD87-431A-9F34-79B8AB62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1A9888-98D6-4E83-8CE2-307703B8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6F022E-7948-452C-9B9F-DAA34E1F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BFE8DC-3911-4CFD-B869-73D48299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A1B075-A233-465A-B06A-1ADB3707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C0CBF0-1F86-46E1-B61C-FD81D612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F94D50-F09C-404E-9AC0-C5FAA10D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5B0929-24CA-4957-A2BD-19F7999CB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E2F77A-9306-49DF-BEEB-A180D77E9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D719DA-0BA4-417E-97D2-4F36A4D1D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8976-3C87-4C89-B43E-A6B0E3836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19F527-2926-4E2A-B7A2-2779ABB6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03D5B2-0C57-45E1-B454-D904FA94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241EEA-0B64-4C42-93F6-44ECA85F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37737C-2ACA-424D-B74F-46FDC55D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5B9F2B-36BC-439B-99D8-02AC39A2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43D58F-265E-499C-B932-04B05F98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1F1F03-4218-4860-9950-1CA9B773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58FE6F-13A8-4AA4-98B3-494E8A22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22C9D7-0417-4851-BB50-6401B2E5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0EDAB1-F4A0-40CF-8FCA-268BB496C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23BF-4BE5-4F7A-B424-CA0E9F2E1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0D416A-9058-479C-B346-5835F775E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C0271A-B141-4CF2-8D43-C0FCE0315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F7AFBE-5733-473B-9D29-859743A7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FB57B3-CF09-4A03-B1B7-E09DDB08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310CB3-80E3-4327-B6C8-5BDDFC1E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689751-EA5B-432D-B292-9986DAB5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D729AE-9E55-443B-8182-E71F5FB0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AF351D-3144-4B6B-BE75-6BCAEBDA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109B96-6633-49AF-B061-00986EBC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CA902A-AF22-4717-8EFA-51A4AE80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24FC-DD2C-42D7-BC08-EF3F52C12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28FF18-6CE4-4C8F-9FFE-E49873BF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224FF0-071A-4752-B705-43651D0F2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66E1F2-F6E2-4BD6-A016-4D29AA32A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8F18A3-A662-4BDC-9670-57BBE887F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F10A2F2-CAEA-4C4A-8878-DB164E20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957EF0-CDA7-4710-B371-DAC8CF79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E2BBF9-B6CD-4839-993F-88B0AEEF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E480CE-7E72-4100-B044-D3FC55EE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D21659-D73D-42C6-AACC-40350DD9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8AC4F7-78C4-469D-840A-7F3BA1E4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7D8E-DF00-49D6-8BD6-66799E6E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41DC7BB-91C1-4993-9CA1-A665FF91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AC8F89-EF84-4B93-810B-E45A3B8C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801EF7-5092-4C2E-82E2-512DFA3B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3474DC-163C-48B9-A78C-E5C764776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2D2FAAB-9ED8-4AFD-84D8-3713DC43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565AB1-DEE6-4CD7-96B1-9F71791AF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0915D6-EA69-45F0-9DDB-37F14F02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A8B102-B33B-4D0A-AC96-19BBDFEA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13DDD12-8959-4534-A909-995428BD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9682936-1C95-4560-A0D2-D92E79F0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160D-9525-48F4-8021-12B1444A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CD22F72-C373-4353-BF5E-0544A940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3638078-0319-4148-B7A4-AD6973F5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5D6FCBC-DD56-469B-A2B2-8C7A3E30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E71F2CE-619D-4C95-986F-2199D29F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8F7C0AD-D252-4A39-95A9-8E72F87E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DCA6E7F-F6CA-4250-971B-2BDE52743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BE2D566-8B47-43CB-B67E-F57645C2F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6CE490-298C-457B-91F6-3C3E97D74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B20C7A-77A0-4F58-8E58-86E54A4B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0F4F037-9F80-4F0F-8479-31BA57E9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D164-0E29-4CAF-B786-2DE84327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0733A0-4249-47FB-9069-39E542CB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A91DD0-4C3C-4A6B-AF85-3AD19EC3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C9F7B5-6F3D-478F-AE6F-FD84A20A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140091-8FCE-4274-AA82-6376A2E3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F67203-8F2F-4109-8133-340F62A5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BCDACB-2DA5-4BBE-8863-941DF40A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9DAA81-AAFA-4935-8398-C76D06F0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8C1003-F9C4-4A04-96CF-63D30B15E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F1F22E-8A7B-4349-BCB6-DF1AC8A22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CC04-0B48-4903-A25F-11CE6D34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A1A0-1BE3-47E0-8F8C-12D66CB4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7D1D-0023-40B4-BE2F-AE6260F8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3386-06C2-4F62-9582-403F25FF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915E-DFEA-4A66-A762-61D8B0A0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0355-0063-4C7A-B8F7-2CE1DE9B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C020-B0FC-406E-A637-9693E70D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16EA-52F0-48CA-BB7B-77336F5EE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3308-E84E-478F-BAF2-8E14ED999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3270-D519-4C89-A766-D5C032A1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ECA6-BAC1-42D3-A635-D0219466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E9C66B-DC04-42EC-A7B8-04CCE4B55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1031-565F-4107-A19D-B1D88C03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D31F59-2319-45E0-9D1C-745E4718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7EF6DE-9F08-4B20-B75F-D14831ED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7CED15-ADA1-4A1B-93C3-D9ED8386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A0C086-3396-40D5-B4D8-676E51F9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5FE895-0936-4862-9F3F-8F4977A9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6758ED-FE1B-4DD9-8FE7-497993F8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DABCBD-DABE-4C85-987D-DFE9F9EC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5FF7EF-28C8-4298-9DB8-F51D16A4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FACAD5-D788-49C7-AABC-51DD75B6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C558BF-8F3C-43B0-B4C5-EDEB0DBA0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648C-6AAE-41E5-A6CE-5EF68F2C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7BFC71-14CB-45EB-996E-38BE95295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2F45C0-693D-4A0D-9FF5-1C88A2A32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0BC70E-B50F-46E4-8506-7575336B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5379D4-D6A6-4580-91EB-F5C286B3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AC438D-2344-4833-918B-7881C5F9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886DD5-71B1-466D-8988-922B0ED8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443FAA-E6D5-4562-BCE7-A19C6028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349EE8-98B8-4381-AABC-8DF071E4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41B225-7A79-4D81-A7F6-ACAEF77E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BB0741-5EF1-4D76-8023-4777A9B2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139A-30F5-4663-8065-2ED0C2A1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8EB4D9-B0E3-4966-96D8-26C3B619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15E0FB-EFD4-4D12-AD5F-BF6EA0CF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FC33A0-25F5-4016-A2A7-4E4BADBAD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F981B9-0E68-470B-8A30-21DE652F1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CA3ABD-9BB9-4669-893D-A644BFE1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D86E1E-F8DF-4E30-B608-83FD9A60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152C80-D30D-4C87-944B-66F7473E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DE790E-F57D-42A0-91EA-CCFA4704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379191-B6CE-4B51-8BD8-9766A73F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2E6DB7-33BD-44D9-8DFE-F0E983AA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9669-7302-47BD-8307-455F8616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D234A8-4556-4115-98AD-A2B18F05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501EF0-53FE-49A3-8F58-8FB5D0BE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7B4FCE-D48E-42E2-85A5-C144D37F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7FC85F-9DDC-4C34-A4ED-85862E850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AC8273-B088-4428-B640-C29AF464F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693D81-5D9A-4C5D-B22D-F2A7BBFA5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82956A-C98D-497A-823E-2A5DECFC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23FECF-3CED-48EB-93C0-270084F9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C30054-8FFB-45DD-8EFB-E2633E03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3A704B-15F8-4C7A-8804-AA0CEE7F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CDA9-7A64-45D4-9E18-7361A817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C503BA-1A75-4328-AA62-58EFD527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4652C7-655C-4969-9F52-D4CD289A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1C44F8-E9F9-4487-8A73-71F78FD7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DF2D15-3D5F-4FFD-942A-A33A0C03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E104EB-2DBE-4872-8E5A-9A72F42E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D8A88A-C87C-4A24-BE2B-4B576810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74DC18-E17B-4114-8E62-25A428364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5ABA1A-5AB0-4D1B-9532-095C0C1D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F70F88-3EBA-4051-A7F8-46AE797E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FDB811-0EC9-4B9E-A09E-CE643DD4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B4C65E-5146-4B95-BB73-924C08967AD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February 25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B97FC2-4064-4A7B-A00A-750FDD2F8E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6FEA49-CEDE-4C08-993B-465E35FD2FC3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FEBRUARY 25</a:t>
            </a:r>
            <a:r>
              <a:rPr b="0" lang="en-US" sz="9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2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389FBF-0EEF-49D8-BC26-840817D269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7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FE6B64-3573-445C-B340-66EFD1B5F92F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8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4068"/>
                </a:solidFill>
                <a:latin typeface="Times New Roman"/>
              </a:rPr>
              <a:t>FEBRUARY 25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2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54EBB2-31D6-49FB-985A-0BB969744B71}" type="slidenum">
              <a:rPr b="0" lang="en-US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76B947-D41A-43B9-AD89-93A3D05713C9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FEBRUARY 25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E4261C-786A-4F99-A205-EE3F1F6722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3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2CCAA4-FB41-4177-8A94-F83E8A022EEF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4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FEBRUARY 25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509AD6-E973-4786-8516-5580F45F33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3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873D34-5716-4E48-926C-6FFC8BB1D1F8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3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FEBRUARY 25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3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AA1E56-FB2B-4885-9EC4-F9CF4C1544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624E28-CF63-4625-BBE1-8DC4CF61A9B5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ftr" idx="3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FEBRUARY 25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3108A7-AA57-40FF-B72B-44F6C892CC89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ftr" idx="4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FEBRUARY 25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01259B-A834-4D1E-A9F7-79FC4C70AA19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ftr" idx="4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FEBRUARY 25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A38B40-06AD-431F-9887-4130B3F7B5DA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ftr" idx="42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FEBRUARY 25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2E4102-4A22-4D7E-972D-5F2418447AB2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ftr" idx="4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FEBRUARY 25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E82C20-E045-4721-919A-D064ABA9FB93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FEBRUARY 25</a:t>
            </a:r>
            <a:r>
              <a:rPr b="0" lang="en-US" sz="9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E7D257-B42F-44B4-AAF5-E9A37A28E6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5DF00D-2F16-4870-960C-4CBC2E0CAC91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ftr" idx="4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FEBRUARY 25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022975-32E1-4253-83B4-BF57106A42B3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ftr" idx="4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FEBRUARY 25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6A6C43-8F06-4801-B339-3DFC4FF096D7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ftr" idx="4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FEBRUARY 25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ftr" idx="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February 25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8DBF37-102C-4BE9-BC34-CB8B200C9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ftr" idx="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February 25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C02041-AA91-4E4C-81F2-DBFF04A03E1D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FEBRUARY 25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FA403A-CC07-4965-9853-51237778DF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2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F76594-E7DA-4A1E-BF2A-BA63C4248AF5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3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FEBRUARY 25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4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BB34E7-637F-44AD-8452-1C9C33F8BE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5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6BA346-E45D-4367-AC05-5A3B716C0552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6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FEBRUARY 25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7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725DDA-8372-463B-8808-971E1D4AA4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8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EB9933-ACC4-4E2D-B1A4-356CAB760EA1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19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FEBRUARY 25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0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266B1D-5BF1-4A00-A3F7-8EEE8AD029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76F349-BDEB-49DC-81D0-18D83C97CE43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FEBRUARY 25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701E3C-8A7F-4808-AEE5-4464433BC7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9" name="Group 13"/>
          <p:cNvGrpSpPr/>
          <p:nvPr/>
        </p:nvGrpSpPr>
        <p:grpSpPr>
          <a:xfrm>
            <a:off x="787320" y="2804760"/>
            <a:ext cx="7543800" cy="2871720"/>
            <a:chOff x="787320" y="2804760"/>
            <a:chExt cx="7543800" cy="2871720"/>
          </a:xfrm>
        </p:grpSpPr>
        <p:sp>
          <p:nvSpPr>
            <p:cNvPr id="960" name="TextBox 9"/>
            <p:cNvSpPr/>
            <p:nvPr/>
          </p:nvSpPr>
          <p:spPr>
            <a:xfrm>
              <a:off x="787320" y="3082680"/>
              <a:ext cx="7543800" cy="25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holesale Market Subcommittee (WM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eremy Carpe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6 WMS 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hnical Advisory Committee (TAC) Meeting Rep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1584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2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5TH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Meeting Schedule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ast WMS mee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ebruary 3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rd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, 2016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Next WMS mee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March 2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nd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, 2016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5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5TH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WMS Vote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2016 WMS Working Group/Task Force Leadership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ndorsed (Unanimously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NPRR 696 – Price Correction Process Following a SCED Failur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Recommended PRS Continue to Table (Unanimously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NPRR 745 – Change ERS Availability from an Hourly to 15-minute Interval Evaluation plus Other Minor Chang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ndorsed with 1/13/06 ERCOT comments as revised by WMS (1 Abstention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NPRR 746 – Adjustments Due to Negative Load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ndorsed (1 Abstention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8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5TH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WMS Votes (Continued)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2016 WMS Goals for presentation to TAC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pproved (Unanimously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MCWG proposed comments to NPRR 741 – Clarifications to TPE and EAL Credit Exposure Calcula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llow MCWG to file comments to NPRR 741 (1 Abstention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NPRR 744 – RUC Trigger for the Reliability Deployment Price Adder and Alignment with RUC Settlemen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ndorsed (1 Abstention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1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5TH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2016 WMS Goal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3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5TH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Regional Haze Workshop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ule finalized in December, 2015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ERCOT proposed holding a Regional Haze/RMR workshop in Fall 2016, after any potential litigation is settled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WMS members and other Market Participants expressed the desire to hold the workshop sooner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WMS discussed what group/committee should lead this effor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urrently at QMW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hould be at least WMS or joint WMS/ROS?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eking guidance from TAC 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6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5TH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Carpenter, Jeremy</cp:lastModifiedBy>
  <cp:lastPrinted>2013-01-30T23:16:36Z</cp:lastPrinted>
  <dcterms:modified xsi:type="dcterms:W3CDTF">2016-02-17T20:19:23Z</dcterms:modified>
  <cp:revision>860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4C4FFC4A894504CB30DBFB7150C9A36</vt:lpwstr>
  </property>
  <property fmtid="{D5CDD505-2E9C-101B-9397-08002B2CF9AE}" pid="3" name="Information Classification">
    <vt:lpwstr/>
  </property>
  <property fmtid="{D5CDD505-2E9C-101B-9397-08002B2CF9AE}" pid="4" name="Vault">
    <vt:lpwstr>0</vt:lpwstr>
  </property>
</Properties>
</file>