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2918B-49A0-46D1-85E9-C8D9B70347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03575-EF5E-4789-8CE7-26BC538E0F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6EA19-69A3-45FA-98C0-16AF671189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E2BF5-A82A-45FB-B2FE-ACD78EE36D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6858C-C884-4D36-82F5-E7B26AA350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C1A07-2A0F-4675-A97F-DFAF1A6C50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D8673-F88F-4E24-BD6C-B247F4932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E56E5-88BE-4DF5-A3F7-8A77F0F2F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27FB1-E98D-4292-8404-01C4B76F0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7CF06-212F-44DC-94F5-90BB8492A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163ED-543C-47E7-87B4-1F9E6BD21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497E7-F82B-4530-974C-D4E0DCDEA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141B-F52D-462A-9692-ED4D0E552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DAF6-E7B9-44C5-A1B9-424892B9A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A0FF-5A30-4C36-9288-5AB605C43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B509A-83C6-4556-B954-10E0D7E55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5E18C-C98A-4404-825E-D89FF5DDF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77EE-C5A6-4DFE-B104-6911289C4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14A94-7FCE-4DC0-A733-F2B05982F7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9EB09-4F21-4FA3-8789-7D5C08DB2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E4FDC-0565-4AD8-8423-79545E607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6: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ebruary 25,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0, Clarify Resource Status when Providing Fast Responding Regulation Service*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7, Maintain NDCRC Data For Generator Transfer Between Resource Entities </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9, Option Cost for Outstanding CRRs </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49, Option Cost for Outstanding CRRs </a:t>
            </a:r>
            <a:endParaRPr b="0" lang="en-US" sz="2000" spc="-1" strike="noStrike">
              <a:solidFill>
                <a:srgbClr val="000000"/>
              </a:solidFill>
              <a:latin typeface="Arial"/>
            </a:endParaRPr>
          </a:p>
        </p:txBody>
      </p:sp>
      <p:graphicFrame>
        <p:nvGraphicFramePr>
          <p:cNvPr id="179" name=""/>
          <p:cNvGraphicFramePr/>
          <p:nvPr/>
        </p:nvGraphicFramePr>
        <p:xfrm>
          <a:off x="285840" y="700200"/>
          <a:ext cx="8585280" cy="519912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aracen Energy Wes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requires ERCOT to publish the cost of options for all outstanding Congestion Revenue Rights (CRRs) within the CRR Auction proces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0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1/14/16, PRS unanimously voted to recommend approval of NPRR749 as submitted.  On 2/11/16, PRS voted to endorse and forward to TAC the 1/14/16 PRS Report and the Impact Analysis for NPRR749 with a recommended priority of 2016 and a rank of 1570.  There was one opposing vote from the Investor Owned Utility (IOU) Market Segmen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 2016; Rank – 157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9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40k and $60k; Congestion Revenue Rights (CRR) and Enterprise Information System (EI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7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urrently, ERCOT just publishes “Common_SourceAndSinkShadowPrices” which one can use to calculate “Obligation” cost for each source and sink pair.  This NPRR requests that ERCOT start providing the cost of options for all outstanding CRRs within the CRR Auction process, which will add transparency to the CRR proces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7612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16 PRS Goal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cess NPRRs and SCRs (Section 21 requiremen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acilitate and make recommendations for Project Priorities for NPRRs and SCRs by reviewing Business Cases and ensuring they provide adequate justification.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sider requests and assignments from the ERCOT Board and TAC in a timely and diligent manner.</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view Other Binding Documents (OBDs) annually for elimination or incorporation into Protocols/Market Guid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view aging projects at least annually and make recommendations if additional actions are needed.</a:t>
            </a:r>
            <a:endParaRPr b="0" lang="en-US" sz="2000" spc="-1" strike="noStrike">
              <a:solidFill>
                <a:srgbClr val="000000"/>
              </a:solidFill>
              <a:latin typeface="Arial"/>
            </a:endParaRPr>
          </a:p>
        </p:txBody>
      </p:sp>
      <p:sp>
        <p:nvSpPr>
          <p:cNvPr id="181"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27612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RCOT Internal Labor Rate Revis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has maintained a $65/hour rate for internal labor on capital projects for &gt;10 years.</a:t>
            </a:r>
            <a:endParaRPr b="0" lang="en-US" sz="2000" spc="-1" strike="noStrike">
              <a:solidFill>
                <a:srgbClr val="000000"/>
              </a:solidFill>
              <a:latin typeface="Arial"/>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ERCOT Finance department has evaluated current ERCOT staffing cost and has determined the $65/hour rate is not sufficient to account for average hourly cost for ERCOT staff who work on projects.</a:t>
            </a:r>
            <a:endParaRPr b="0" lang="en-US" sz="2000" spc="-1" strike="noStrike">
              <a:solidFill>
                <a:srgbClr val="000000"/>
              </a:solidFill>
              <a:latin typeface="Arial"/>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r 2016, the ERCOT labor rate attributed to projects is $75/hou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uture internal labor rate changes to be evaluated in future budget cycles.</a:t>
            </a:r>
            <a:endParaRPr b="0" lang="en-US" sz="2000" spc="-1" strike="noStrike">
              <a:solidFill>
                <a:srgbClr val="000000"/>
              </a:solidFill>
              <a:latin typeface="Arial"/>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has allocated a $400k contingency for 2016-2017 market projects to ensure PPL funding for Board-approved Revision Requests is not impacted ($800k total).</a:t>
            </a:r>
            <a:endParaRPr b="0" lang="en-US" sz="2000" spc="-1" strike="noStrike">
              <a:solidFill>
                <a:srgbClr val="000000"/>
              </a:solidFill>
              <a:latin typeface="Arial"/>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s is an internal adjustment for calculating Impact Analysis cost estimates and actual project labor costs.  It does </a:t>
            </a:r>
            <a:r>
              <a:rPr b="1" lang="en-US" sz="2000" spc="-1" strike="noStrike">
                <a:solidFill>
                  <a:srgbClr val="000000"/>
                </a:solidFill>
                <a:latin typeface="Arial"/>
              </a:rPr>
              <a:t>not</a:t>
            </a:r>
            <a:r>
              <a:rPr b="0" lang="en-US" sz="2000" spc="-1" strike="noStrike">
                <a:solidFill>
                  <a:srgbClr val="000000"/>
                </a:solidFill>
                <a:latin typeface="Arial"/>
              </a:rPr>
              <a:t> impact the ERCOT System Administration Fee.</a:t>
            </a:r>
            <a:endParaRPr b="0" lang="en-US" sz="2000" spc="-1" strike="noStrike">
              <a:solidFill>
                <a:srgbClr val="000000"/>
              </a:solidFill>
              <a:latin typeface="Arial"/>
            </a:endParaRPr>
          </a:p>
        </p:txBody>
      </p:sp>
      <p:sp>
        <p:nvSpPr>
          <p:cNvPr id="183"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50, Clarify Resource Status when Providing Fast Responding Regulation Service [ERCOT]</a:t>
            </a:r>
            <a:endParaRPr b="0" lang="en-US" sz="1800" spc="-1" strike="noStrike">
              <a:solidFill>
                <a:srgbClr val="000000"/>
              </a:solidFill>
              <a:latin typeface="Arial"/>
            </a:endParaRPr>
          </a:p>
        </p:txBody>
      </p:sp>
      <p:sp>
        <p:nvSpPr>
          <p:cNvPr id="186"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current practice for setting telemetry when providing Fast Responding Regulation Service (FR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4/16, PRS unanimously voted to recommend approval of NPRR750 as revised by PRS.  On 2/11/16, PRS unanimously voted to endorse and forward to TAC the 1/14/16 PRS Report as revised by PRS and the Impact Analysis for NPRR75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34640"/>
            <a:ext cx="84582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CR787, Maintain NDCRC Data For Generator Transfer Between Resource Entities [Exelon]</a:t>
            </a:r>
            <a:endParaRPr b="0" lang="en-US" sz="1800" spc="-1" strike="noStrike">
              <a:solidFill>
                <a:srgbClr val="000000"/>
              </a:solidFill>
              <a:latin typeface="Arial"/>
            </a:endParaRPr>
          </a:p>
        </p:txBody>
      </p:sp>
      <p:sp>
        <p:nvSpPr>
          <p:cNvPr id="188" name="Rectangle 2"/>
          <p:cNvSpPr/>
          <p:nvPr/>
        </p:nvSpPr>
        <p:spPr>
          <a:xfrm>
            <a:off x="563400" y="785880"/>
            <a:ext cx="79981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SCR enhances the NDCRC application to provide historical generator information to all associated Resource Entiti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58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k and $50k; no impacts to ERCOT staffing; impacts to Net Dependable Capability and Reactive Capability Systems (NDCRC) and E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1/14/16, PRS unanimously voted to recommend approval of SCR787 as submitted.  On 2/11/16, PRS unanimously voted to endorse and forward to TAC the 1/14/16 PRS Report and the Impact Analysis for SCR787 with a recommended priority of 2016 and a rank of 158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SENA</cp:lastModifiedBy>
  <cp:lastPrinted>2013-01-30T23:16:36Z</cp:lastPrinted>
  <dcterms:modified xsi:type="dcterms:W3CDTF">2016-02-15T20:33:17Z</dcterms:modified>
  <cp:revision>289</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