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C1FF-C8D9-4153-A819-1158391C0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6DBF-7989-4E1A-9D44-5CA49A77B5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1F6C607-C116-4C23-BE89-167D02021F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C4941AB-E1F6-45B9-BC2C-9DFFE1093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4BE41FF-11D3-4CC3-9779-A1C3E507B7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AE9F266-3F49-402D-9C4F-28D4932457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E62D2-A8B6-456A-9895-C8FB62EA8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158FF-390A-4896-89A2-C1FD822CF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BC5E2-D516-42C5-8635-D4EE21288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ED4F0F-5466-475F-8A1D-64F4117AD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506EE-1209-4DBE-A39E-3BA630884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333ED-E9D7-478D-A1D2-5949BD4E7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A1E93-3EE8-4650-B5B0-19B5BF45F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AE56A4A-8A5C-49FE-8533-92582B07BD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EFA06-81F0-4DA0-BDB0-F20A6136D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F8D73-9C02-4FDB-A888-2A6292EFE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CA120-123D-4984-8384-21AF89209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8A2B99-75DA-463C-9A00-48E00F904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4C08D-C27C-4164-A4E8-315A80079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A1EAB2-6B92-4966-B304-EB81202E5F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191A3E-8A2A-49C4-9A60-C22C46063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A76E69-7CF9-4B08-9136-014AA4100F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147964-E821-40A1-A8AD-F8FF0E0ADA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B86E8-EBD7-4EDD-9E23-86FDD9192D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6568859-EAF2-460B-AAAF-C8D90FC3E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515E0-CAB7-4AAB-8DFA-8C08A1AC6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49EC8-4161-4092-8A66-7BB187330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52202F-8A04-44E7-8AA4-CC22761464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F3F84-9EB3-40C4-86A2-0089AD5B0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EAC7C9-52BA-4146-A15C-172E2C213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322EF8-4EE7-4D4E-A5E8-F3804104C9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EDBBD6-7828-4861-84D8-CA6E514D66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0D7515D-E7E9-414E-BA9F-6AC076272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0A77D83-C0EA-42C5-88BF-A42B34405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8811AF9-7D7F-4458-A412-74BD838FF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25E05AA-CD9F-4F2D-BDBB-9FC3671F2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6D4B99A-61F9-4D28-8414-1A878FA425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669AA9-2CF5-4CE4-9291-3068409BB3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0E0D-4851-4AD7-B94B-21E3C0DE73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31F4-90B0-4C44-91A3-3D564238F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CE5A-551C-468E-9599-C3E27649E8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Picture 7" descr="Copy of Ercot Logo"/>
          <p:cNvPicPr/>
          <p:nvPr/>
        </p:nvPicPr>
        <p:blipFill>
          <a:blip r:embed="rId2"/>
          <a:stretch/>
        </p:blipFill>
        <p:spPr>
          <a:xfrm>
            <a:off x="7315200" y="76320"/>
            <a:ext cx="1752480" cy="941400"/>
          </a:xfrm>
          <a:prstGeom prst="rect">
            <a:avLst/>
          </a:prstGeom>
          <a:ln w="0">
            <a:noFill/>
          </a:ln>
        </p:spPr>
      </p:pic>
      <p:sp>
        <p:nvSpPr>
          <p:cNvPr id="51"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2"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3172-4EC2-4C92-876E-804336DF0D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Copy of Ercot Logo"/>
          <p:cNvPicPr/>
          <p:nvPr/>
        </p:nvPicPr>
        <p:blipFill>
          <a:blip r:embed="rId2"/>
          <a:stretch/>
        </p:blipFill>
        <p:spPr>
          <a:xfrm>
            <a:off x="7315200" y="76320"/>
            <a:ext cx="1752480" cy="941400"/>
          </a:xfrm>
          <a:prstGeom prst="rect">
            <a:avLst/>
          </a:prstGeom>
          <a:ln w="0">
            <a:noFill/>
          </a:ln>
        </p:spPr>
      </p:pic>
      <p:sp>
        <p:nvSpPr>
          <p:cNvPr id="95"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96"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6" name="PlaceHolder 3"/>
          <p:cNvSpPr>
            <a:spLocks noGrp="1"/>
          </p:cNvSpPr>
          <p:nvPr>
            <p:ph type="dt" idx="10"/>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37" name="PlaceHolder 4"/>
          <p:cNvSpPr>
            <a:spLocks noGrp="1"/>
          </p:cNvSpPr>
          <p:nvPr>
            <p:ph type="ftr" idx="11"/>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ercot.com/committees/board/tac/cops/pwg/"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5E89-5581-477E-B7BD-6F4B7A5D6B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p:nvPr>
        </p:nvSpPr>
        <p:spPr>
          <a:xfrm>
            <a:off x="761760" y="1600200"/>
            <a:ext cx="7543800" cy="44956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8c93"/>
                </a:solidFill>
                <a:latin typeface="Arial"/>
                <a:ea typeface="Times New Roman"/>
              </a:rPr>
              <a:t>Profiling Working Group</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8c93"/>
                </a:solidFill>
                <a:latin typeface="Arial"/>
                <a:ea typeface="Times New Roman"/>
              </a:rPr>
              <a:t>Update to COP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8c93"/>
                </a:solidFill>
                <a:latin typeface="Arial"/>
                <a:ea typeface="Times New Roman"/>
              </a:rPr>
              <a:t>February 10, 2016</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c8c93"/>
                </a:solidFill>
                <a:latin typeface="Arial"/>
                <a:ea typeface="Times New Roman"/>
              </a:rPr>
              <a:t>Jim Lee (AEP) – Chair</a:t>
            </a:r>
            <a:br>
              <a:rPr sz="2400"/>
            </a:br>
            <a:r>
              <a:rPr b="1" lang="en-US" sz="2400" spc="-1" strike="noStrike">
                <a:solidFill>
                  <a:srgbClr val="3c8c93"/>
                </a:solidFill>
                <a:latin typeface="Arial"/>
                <a:ea typeface="Times New Roman"/>
              </a:rPr>
              <a:t>Sheri Wiegand (TXU) – Vice Ch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895B-CA38-4DA4-96FC-177B3A515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6"/>
          <p:cNvSpPr/>
          <p:nvPr/>
        </p:nvSpPr>
        <p:spPr>
          <a:xfrm>
            <a:off x="457200" y="1314360"/>
            <a:ext cx="8001000" cy="433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8c93"/>
                </a:solidFill>
                <a:latin typeface="Arial"/>
                <a:ea typeface="Times New Roman"/>
              </a:rPr>
              <a:t>2016 PWG Leadership Election Result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3c8c93"/>
                </a:solidFill>
                <a:latin typeface="Arial"/>
                <a:ea typeface="Times New Roman"/>
              </a:rPr>
              <a:t>Chair: Jim Lee (AEP)</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ea typeface="Times New Roman"/>
              </a:rPr>
              <a:t>Vice Chair: Sheri Wiegand (TXU)</a:t>
            </a:r>
            <a:endParaRPr b="0"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ff3300"/>
                </a:solidFill>
                <a:latin typeface="Arial"/>
                <a:ea typeface="Times New Roman"/>
              </a:rPr>
              <a:t>Thanks for your vote of suppor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0880" y="304920"/>
            <a:ext cx="652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2016 PWG Goals</a:t>
            </a:r>
            <a:endParaRPr b="0" lang="en-US" sz="2800" spc="-1" strike="noStrike">
              <a:solidFill>
                <a:srgbClr val="000000"/>
              </a:solidFill>
              <a:latin typeface="Arial"/>
            </a:endParaRPr>
          </a:p>
        </p:txBody>
      </p:sp>
      <p:sp>
        <p:nvSpPr>
          <p:cNvPr id="18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FD32-F698-4C5B-87D0-3448B39204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88" name=""/>
          <p:cNvGraphicFramePr/>
          <p:nvPr/>
        </p:nvGraphicFramePr>
        <p:xfrm>
          <a:off x="360360" y="1066680"/>
          <a:ext cx="8153280" cy="5105520"/>
        </p:xfrm>
        <a:graphic>
          <a:graphicData uri="http://schemas.openxmlformats.org/drawingml/2006/table">
            <a:tbl>
              <a:tblPr/>
              <a:tblGrid>
                <a:gridCol w="533520"/>
                <a:gridCol w="6356160"/>
                <a:gridCol w="1263600"/>
              </a:tblGrid>
              <a:tr h="6922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Goal</a:t>
                      </a:r>
                      <a:endParaRPr b="0" lang="en-US" sz="3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arget Date</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650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UFE for 2015 (Protocol Requirement)</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201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922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Calibri"/>
                        </a:rPr>
                        <a:t>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6 Profile ID Annual Validation Residential &amp; Business</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201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922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ation &amp; streamlining of data submittal to ERCOT</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201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919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RR, Section 18 - Load Profiling</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 201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794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GRR, Updates to the Load Profiling Guide</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 201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922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Calibri"/>
                        </a:rPr>
                        <a:t>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hoc items as directed by RMS and/or COPS</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201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69720" y="297000"/>
            <a:ext cx="7097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2015 Annual Validation Update</a:t>
            </a:r>
            <a:r>
              <a:rPr b="1" lang="en-US" sz="2800" spc="-1" strike="noStrike">
                <a:solidFill>
                  <a:srgbClr val="3d5f5d"/>
                </a:solidFill>
                <a:latin typeface="Arial"/>
              </a:rPr>
              <a:t>	</a:t>
            </a:r>
            <a:endParaRPr b="0" lang="en-US" sz="2800" spc="-1" strike="noStrike">
              <a:solidFill>
                <a:srgbClr val="000000"/>
              </a:solidFill>
              <a:latin typeface="Arial"/>
            </a:endParaRPr>
          </a:p>
        </p:txBody>
      </p:sp>
      <p:sp>
        <p:nvSpPr>
          <p:cNvPr id="19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9598-CF6A-4869-B13C-0DEE59698D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1" name="Picture 5" descr=""/>
          <p:cNvPicPr/>
          <p:nvPr/>
        </p:nvPicPr>
        <p:blipFill>
          <a:blip r:embed="rId1"/>
          <a:stretch/>
        </p:blipFill>
        <p:spPr>
          <a:xfrm>
            <a:off x="909720" y="1143000"/>
            <a:ext cx="7219800" cy="504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D73F-3F49-47BA-97C1-33D5064618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6"/>
          <p:cNvSpPr/>
          <p:nvPr/>
        </p:nvSpPr>
        <p:spPr>
          <a:xfrm>
            <a:off x="457200" y="1314360"/>
            <a:ext cx="8001000" cy="4680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c8c93"/>
                </a:solidFill>
                <a:latin typeface="Arial"/>
              </a:rPr>
              <a:t>ERCOT performed analysis on the current set of Zip Codes in their system, and compared it to the United States Postal Service to validate accuracy.</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c8c93"/>
                </a:solidFill>
                <a:latin typeface="Arial"/>
              </a:rPr>
              <a:t>Through this effort, ERCOT discovered variations between the two sources and is undergoing discussions with the TDSPs to determine the appropriate reconciliation efforts needed to align Zip Codes between ERCOT, USPS and the TDSP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c8c93"/>
                </a:solidFill>
                <a:latin typeface="Arial"/>
              </a:rPr>
              <a:t>Discussions will also include whether reconciliation efforts need to be a one-time effort or with a regular, on-going cadence.</a:t>
            </a:r>
            <a:endParaRPr b="0" lang="en-US" sz="2500" spc="-1" strike="noStrike">
              <a:solidFill>
                <a:srgbClr val="000000"/>
              </a:solidFill>
              <a:latin typeface="Arial"/>
            </a:endParaRPr>
          </a:p>
        </p:txBody>
      </p:sp>
      <p:sp>
        <p:nvSpPr>
          <p:cNvPr id="195" name="Rectangle 7"/>
          <p:cNvSpPr/>
          <p:nvPr/>
        </p:nvSpPr>
        <p:spPr>
          <a:xfrm>
            <a:off x="385920" y="225360"/>
            <a:ext cx="652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Zip Code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94B3-D12C-4375-B9E9-25EE0E3F97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6"/>
          <p:cNvSpPr/>
          <p:nvPr/>
        </p:nvSpPr>
        <p:spPr>
          <a:xfrm>
            <a:off x="457200" y="1314360"/>
            <a:ext cx="8001000" cy="4804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c8c93"/>
                </a:solidFill>
                <a:latin typeface="Arial"/>
              </a:rPr>
              <a:t>PWG will evaluate language to add into Protocols which will give ERCOT clear direction for reporting compliance &amp; non-compliance data submittal requirements defined in Protocol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Reporting would include requirements such as Annual Validation &amp; Weather Sensitivity Responsiveness. Other reporting will be considered as part of the broader discuss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tangle 7"/>
          <p:cNvSpPr/>
          <p:nvPr/>
        </p:nvSpPr>
        <p:spPr>
          <a:xfrm>
            <a:off x="385920" y="225360"/>
            <a:ext cx="652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Protocol Compliance Repor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6440" y="282600"/>
            <a:ext cx="6792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Remaining LPG Review Items</a:t>
            </a:r>
            <a:endParaRPr b="0" lang="en-US" sz="2800" spc="-1" strike="noStrike">
              <a:solidFill>
                <a:srgbClr val="000000"/>
              </a:solidFill>
              <a:latin typeface="Arial"/>
            </a:endParaRPr>
          </a:p>
        </p:txBody>
      </p:sp>
      <p:sp>
        <p:nvSpPr>
          <p:cNvPr id="20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9455-E780-4E3F-A6C1-838FCDC602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2" name=""/>
          <p:cNvGraphicFramePr/>
          <p:nvPr/>
        </p:nvGraphicFramePr>
        <p:xfrm>
          <a:off x="406440" y="1143000"/>
          <a:ext cx="8204040" cy="4572000"/>
        </p:xfrm>
        <a:graphic>
          <a:graphicData uri="http://schemas.openxmlformats.org/drawingml/2006/table">
            <a:tbl>
              <a:tblPr/>
              <a:tblGrid>
                <a:gridCol w="2471760"/>
                <a:gridCol w="5732280"/>
              </a:tblGrid>
              <a:tr h="1143000">
                <a:tc>
                  <a:txBody>
                    <a:bodyPr lIns="9360" rIns="9360" tIns="9360" bIns="936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ing Date:</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G Sections to Cove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143000">
                <a:tc>
                  <a:txBody>
                    <a:bodyPr lIns="9360" rIns="9360" tIns="9360" bIns="936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uary 201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9360" rIns="9360" tIns="9360" bIns="9360" anchor="ctr">
                      <a:noAutofit/>
                    </a:bodyPr>
                    <a:p>
                      <a:pPr marL="343080" indent="-343080">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 Section: 12, 13.2, 15, 16, 17, 18, 19</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43000">
                <a:tc>
                  <a:txBody>
                    <a:bodyPr lIns="9360" rIns="9360" tIns="9360" bIns="936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bruary 201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G Appendices: A, B, C, D, E</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43000">
                <a:tc>
                  <a:txBody>
                    <a:bodyPr lIns="9360" rIns="9360" tIns="9360" bIns="936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h 201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review of entire LPG edits &amp; evaluate submittal options for the NPRR + LPGR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1998-B0E6-4A33-97AD-1371DF4AC6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571680" y="1889280"/>
            <a:ext cx="8001000" cy="4243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PWG meeting date: </a:t>
            </a:r>
            <a:br>
              <a:rPr sz="1800"/>
            </a:br>
            <a:br>
              <a:rPr sz="1800"/>
            </a:br>
            <a:r>
              <a:rPr b="1" lang="en-US" sz="1800" spc="-1" strike="noStrike">
                <a:solidFill>
                  <a:srgbClr val="000000"/>
                </a:solidFill>
                <a:latin typeface="Arial"/>
              </a:rPr>
              <a:t>February 24</a:t>
            </a:r>
            <a:r>
              <a:rPr b="1" lang="en-US" sz="1800" spc="-1" strike="noStrike" baseline="30000">
                <a:solidFill>
                  <a:srgbClr val="000000"/>
                </a:solidFill>
                <a:latin typeface="Arial"/>
              </a:rPr>
              <a:t>th</a:t>
            </a:r>
            <a:r>
              <a:rPr b="1" lang="en-US" sz="1800" spc="-1" strike="noStrike">
                <a:solidFill>
                  <a:srgbClr val="000000"/>
                </a:solidFill>
                <a:latin typeface="Arial"/>
              </a:rPr>
              <a:t>, 9:30am start time  (In-person METCen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G review – Appendix A-E</a:t>
            </a:r>
            <a:br>
              <a:rPr sz="1800"/>
            </a:br>
            <a:r>
              <a:rPr b="1" lang="en-US" sz="1800" spc="-1" strike="noStrike">
                <a:solidFill>
                  <a:srgbClr val="000000"/>
                </a:solidFill>
                <a:latin typeface="Arial"/>
              </a:rPr>
              <a:t>Protocol Compliance Reporting</a:t>
            </a:r>
            <a:br>
              <a:rPr sz="1800"/>
            </a:br>
            <a:r>
              <a:rPr b="1" lang="en-US" sz="1800" spc="-1" strike="noStrike">
                <a:solidFill>
                  <a:srgbClr val="000000"/>
                </a:solidFill>
                <a:latin typeface="Arial"/>
              </a:rPr>
              <a:t>Continue Zip Code Discussions</a:t>
            </a:r>
            <a:br>
              <a:rPr sz="1800"/>
            </a:br>
            <a:r>
              <a:rPr b="1" lang="en-US" sz="1800" spc="-1" strike="noStrike">
                <a:solidFill>
                  <a:srgbClr val="000000"/>
                </a:solidFill>
                <a:latin typeface="Arial"/>
              </a:rPr>
              <a:t>Continue DG Standard Report Discuss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61"/>
          <p:cNvSpPr/>
          <p:nvPr/>
        </p:nvSpPr>
        <p:spPr>
          <a:xfrm>
            <a:off x="596880" y="2822400"/>
            <a:ext cx="8077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ercot.com/committees/board/tac/cops/pw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61E0-3203-4BC3-9E11-96FF7AA4B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11" descr=""/>
          <p:cNvPicPr/>
          <p:nvPr/>
        </p:nvPicPr>
        <p:blipFill>
          <a:blip r:embed="rId1"/>
          <a:stretch/>
        </p:blipFill>
        <p:spPr>
          <a:xfrm>
            <a:off x="2363760" y="1219320"/>
            <a:ext cx="4416480" cy="39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Jim Lee</cp:lastModifiedBy>
  <dcterms:modified xsi:type="dcterms:W3CDTF">2016-02-03T19:04:50Z</dcterms:modified>
  <cp:revision>1144</cp:revision>
  <dc:subject/>
  <dc:title>Instructions</dc:title>
</cp:coreProperties>
</file>