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CBD-4763-42B2-B8F1-A86610C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F6D-5041-4C4A-B9A5-2453D45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E2B-C924-4F51-BF99-128E3AB8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9B9-9A8D-41CB-A4CC-FCD86AA3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BB0-8CAB-45AE-A47E-FBD7049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FF3-CC4D-4C84-96FD-EB92126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D55-F0BB-4B84-87F5-0870ED1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ADB-8021-433A-B6E9-5260AA3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B0A-FBD2-41C0-B424-F3829E04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F94-B169-4231-8D5D-D43D41C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002-23F0-4057-8FB1-2705E01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167-2958-45A8-B10D-5402590C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675-738F-4DD6-B4C6-65C53DA98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336600" y="304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mber 2015 – IAG/IAL % Greater Than 1% of Enroll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271 Total IAG+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IAG+IAL % of Total Enrollments 1.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514440" y="4800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AG/IAL % Less Than 1% of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roll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1,046 Total IAG+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ail Electric Provider Cou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Arrow 20"/>
          <p:cNvSpPr/>
          <p:nvPr/>
        </p:nvSpPr>
        <p:spPr>
          <a:xfrm>
            <a:off x="533520" y="4189320"/>
            <a:ext cx="7629480" cy="45720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ining REP by total IAG+IAL count (Low to Hi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856640" y="177624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# of Enroll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hart 7" descr=""/>
          <p:cNvPicPr/>
          <p:nvPr/>
        </p:nvPicPr>
        <p:blipFill>
          <a:blip r:embed="rId1"/>
          <a:stretch/>
        </p:blipFill>
        <p:spPr>
          <a:xfrm>
            <a:off x="81000" y="1120680"/>
            <a:ext cx="8969400" cy="315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2171880" y="5475240"/>
          <a:ext cx="4787640" cy="1000080"/>
        </p:xfrm>
        <a:graphic>
          <a:graphicData uri="http://schemas.openxmlformats.org/drawingml/2006/table">
            <a:tbl>
              <a:tblPr/>
              <a:tblGrid>
                <a:gridCol w="1082520"/>
                <a:gridCol w="927000"/>
                <a:gridCol w="925560"/>
                <a:gridCol w="927000"/>
                <a:gridCol w="925560"/>
              </a:tblGrid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Enrollments Resulting in IAG/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llment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% to 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6% to .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1% to .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76% to 1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 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500 and &lt;= 2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2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lanation of IAG/IAL Slid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pper chart shows the REPs whose IAG/IAL percentage of their total enrollments is above 1%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urple shades show enrollment totals of over 250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range shades show enrollment totals of less than 250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ue shades show enrollment totals of less than 50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EPs with the lowest count of IAG/IAL totals start on the left, and move to the highest counts on the r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wer chart shows a count of REPs whose IAG/IAL percentage of their total enrollments is below 1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ue row shows counts of REPs that have less than 250 total enrollment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range row shows counts of REPs that have greater  than 250 and less than 1750 total enrollment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urple row shows counts of REPs that have greater than 2500 total enrollment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2"/>
          <p:cNvSpPr/>
          <p:nvPr/>
        </p:nvSpPr>
        <p:spPr>
          <a:xfrm>
            <a:off x="336600" y="304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mber 2015 – Rescission % Greater Than 1% of Swit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9 Total Resc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Rescission % of Total Switches 1.4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36600" y="4800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cission % Less Than 1% of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witch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49 Total Resc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ail Electric Provider Cou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8"/>
          <p:cNvSpPr/>
          <p:nvPr/>
        </p:nvSpPr>
        <p:spPr>
          <a:xfrm>
            <a:off x="457200" y="4191120"/>
            <a:ext cx="7629480" cy="45720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ining REP by total Rescission count (Low to Hi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hart 6" descr=""/>
          <p:cNvPicPr/>
          <p:nvPr/>
        </p:nvPicPr>
        <p:blipFill>
          <a:blip r:embed="rId1"/>
          <a:stretch/>
        </p:blipFill>
        <p:spPr>
          <a:xfrm>
            <a:off x="79200" y="1176480"/>
            <a:ext cx="8912520" cy="301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222640" y="5446800"/>
          <a:ext cx="4686120" cy="1000080"/>
        </p:xfrm>
        <a:graphic>
          <a:graphicData uri="http://schemas.openxmlformats.org/drawingml/2006/table">
            <a:tbl>
              <a:tblPr/>
              <a:tblGrid>
                <a:gridCol w="1085760"/>
                <a:gridCol w="900000"/>
                <a:gridCol w="900000"/>
                <a:gridCol w="900360"/>
                <a:gridCol w="90000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Switches Resulting in Resc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ch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% to 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6% to .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1% to .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76% to 1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 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250 and &lt;= 17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17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lanation of Rescission Slid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pper chart shows the REPs whose Rescission percentage of their total Switches is above 1%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urple shades show switch totals of over 175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range shades show switch totals of less than 175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ue shades show switch totals of less than 250 for the month being repo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EPs with the lowest count of rescission totals start on the left, and move to the highest counts on the r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wer chart shows a count of REPs whose Rescission percentage of their total Switches is below 1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ue row shows counts of REPs that have less than 250total switche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range row shows counts of REPs that have greater  than 250and less than 1750 total switche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urple row shows counts of REPs that have greater than 1750 total switches by their percentage r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15:49:38Z</dcterms:created>
  <dc:creator>Connel, Seth</dc:creator>
  <dc:description/>
  <dc:language>en-US</dc:language>
  <cp:lastModifiedBy>Yockey, Paul</cp:lastModifiedBy>
  <cp:lastPrinted>2015-09-30T15:37:38Z</cp:lastPrinted>
  <dcterms:modified xsi:type="dcterms:W3CDTF">2016-02-02T19:41:48Z</dcterms:modified>
  <cp:revision>59</cp:revision>
  <dc:subject/>
  <dc:title>PowerPoint Presentation</dc:title>
</cp:coreProperties>
</file>