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FE36-1EE8-4976-AB05-4CFDA60B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9C84-2504-4715-BA61-4F73E870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84B-8317-4381-8EC5-832F8EA1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1BB2-E540-445A-9F08-E8A34937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5BEB-BA5D-47FC-9362-18C6FBA2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9F7-D120-48BC-B313-2A5EE17AE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780C-1C0E-4BA0-B214-DC79328F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7F7-910F-49C3-812C-B15CCE5C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A5B0-194E-4F43-A6A8-45A33E54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6103-0A18-4689-BFCD-4493403E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A24-7F38-4098-84AC-A54B73A0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C22-43AB-4266-885E-DEC11F91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66B-99DA-4D28-B1AF-B7FB8AA1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230-60DB-49BE-9423-99EDCAEA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AF3-D933-420D-92CE-ED276CA9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D07-AED3-4E0D-AEBD-D9515A09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BDC8-8D91-4091-9580-5B2C44D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091E-03B3-4E00-9EAC-5E1DEE4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3F33-BDD6-4020-9924-3311EA70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1012-50C1-4850-AC27-6DC8FE44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70B3-327C-40A9-A5EA-D03C08E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A85E-7EFD-4CDC-B115-88D3D438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94C-3754-4894-935F-34B0DAF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8E5-76AC-4313-B353-720F3D6E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D66C-E52B-4E3F-AD70-5B5BA23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91D-D158-47CF-A339-7645E7C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868E-2B1D-43FD-B73D-248C425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AB32-2FC7-405E-8D2A-038862D6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6D4-6CBC-4F2D-8918-6DCD926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A65D-1E4A-47EC-9849-4090F3D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CD6-82B1-41DC-9249-AAA74F2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2D9-661F-47B4-BAB1-CB194BE2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134-DE15-4C53-9E7A-C45E649D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1A3D-93C8-4A7F-B98A-D8FEF41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6DE9-7575-460B-AC43-DFE89C28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6327-50C8-4868-BFB0-007B0C42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C9D2-2D25-4F70-A5D6-55EFC60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A76C-3E2E-4112-BE80-E1093C4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0D27-BDA5-485A-8907-E317AFF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C5C1-7789-4EA6-8173-0A45608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DE2-B238-4C64-A19F-F255D6BE3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7D3B-C6E9-49DA-98A1-B1508E29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59324-2A3F-445B-A563-979A63A3C4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AC589-0A7D-462F-8B90-3C5D3157B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5B5B0-FC34-4D50-98B4-757E6F40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/2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PRR742, Balancing Account Data Cu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created NPRR742 to include the prior month’s data cut in the Extract and to align the Nodal Protocols with the COPMG and the Balancing Account Extract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LA requirements for Data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view of COPMG0041, Updates to Market Notice Communication Process (Edits to COPMG Section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view of the issue addressed by NPRR746, Adjustments Due to Negative Load, to determine if there are other scenarios that need to be 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view of NPRR744, RUC Trigger for the Reliability Deployment Price Adder and Alignment with RUC Settlement, to investigate/verify data sufficiency for shadow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Process Comp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rofiling Guide (LPG)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will submit an NPRR for Protocol Section 18, Load Profiling, and an LPGRR for the Load Profiling Guide in tan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February 2016 for submittal of the NPRR/LPG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ad Forecast Distribution Factors Report Chan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ublication of once per day, at 5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cheduled to 2016, due to required Protocol languag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mplemented 1-2 months after NPRR i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working on draft NP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losure Data User Guides Review and Re-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available for review on the MISUG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rnal Web Services (EW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3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rocess to make EWS Modification a “rea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proposed project with other Subcommittees and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ments Se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ettlements Semin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nvited (WebEx avail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0, 2016, Following C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ustin, Room 206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00 PM to 3:30 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opic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Settlements: Organization, Processes and Contr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R Balancing Account Settlement: How the Calculation Works and Affects Market Participa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Credit: High-level Calculations and Proc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lement Impacts of 2016 NPRR Implement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181480" y="976320"/>
            <a:ext cx="36576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33520" y="9140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COPS Meeting and Settlements Semin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ebruary 10,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8088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: 2015 Q4 Settlement Stabilit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245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"/>
          <p:cNvSpPr/>
          <p:nvPr/>
        </p:nvSpPr>
        <p:spPr>
          <a:xfrm>
            <a:off x="1163520" y="2344680"/>
            <a:ext cx="6438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4 Update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ke H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3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) Track number of price chang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0520" y="792000"/>
          <a:ext cx="6748560" cy="1160640"/>
        </p:xfrm>
        <a:graphic>
          <a:graphicData uri="http://schemas.openxmlformats.org/drawingml/2006/table">
            <a:tbl>
              <a:tblPr/>
              <a:tblGrid>
                <a:gridCol w="1139760"/>
                <a:gridCol w="628560"/>
                <a:gridCol w="709920"/>
                <a:gridCol w="701640"/>
                <a:gridCol w="728640"/>
                <a:gridCol w="647640"/>
                <a:gridCol w="561960"/>
                <a:gridCol w="717480"/>
                <a:gridCol w="912960"/>
              </a:tblGrid>
              <a:tr h="271800">
                <a:tc gridSpan="9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5 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Settlement Point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51" name="TextBox 7"/>
          <p:cNvSpPr/>
          <p:nvPr/>
        </p:nvSpPr>
        <p:spPr>
          <a:xfrm>
            <a:off x="1401840" y="2646360"/>
            <a:ext cx="563724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ere no price changes in Q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326880" y="1612800"/>
            <a:ext cx="85122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ii) Compliance with timeliness of response to disputes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95360" y="1638360"/>
            <a:ext cx="81849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UG Upda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has evolved since its inception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encompasses all data-relate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name chang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Data Working Group (MD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lan is to continue to report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DWG Sc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rket Data Working Group (MDWG) reporting to Commercial Operations Subcommittee (COPS) provides a forum for discussion, input and comment on issues related to ERCOT market data, includ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out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a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accura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class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314280" y="4037040"/>
            <a:ext cx="45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 Final settlement OD data is not represented in grap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5183280" y="4282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verage percent chang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113440" y="4624560"/>
          <a:ext cx="3119400" cy="1636560"/>
        </p:xfrm>
        <a:graphic>
          <a:graphicData uri="http://schemas.openxmlformats.org/drawingml/2006/table">
            <a:tbl>
              <a:tblPr/>
              <a:tblGrid>
                <a:gridCol w="930240"/>
                <a:gridCol w="691920"/>
                <a:gridCol w="1497240"/>
              </a:tblGrid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 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73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62080" y="998640"/>
            <a:ext cx="86025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900000" y="5622840"/>
            <a:ext cx="741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8840" y="3583080"/>
          <a:ext cx="6904080" cy="1833480"/>
        </p:xfrm>
        <a:graphic>
          <a:graphicData uri="http://schemas.openxmlformats.org/drawingml/2006/table">
            <a:tbl>
              <a:tblPr/>
              <a:tblGrid>
                <a:gridCol w="1155600"/>
                <a:gridCol w="1202040"/>
                <a:gridCol w="974520"/>
                <a:gridCol w="1141560"/>
                <a:gridCol w="1131840"/>
                <a:gridCol w="12985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-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25600" y="981000"/>
            <a:ext cx="4822560" cy="239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5099040" y="1189080"/>
            <a:ext cx="3324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887400" y="5594400"/>
            <a:ext cx="741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085760" y="3622680"/>
          <a:ext cx="7069320" cy="1897200"/>
        </p:xfrm>
        <a:graphic>
          <a:graphicData uri="http://schemas.openxmlformats.org/drawingml/2006/table">
            <a:tbl>
              <a:tblPr/>
              <a:tblGrid>
                <a:gridCol w="1050840"/>
                <a:gridCol w="1289160"/>
                <a:gridCol w="1171800"/>
                <a:gridCol w="1170000"/>
                <a:gridCol w="1169640"/>
                <a:gridCol w="12178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-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3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3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3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33440" y="1084320"/>
            <a:ext cx="4803840" cy="2317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5176800" y="1417680"/>
            <a:ext cx="36622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236520" y="657360"/>
            <a:ext cx="8685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235080" y="658800"/>
            <a:ext cx="86738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225360" y="657360"/>
            <a:ext cx="8675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235080" y="655560"/>
            <a:ext cx="8673840" cy="53802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5715000" y="1600200"/>
            <a:ext cx="22096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data for Final settlement – Reason currently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235080" y="662040"/>
            <a:ext cx="86738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235080" y="662040"/>
            <a:ext cx="86738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g) Net Allocation to Load (Board Report)- Totals and $/MWh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3514680" y="739800"/>
            <a:ext cx="249228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ET ALLOCATION TO LOAD (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2679840" y="4091040"/>
            <a:ext cx="39448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UCTION REVENUE PER CONGESTION MANAGEMENT ZONE ($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2920" y="958680"/>
          <a:ext cx="7962840" cy="2913120"/>
        </p:xfrm>
        <a:graphic>
          <a:graphicData uri="http://schemas.openxmlformats.org/drawingml/2006/table">
            <a:tbl>
              <a:tblPr/>
              <a:tblGrid>
                <a:gridCol w="2392200"/>
                <a:gridCol w="476280"/>
                <a:gridCol w="423720"/>
                <a:gridCol w="433440"/>
                <a:gridCol w="372960"/>
                <a:gridCol w="422280"/>
                <a:gridCol w="474840"/>
                <a:gridCol w="465120"/>
                <a:gridCol w="396720"/>
                <a:gridCol w="439920"/>
                <a:gridCol w="406440"/>
                <a:gridCol w="387360"/>
                <a:gridCol w="474480"/>
                <a:gridCol w="397080"/>
              </a:tblGrid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ing Account Payout to L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Zonal Auction Distribu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 Auction Distribu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5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Start Service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ervices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 Capaci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 Neutrality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Energy Char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Point Deviation Pay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 Settlement 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Admin Fee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Load Transfe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 Charge for Excep. Fuel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$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7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al-Time Adjusted Metered Load (MWh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/MWh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1.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3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1.8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8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0" name="TextBox 5"/>
          <p:cNvSpPr/>
          <p:nvPr/>
        </p:nvSpPr>
        <p:spPr>
          <a:xfrm>
            <a:off x="2757600" y="556272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The total ERS charges have been evenly allocated across the contract perio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 The $/MWh value as calculated per PR 8.2 (2) g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2040" y="4491000"/>
          <a:ext cx="8139240" cy="789120"/>
        </p:xfrm>
        <a:graphic>
          <a:graphicData uri="http://schemas.openxmlformats.org/drawingml/2006/table">
            <a:tbl>
              <a:tblPr/>
              <a:tblGrid>
                <a:gridCol w="2455920"/>
                <a:gridCol w="466920"/>
                <a:gridCol w="441000"/>
                <a:gridCol w="451080"/>
                <a:gridCol w="379440"/>
                <a:gridCol w="423720"/>
                <a:gridCol w="503280"/>
                <a:gridCol w="466560"/>
                <a:gridCol w="397080"/>
                <a:gridCol w="450720"/>
                <a:gridCol w="424080"/>
                <a:gridCol w="396720"/>
                <a:gridCol w="485640"/>
                <a:gridCol w="397080"/>
              </a:tblGrid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 Auction Distribution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9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5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 formats, Performance/SLA, Documentation, Train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blic websi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- Dashboards, Public Re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erts and Notification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ccess, not content or guide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rket Information System (MIS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Data downloads, User interface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Web Servic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EWS) – Automated access point (AP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posed for modifi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FTP limited legacy use for Retail transaction submissions and LRS data transfers and Commercial API used by Retail Market for Fine ESIID/Find Trans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Accur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 corrections, Report enhanc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Class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, Secure, Certified, Digital certific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9/2015 – COPS approved the creation of the MDWG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3/2016 – COPS approved the MDWG Scope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6/2016 – MDWG to elect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10/2016 – COPS will confirm MDWG Leadership and vote to disband the MIS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25/2016 – COPS will ask TAC to approve a revised COPS Procedures document, removing the MISUG and adding the MDWG; Once approved ERCOT Staff will create the new MDWG landing page and the MISUG will be moved to inactive groups under the COPS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PS Chair/Vice-Chair will continue to update TAC on MDWG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ions/Concer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PS Leadership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Elect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– Michelle Trenary, Tenaska Pow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 – John Schatz, TXU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the Market Data Working Group (MDWG)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will replace (or rename) the Market Information System User Group (MIS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DWG Scope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13-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Data Working Group (MDWG) reporting to Commercial Operations Subcommittee (COPS) provides a forum for discussion, input and comment on issues related to ERCOT market data, including data output, data access, data accuracy, and data class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SWG’s Comments to NPRR72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 to Settlement Stability Reporting Requirement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20 updates and clarifies the Settlement Stability report requirements included in Protocol Section 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’s Comments clarify reporting inputs, specifically to ensure Load cuts used in $/MWh calculations are appropriate to the settlement charg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G’s Comments to LPGRR05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Extend Load Profile Model Calendar Inputs to 2030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Approved 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55 extends the Load Profile Model Calendar-related inputs in Appendix E, Profile Model Spreadsheets, from 2020 to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’s Comments include corrections to Appendix E, which are captured in the spreadsheets attached to LPGRR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Assigned Review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SWG’s Comments to NPRR74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UC Trigger for the Reliability Deployment Price Adder and Alignment with RUC Settlement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COPS by the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Comments requested PRS to table NPRR744 to allow the CSWG to investigate data sufficiency for shadow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NPRR74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djustments Due to Negative Load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PS reviewed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by the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upports NPRR746 and recommends that it continue through the stakehold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SWG will verify there are not other charge types adversely affected by negative load; CSWG will submit a new NPRR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5 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Quarter Non-Registered DG Installed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Load Zone increased by 2.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7 MW due to Competitive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 MW due to NOIE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 MW due to Capacit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43 MW due to dropped Non-Registered 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1676520"/>
          <a:ext cx="7391520" cy="2649240"/>
        </p:xfrm>
        <a:graphic>
          <a:graphicData uri="http://schemas.openxmlformats.org/drawingml/2006/table">
            <a:tbl>
              <a:tblPr/>
              <a:tblGrid>
                <a:gridCol w="1654200"/>
                <a:gridCol w="1146240"/>
                <a:gridCol w="1476360"/>
                <a:gridCol w="311472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h_Exported_Prior_12_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5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,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L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38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1,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RAYB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6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8,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,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4,8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-39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15 Q4 ERCOT Settlement Stability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Appendix A for full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 Disputes submitted in 2015: 24 Granted, 29 Denied, 0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change from previous settlement ticked up for December Finals and July True-ups due to ERCOT not receiving generation data for 2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um of statements that are a net charge to Market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Average $4.54MM (Down from 2014’s $6.46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M Average $5.76MM (Down from 2014’s $8.21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used for Initial settlement throughout 201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volumes: 200K to 400K MWh, 20% to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of ESI IDs estimated for Initial settlement:  3% to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Allocations to Load throughout 201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month, Sept - $0.28/MWh, High month, August $1.84/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month, Sept - $9MM, High month, August $67.9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</cp:lastModifiedBy>
  <cp:lastPrinted>2015-09-23T20:39:02Z</cp:lastPrinted>
  <dcterms:modified xsi:type="dcterms:W3CDTF">2016-01-21T19:11:03Z</dcterms:modified>
  <cp:revision>1477</cp:revision>
  <dc:subject/>
  <dc:title>Instructions</dc:title>
</cp:coreProperties>
</file>