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embeddings/oleObject1.pptx" ContentType="application/vnd.openxmlformats-officedocument.presentationml.presentation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7746-C6EC-4EF5-A7A7-9E4A77BA1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5DAC-9171-4CC6-845F-94DD4EE635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C2F7-CE5E-4CEB-B294-10A2426755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A255-04C6-4F81-B13A-D6A440D82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E325-BD19-4C18-A86C-5A73726784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7F68D-1E4B-460C-AE6E-9BC3189F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8744-F834-4306-9949-A1B5D6DC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91D5A3-4116-4BA8-961F-290BCA7D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D0BEB-40DE-4DE8-9D4F-3D8B3D5E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569B9D-B023-4E58-AD97-DFB43A19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068A90-50EA-4E82-9849-0BD59358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D96006-DF10-4452-88C7-42B976D1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F2280B-066F-448F-8EE7-18846767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7A7B93-AEB8-42F9-A770-16B6F469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D5858B-F85A-45CF-9744-67CB00F2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48745E-FF19-4D60-BBE1-C095C98C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6641-CB50-4EEE-B232-7CC2BF7E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498A-987C-43B0-B484-9B940DFD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AC6A-D672-4F52-A967-3BF07C06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0FC4-FE6F-4DD8-94BA-53738107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581D-185F-4FC4-9882-7497A669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26A2-6E8B-4B00-A773-63A728AA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10D9-0EAB-4C7D-BE9D-018FEB5F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25F7-1296-4201-B780-B51513A1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1D32-F366-4815-98C0-87BFD213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DC78-BCB2-48EE-AF93-B81A3FCF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2E44-D718-44DC-A4FD-09CDBFEE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6DA0-A4E8-48C8-BA92-A41CD74D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D489-6F9D-4BE4-8E93-3A5CDE37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151E-6985-4753-909E-057FD963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1D6E-D72D-4871-805A-E5532DDC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DA67-A436-4D73-9A23-03DDE1C6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1959E1-F699-49B9-A5F4-AA9A54BD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9AC53-2296-4075-AD1E-EC8D19BF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B2B02-0E2A-4A21-9531-E7C617BE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9116-F010-4145-BA82-7CA45F54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508B2-2D9F-47F4-B5AA-F03095EB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D8357-6B96-4078-94D4-11EB59D0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6DA61-D4AC-4472-A68D-55A64FB2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239C15-0B2D-489E-BB41-975EFA35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43DCB-0C79-4EBF-8071-40DFF96C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8DC07C-E8DC-455B-8A67-4CF6E281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96371-9E4F-4050-889F-2ACA158F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533C87-7EDC-4A48-B9EC-10BBD0E1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F3FEE8-B1B4-4680-B711-F3B3007B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47585-9540-4033-84C5-566CCFBE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2427-014C-4074-8531-8E43C66E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EB2B2-5808-4AD9-93F8-D3CA7F9C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288C0-0B6D-406C-872C-0F167ED2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B6B6F-8D0E-427F-B9D7-D0310BFF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7EA11-9A00-4E05-A86B-E74BF5D5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F2B172-BCD2-45A7-ADCB-91DD76FB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50D6B-56D4-4884-9BB7-B841ADA3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86CB7-3885-4495-A1B6-F3A6D1C4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497AF-B375-4C5A-AF07-23A5985B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2B206-3B6C-4415-B693-57ED42EA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0AE073-29B3-4CF7-89A7-40248840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BC97-FB70-4BB4-AC06-E1FC98F3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A66D9-B2A2-4E67-8171-D89B9CA6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17B5E-D3B6-4799-88FE-3A7DB5F0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282987-12CE-43C0-B91A-9913C785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3720C-B912-4AC7-B4F4-3CA49B9A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FA45F-9376-4BCB-A466-06910D75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DEBBB0-4D2A-4635-8020-9FE7829B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2C2C9-556F-4EDF-B8CB-5F513BD3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528C9F-F1A3-4937-B763-398E46A8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4FAE83-86AE-4FB3-9A71-2832FC16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19082-9B4A-4314-970A-4627E47E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0E70-55FA-4E86-9E6A-CBE235DE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87826-6B46-478F-B897-A2663803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44F9AB-D959-4410-9E8C-B707D9F6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437BE6-13CA-4B97-88AD-5E59C494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E51F6-87AE-4FC2-996E-A58EFC8A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E5FCA-283C-4195-B23F-AF615695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E7D31-8403-4161-8089-C4E79EB7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E1392-5CAA-4217-BFA3-445D2E0B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380F3-DB97-41BA-891B-F6FDB42E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A5AE1-8C49-4D8D-98D4-8E916799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09068B-6634-47C2-9299-2B1694C5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E1F9-FADA-4F5C-99A0-38619164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0B6E7-E1C8-42EA-8067-568D573D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74D52-CECA-4E20-8608-D36685C4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BECAD3-F2F4-468F-AED9-46338A07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12AC35-9030-418E-9201-E531DAF3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31DB57-8CC7-4C99-BA26-78207D29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8C34AC-3A5E-457C-AAC3-7ECD4BA5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C7AC37-7B0E-4FDC-AFD4-0332AF9E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8D768D-ADF4-4268-BEFE-12BD5E4B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539788-B79F-46F2-BA8B-C7C5DD59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2EACAD-F3CB-476D-9748-B4C3867C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5DB6-4129-4991-9A88-E68279C4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EBBE04-6AB6-47AC-B66A-93F9E2EC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8A407C-6391-4D6D-8B63-3DF01AC5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4B2858-88A7-411B-91CF-4E43AC64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AAACC3-303E-405D-A359-949F896A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77A763-F44B-4E34-AB87-552F129D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0446EE-6B97-4119-B151-453BCE0D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B924F6-5874-46A7-A5FE-048E6F19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B6C164-1359-4AF5-99F4-691BE77D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BE39EB-8963-4641-8CE5-D99F014A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96F615-B602-4347-AAEC-177E2B03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02F2-065D-44AD-8262-C3E502D5B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3280-3F5B-4EBA-93E8-201F85A21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8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D883-941D-4D9E-A18B-25E113E2CB5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uary 3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0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48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293F-2EE1-4226-BE16-7B81997967E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96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A39D-897D-4D42-A209-007D8FA50DB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3BA6-CF09-4602-9F8F-EDF10502698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EFCB-D821-45B7-8007-36C447E9799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776C-0570-4A26-8435-D1B2F34A211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66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117C-F52B-45A9-9694-2299981E837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rcot.com/content/wcm/key_documents_lists/76817/13._RMS_Update_to_TAC_01_28_16.ppt" TargetMode="External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rcot.com/content/wcm/key_documents_lists/76817/10._WMS_Update_to_TAC_012816.ppt" TargetMode="External"/><Relationship Id="rId2" Type="http://schemas.openxmlformats.org/officeDocument/2006/relationships/hyperlink" Target="http://www.ercot.com/content/wcm/key_documents_lists/76817/10._SAWG_ORDC_Discussion__Analysis__and_Positions_1_11_16.pdf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rcot.com/content/wcm/key_documents_lists/76817/11._ROS_Report.zip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rcot.com/content/wcm/key_documents_lists/76817/12._COPS_UPDATE_TO_TAC_012816.ppt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January 28, 2016 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Technical Advisory Committee (TAC) Update to RMS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361960" y="32000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3581280" y="6400800"/>
            <a:ext cx="2210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ebruary 2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D0ED-0175-4888-8BDF-E7CDC200D42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914400" y="6858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tail Market Subcommittee (RMS) Updat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ercot.com/content/wcm/key_documents_lists/76817/13._RMS_Update_to_TAC_01_28_16.pp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ww.ercot.com/content/wcm/key_documents_lists/76817/13._2015_RMS_Goals___TAC_Approved_20150326_End_of_Year__Report_Card_12_31_15.doc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February 2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5405-2CDD-406D-8D15-398AC7000C5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tle 1"/>
          <p:cNvSpPr/>
          <p:nvPr/>
        </p:nvSpPr>
        <p:spPr>
          <a:xfrm>
            <a:off x="1143000" y="-25704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Arial"/>
              </a:rPr>
              <a:t>RMS Initiatives and Votes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1"/>
          <p:cNvGraphicFramePr/>
          <p:nvPr/>
        </p:nvGraphicFramePr>
        <p:xfrm>
          <a:off x="4076640" y="2362320"/>
          <a:ext cx="1067040" cy="900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6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76640" y="2362320"/>
                    <a:ext cx="10670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2"/>
          <p:cNvGraphicFramePr/>
          <p:nvPr/>
        </p:nvGraphicFramePr>
        <p:xfrm>
          <a:off x="4178160" y="4724280"/>
          <a:ext cx="990720" cy="836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7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78160" y="4724280"/>
                    <a:ext cx="990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DREAM Taskforce Update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95256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Distributed Resource Energy and Ancillaries Market Taskforce (DREAM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ww.ercot.com/content/wcm/key_documents_lists/76817/14._TAC_Dream_Report_Draft___2016_01_22_DREAMTF.docx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bruary DREAM TF will come back to TAC with their completed report.  TAC’s plan will be to conduct a half day workshop to discuss Dream’s recommendations on February 2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ith TAC voting on those consensus items on February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C membership thought it would be helpful to have the half-day workshop prior to voting for those that haven’t been involved in the prior DREAM Taskforce meetings and/or market discussions.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February 2, 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9CE0-A570-4A17-8835-83A58A539FE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Ancillary Services Re-design Update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907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S (NPRR 667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ww.ercot.com/content/wcm/key_documents_lists/76817/15._High_Level_Schedule_for_NPRR_667_as_of_1_21_16_1347.docx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imeline proposed with TAC’s revision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ebruary 1, 201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 NPRR667 workshop to review Stakeholders’ comment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ebruary 11, 2016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 PRS meeting with possible vote on NPRR667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arch or April TAC Meet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  TAC meeting with possible vote on NPRR66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sequent Board Meeting:  Board of Directors meeting June 14 or August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pending upon when TAC takes up NPRR66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February 2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B49A-865C-4C2D-BE97-2C2A571C5995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Other Busines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990720" y="76212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ppeal Process Discus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d Seely (ERCOT Legal) updated TAC concerning Appeal of NPRR649 has been noticed to the market by ERCOT and this Appeal has been scheduled for the ERCOT Board on February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any commenters planned to speak at the Board concerning this Appeal, Chad Seely (ERCOT) needed to know this information by close of business Monday, February 1, 2016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rket Continuity Plan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lackstart discussions,  ERCOT is ready to start developing during and post procedures to be invoked during a Blackstart event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C directs the creation of a Taskforce/Workshop because this affects all aspects of the market.   TAC agreed to plan for a Workshop in March and/or April with ERCOT leading the effort to get Workshop(s) kicked-off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February 2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1620-7496-4708-AA4F-44210B6EB34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Other Busines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90720" y="68580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rket Continuity Planning (cont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ome questions?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31040" indent="-16272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happens if systems are down for 3 days or more days– what do we do as a market?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31040" indent="-16272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w long should or will we go before cash flow becomes an issue?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31040" indent="-16272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is the plan during event/steps to be taken by whom, when and clean-up post event?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31040" indent="-16272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happens when transactions and market processes unavailable for multiple days?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31040" indent="-16272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ended Emergency Period and how do we function during the emergency period?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r ERCOT “Better to be prepared for the what if scenario than to wait until it occurs. “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tion Item:  Per Kenan (ERCOT), ERCOT will frame and place some structure around the issue in preparation for workshop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February 2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C580-6778-4628-8B9B-B67F40F9F65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2016 Goals and Strategic Initiatives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93" name="Content Placeholder 2" descr=""/>
          <p:cNvPicPr/>
          <p:nvPr/>
        </p:nvPicPr>
        <p:blipFill>
          <a:blip r:embed="rId1"/>
          <a:stretch/>
        </p:blipFill>
        <p:spPr>
          <a:xfrm>
            <a:off x="993600" y="731880"/>
            <a:ext cx="8180640" cy="5443560"/>
          </a:xfrm>
          <a:prstGeom prst="rect">
            <a:avLst/>
          </a:prstGeom>
          <a:ln w="0">
            <a:noFill/>
          </a:ln>
        </p:spPr>
      </p:pic>
      <p:sp>
        <p:nvSpPr>
          <p:cNvPr id="49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February 2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7BF0-A145-4866-9923-76042A605BE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F671-5EDE-4540-A5F2-456C12EA0B5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February 2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Content Placeholder 4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7053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cember 2015 Board Update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9072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n December 8, 2015 ERCOT Board Approved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PRR641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Season Definition Change for Switchable Resources Reporting Unavailable Capacit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PRR702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Flexible Accounts, Payment of Invoices, and Disposition of Interest on Cash Collater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PRR705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Provides Consistency for References to the End Date of the Generation Interconnection Proces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PRR708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Clarifying ERCOT Actions During Energy Emergency Aler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PRR712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Clarification of RUC Proces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PRR715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Clarification of Generator Modeling in the Market System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PRR716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Corrections to Aggregated Load and Participant Specific Generation Data Requiremen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PRR719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Removal of Trigger and Requirement to Reduce the Distributed Generation (DG) Registration Threshol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PRR725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Modifications to CDR PUN Capacity Forecasting and PUN Net Capacity Reporting Requiremen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PRR726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Daily Network Operations Model PSS/E File Posting Modificatio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February 2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9BAB-1573-46DE-8485-83E85DAA09E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cember 2015 Board Update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9072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n December 8, 2015 ERCOT Board Approved 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PRR727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Removal of Language Related to NPRR327, State Estimator Data Redaction Methodolog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PRR728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Removal of Language Related to NPRR484, Revisions to Congestion Revenue Rights Credit Calculations and Payments, and NPRR554, Clarification of Future Credit Exposure Calculatio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PRR729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Clarification of Metering Requirements for Resourc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PRR730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Elimination of the RUC Behavioral Pricing Ru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PRR731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Changes to Annual Reporting Requirements for RUC Decommitment Payment Amoun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PRR732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Adjustments to Verifiable Costs for Required Resubmissions and Clarification of RUC Forced Outage and Cancellation Procedur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PGRR045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Alignment with NPRR705, Provides Consistency for References to the End Date of the Generation Interconnection Proces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RRGRR007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Adding Solar Resource Registration Inpu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Gill Sans MT"/>
              </a:rPr>
              <a:t>SCR786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US" sz="1600" spc="-1" strike="noStrike">
                <a:solidFill>
                  <a:srgbClr val="c00000"/>
                </a:solidFill>
                <a:latin typeface="Gill Sans MT"/>
              </a:rPr>
              <a:t>Retail Market Test Environm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Panhandle Regional Planning Group Projec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2016 Methodology for Determining Minimum Ancillary Service Requiremen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February 2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1A79-CCC9-40D3-9F9D-71AF5CA6174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016 Leadership Voting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9072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echnical Advisory Committee 2016 TAC Leadership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Chair:   </a:t>
            </a:r>
            <a:r>
              <a:rPr b="1" lang="en-US" sz="1600" spc="-1" strike="noStrike">
                <a:solidFill>
                  <a:srgbClr val="c00000"/>
                </a:solidFill>
                <a:latin typeface="Gill Sans MT"/>
              </a:rPr>
              <a:t>	</a:t>
            </a:r>
            <a:r>
              <a:rPr b="1" lang="en-US" sz="1600" spc="-1" strike="noStrike">
                <a:solidFill>
                  <a:srgbClr val="c00000"/>
                </a:solidFill>
                <a:latin typeface="Gill Sans MT"/>
              </a:rPr>
              <a:t>	</a:t>
            </a:r>
            <a:r>
              <a:rPr b="1" lang="en-US" sz="1600" spc="-1" strike="noStrike">
                <a:solidFill>
                  <a:srgbClr val="c00000"/>
                </a:solidFill>
                <a:latin typeface="Gill Sans MT"/>
              </a:rPr>
              <a:t>Randa Stephenson 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LCRA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Vice Chair: </a:t>
            </a:r>
            <a:r>
              <a:rPr b="1" lang="en-US" sz="1600" spc="-1" strike="noStrike">
                <a:solidFill>
                  <a:srgbClr val="c00000"/>
                </a:solidFill>
                <a:latin typeface="Gill Sans MT"/>
              </a:rPr>
              <a:t>	</a:t>
            </a:r>
            <a:r>
              <a:rPr b="1" lang="en-US" sz="1600" spc="-1" strike="noStrike">
                <a:solidFill>
                  <a:srgbClr val="c00000"/>
                </a:solidFill>
                <a:latin typeface="Gill Sans MT"/>
              </a:rPr>
              <a:t>Adrianne Brandt   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 CP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Announcement:      </a:t>
            </a:r>
            <a:r>
              <a:rPr b="1" lang="en-US" sz="1600" spc="-1" strike="noStrike">
                <a:solidFill>
                  <a:srgbClr val="c00000"/>
                </a:solidFill>
                <a:latin typeface="Gill Sans MT"/>
              </a:rPr>
              <a:t>Kenan Olgeman      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TAC’s ERCOT CEO Designee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ubcommittee Leadership Unanimously Confirmed by TAC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Commercial Operations Subcommittee (COP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Chair: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400" spc="-1" strike="noStrike">
                <a:solidFill>
                  <a:srgbClr val="c00000"/>
                </a:solidFill>
                <a:latin typeface="Gill Sans MT"/>
              </a:rPr>
              <a:t>Michelle Trenary</a:t>
            </a: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Tenaska Power Servic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Vice Chai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400" spc="-1" strike="noStrike">
                <a:solidFill>
                  <a:srgbClr val="c00000"/>
                </a:solidFill>
                <a:latin typeface="Gill Sans MT"/>
              </a:rPr>
              <a:t>John Schatz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, TXU Energ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Protocol Revision Subcommittee (PR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Chair: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400" spc="-1" strike="noStrike">
                <a:solidFill>
                  <a:srgbClr val="c00000"/>
                </a:solidFill>
                <a:latin typeface="Gill Sans MT"/>
              </a:rPr>
              <a:t>Amanda Frazie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, Luminan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Vice Chai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400" spc="-1" strike="noStrike">
                <a:solidFill>
                  <a:srgbClr val="c00000"/>
                </a:solidFill>
                <a:latin typeface="Gill Sans MT"/>
              </a:rPr>
              <a:t>Chris Lyons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, Exelon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Reliability and Operations Subcommittee (RO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Chair: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400" spc="-1" strike="noStrike">
                <a:solidFill>
                  <a:srgbClr val="c00000"/>
                </a:solidFill>
                <a:latin typeface="Gill Sans MT"/>
              </a:rPr>
              <a:t>Alan Bern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, Oncor Electric Deliver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Vice Chai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400" spc="-1" strike="noStrike">
                <a:solidFill>
                  <a:srgbClr val="c00000"/>
                </a:solidFill>
                <a:latin typeface="Gill Sans MT"/>
              </a:rPr>
              <a:t>Boone Staples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, Tenaska Power Servic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Wholesale Market Subcommittee (WM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Chair: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400" spc="-1" strike="noStrike">
                <a:solidFill>
                  <a:srgbClr val="c00000"/>
                </a:solidFill>
                <a:latin typeface="Gill Sans MT"/>
              </a:rPr>
              <a:t>Jeremy Carpente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, Tenaska Power Servic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Vice Chai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400" spc="-1" strike="noStrike">
                <a:solidFill>
                  <a:srgbClr val="c00000"/>
                </a:solidFill>
                <a:latin typeface="Gill Sans MT"/>
              </a:rPr>
              <a:t>David Kee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, CPS Energ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February 2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6C9E-1EFC-476A-B429-E518C8DADB8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S Initiatives and Vo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914400" y="609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odal Protocol Revision Requests (NPRRs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PRR691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Alignment of Protocols with NERC Reliability Standard,  BAL-001-TRE-1 –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Approve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PRR713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Reactive Power Testing Requirements -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Approve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PRR72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Update to Settlement Stability Reporting Requirements -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Approve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PRR734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Digital Attestation Signature Authority Expansion -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Approve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PRR739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Prohibiting Load Resources in Participating as Dynamically Scheduled Resources -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Approve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NPRR74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Retail Clarification and Cleanup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Approve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PRR742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CRR Balancing Account Invoice Data Cuts -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Approve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PRR743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Revision to MCE to Have a Floor For Load Exposure -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Approve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  Amanda Frazer announced that NPRR667 will be on the PRS agenda for the February 1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meeting.   This NPRR will be at the end of the agenda following the scheduled voting items to allow as much time as possible for Market Participant’s discussions.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February 2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92DA-1C96-43BC-B8A4-92C60DAFF24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Tabled and/or Withdrawn Revis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38080" y="6858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vision Request Previously Tabled: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LPGRR055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Extend Load Profile Model Calendar Inputs to 2030 –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s Load Profiling Revision Request (LPGRR) extends the Load Profile Model calendar-related inputs in Appendix E, Profile Model Spreadsheets, from 2020 to 2030. The calendar inputs include calendar variables, daylight savings variables, sunrise/sunset times and holiday variables. Corresponding changes to calendar-related inputs will be made to the Load Profile Models in MetrixID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01/28/TAC Vot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 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Motion to Approve with the Profile Working Group’s comments was Unanimous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February 2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E57E-782E-46C1-AD96-331156CEFDE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914400" y="6858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holesale Market Subcommittee (WM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ercot.com/content/wcm/key_documents_lists/76817/10._WMS_Update_to_TAC_012816.pp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sponse to PUCT Memo regarding ORDC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Possible Vot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www.ercot.com/content/wcm/key_documents_lists/76817/10._SAWG_ORDC_Discussion__Analysis__and_Positions_1_11_16.pdf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TAC Unanimously Endorsed the SAWG ORDC Discussion, Analysis and Positions document without prejudice to any specific option and requested that ERCOT file this ORDC Response to the Commission.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February 2, 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0C07-02B0-4728-A11D-3FCB3F120D6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itle 1"/>
          <p:cNvSpPr/>
          <p:nvPr/>
        </p:nvSpPr>
        <p:spPr>
          <a:xfrm>
            <a:off x="9907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Arial"/>
              </a:rPr>
              <a:t>WMS Initiatives and Votes: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914400" y="6858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liability Operations Subcommittee (RO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ercot.com/content/wcm/key_documents_lists/76817/11._ROS_Report.zip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OGRR143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lignment of Nodal Operating Guides with NERC Reliability Standard, BAL-001-TRE-1 (Vo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mmendation to Table to allow NOGRR143 to sync-up with NPRR691 once taken up by the Board on February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Motion to Table was Unanimou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OGRR147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Reactive Power Testing Requirements (Vo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dgetary cost to implement this NOGRR needed to be approved at the February Board to sync with the associated NPRR. 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Motion to Approve as recommended by ROS  was Unanimou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February 2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446A-FA9C-4EC8-8EBA-245694A712C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itle 1"/>
          <p:cNvSpPr/>
          <p:nvPr/>
        </p:nvSpPr>
        <p:spPr>
          <a:xfrm>
            <a:off x="9907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Arial"/>
              </a:rPr>
              <a:t>ROS Initiatives and Votes: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914400" y="6858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ommercial Operations Subcommittee (COP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ercot.com/content/wcm/key_documents_lists/76817/12._COPS_UPDATE_TO_TAC_012816.pp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rket Data Working Group (MDWG) Up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ISUG Upd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ISUG has evolved since its inception in 201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ISUG encompasses all data-related issu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ame Change: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ket Data Working Group (MDWG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urrent plan is to continue to report to COP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C requested that COPS revisit MDWG Scope since “Data” could be misunderstood to include  “All” data in the market including SMT and/or AMS Meter Data, which wasn’t the intent or the scope of MDWG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February 2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0ED6-65E2-468F-BADD-CC54872343E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itle 1"/>
          <p:cNvSpPr/>
          <p:nvPr/>
        </p:nvSpPr>
        <p:spPr>
          <a:xfrm>
            <a:off x="9907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Arial"/>
              </a:rPr>
              <a:t>COPS Initiatives and Votes: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Kathy Scott </cp:lastModifiedBy>
  <dcterms:modified xsi:type="dcterms:W3CDTF">2016-01-29T20:16:06Z</dcterms:modified>
  <cp:revision>975</cp:revision>
  <dc:subject/>
  <dc:title>Instructions</dc:title>
</cp:coreProperties>
</file>